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839325" cy="7396163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88545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1760" y="3971160"/>
            <a:ext cx="88545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1760" y="397116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28840" y="397116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5520" y="173052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79280" y="173052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1760" y="397116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85520" y="397116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79280" y="397116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91760" y="1730520"/>
            <a:ext cx="88545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88545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91760" y="294840"/>
            <a:ext cx="885456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91760" y="397116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28840" y="397116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1760" y="3971160"/>
            <a:ext cx="88545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1760" y="1730520"/>
            <a:ext cx="88545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 txBox="1"/>
          <p:nvPr/>
        </p:nvSpPr>
        <p:spPr>
          <a:xfrm>
            <a:off x="4162320" y="252360"/>
            <a:ext cx="1200240" cy="692280"/>
          </a:xfrm>
          <a:prstGeom prst="rect">
            <a:avLst/>
          </a:prstGeom>
          <a:noFill/>
          <a:ln w="12600">
            <a:solidFill>
              <a:srgbClr val="8901f3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vantGarde"/>
                <a:ea typeface="AvantGarde"/>
              </a:rPr>
              <a:t>Fe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343080" y="38160"/>
            <a:ext cx="1219320" cy="6858000"/>
          </a:xfrm>
          <a:prstGeom prst="rect">
            <a:avLst/>
          </a:prstGeom>
          <a:solidFill>
            <a:srgbClr val="618ffd"/>
          </a:solidFill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647640" y="1181160"/>
            <a:ext cx="8610480" cy="62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Berkeley"/>
                <a:ea typeface="Berkeley"/>
              </a:rPr>
              <a:t>I must not fear.  Fear is the mindkiller.  Fear is the little-death that brings total obliteration.  I will face my fear.  I will permit it to pass over me and through m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Berkeley"/>
                <a:ea typeface="Berkeley"/>
              </a:rPr>
              <a:t>And when it has gone past, I will turn the inner eye to see its path.  Where the fear has gone there will be nothing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Berkeley"/>
                <a:ea typeface="Berkeley"/>
              </a:rPr>
              <a:t>Only I will rema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860640" y="800280"/>
            <a:ext cx="210996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st p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