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2.png" ContentType="image/png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6DA4DA-2A3C-4387-8C23-A9E832F60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was created specifically to be an on-screen presentation. To begin:·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oos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lid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how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from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l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 Automatic (with 5-second delays)      or Manual to advance with mouse cli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on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o start the sh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This presentation was created specifically to be an on-screen presentation. To begin:·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Choose </a:t>
            </a:r>
            <a:r>
              <a:rPr b="1" i="1" lang="en-US" sz="1800" spc="-1" strike="noStrike" u="sng">
                <a:solidFill>
                  <a:srgbClr val="e2cbcb"/>
                </a:solidFill>
                <a:uFillTx/>
                <a:latin typeface="Arial"/>
                <a:ea typeface="Arial"/>
              </a:rPr>
              <a:t>Slide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 u="sng">
                <a:solidFill>
                  <a:srgbClr val="e2cbcb"/>
                </a:solidFill>
                <a:uFillTx/>
                <a:latin typeface="Arial"/>
                <a:ea typeface="Arial"/>
              </a:rPr>
              <a:t>Show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  from the </a:t>
            </a:r>
            <a:r>
              <a:rPr b="1" i="1" lang="en-US" sz="1800" spc="-1" strike="noStrike" u="sng">
                <a:solidFill>
                  <a:srgbClr val="e2cbcb"/>
                </a:solidFill>
                <a:uFillTx/>
                <a:latin typeface="Arial"/>
                <a:ea typeface="Arial"/>
              </a:rPr>
              <a:t>File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·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Select  Automatic (with 5-second delays)      or Manual to advance with mouse cli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·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Click on </a:t>
            </a:r>
            <a:r>
              <a:rPr b="1" i="1" lang="en-US" sz="1800" spc="-1" strike="noStrike" u="sng">
                <a:solidFill>
                  <a:srgbClr val="e2cbcb"/>
                </a:solidFill>
                <a:uFillTx/>
                <a:latin typeface="Arial"/>
                <a:ea typeface="Arial"/>
              </a:rPr>
              <a:t>OK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 to start the sh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66960" y="1476360"/>
            <a:ext cx="6091200" cy="443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4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2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image" Target="../media/image16.wmf"/><Relationship Id="rId5" Type="http://schemas.openxmlformats.org/officeDocument/2006/relationships/image" Target="../media/image19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image" Target="../media/image16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image" Target="../media/image16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7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8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34.png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16.wmf"/><Relationship Id="rId7" Type="http://schemas.openxmlformats.org/officeDocument/2006/relationships/image" Target="../media/image18.png"/><Relationship Id="rId8" Type="http://schemas.openxmlformats.org/officeDocument/2006/relationships/image" Target="../media/image16.wmf"/><Relationship Id="rId9" Type="http://schemas.openxmlformats.org/officeDocument/2006/relationships/image" Target="../media/image39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1.wmf"/><Relationship Id="rId5" Type="http://schemas.openxmlformats.org/officeDocument/2006/relationships/image" Target="../media/image41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1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8.wmf"/><Relationship Id="rId3" Type="http://schemas.openxmlformats.org/officeDocument/2006/relationships/image" Target="../media/image48.wmf"/><Relationship Id="rId4" Type="http://schemas.openxmlformats.org/officeDocument/2006/relationships/image" Target="../media/image48.wmf"/><Relationship Id="rId5" Type="http://schemas.openxmlformats.org/officeDocument/2006/relationships/image" Target="../media/image48.wmf"/><Relationship Id="rId6" Type="http://schemas.openxmlformats.org/officeDocument/2006/relationships/image" Target="../media/image48.wmf"/><Relationship Id="rId7" Type="http://schemas.openxmlformats.org/officeDocument/2006/relationships/image" Target="../media/image48.wmf"/><Relationship Id="rId8" Type="http://schemas.openxmlformats.org/officeDocument/2006/relationships/image" Target="../media/image48.wmf"/><Relationship Id="rId9" Type="http://schemas.openxmlformats.org/officeDocument/2006/relationships/image" Target="../media/image48.wmf"/><Relationship Id="rId10" Type="http://schemas.openxmlformats.org/officeDocument/2006/relationships/image" Target="../media/image48.wmf"/><Relationship Id="rId11" Type="http://schemas.openxmlformats.org/officeDocument/2006/relationships/image" Target="../media/image48.wmf"/><Relationship Id="rId12" Type="http://schemas.openxmlformats.org/officeDocument/2006/relationships/image" Target="../media/image48.wmf"/><Relationship Id="rId13" Type="http://schemas.openxmlformats.org/officeDocument/2006/relationships/image" Target="../media/image48.wmf"/><Relationship Id="rId14" Type="http://schemas.openxmlformats.org/officeDocument/2006/relationships/image" Target="../media/image48.wmf"/><Relationship Id="rId15" Type="http://schemas.openxmlformats.org/officeDocument/2006/relationships/image" Target="../media/image48.wmf"/><Relationship Id="rId16" Type="http://schemas.openxmlformats.org/officeDocument/2006/relationships/image" Target="../media/image48.wmf"/><Relationship Id="rId17" Type="http://schemas.openxmlformats.org/officeDocument/2006/relationships/image" Target="../media/image48.wmf"/><Relationship Id="rId18" Type="http://schemas.openxmlformats.org/officeDocument/2006/relationships/image" Target="../media/image48.wmf"/><Relationship Id="rId19" Type="http://schemas.openxmlformats.org/officeDocument/2006/relationships/image" Target="../media/image49.wmf"/><Relationship Id="rId20" Type="http://schemas.openxmlformats.org/officeDocument/2006/relationships/image" Target="../media/image49.wmf"/><Relationship Id="rId21" Type="http://schemas.openxmlformats.org/officeDocument/2006/relationships/image" Target="../media/image49.wmf"/><Relationship Id="rId22" Type="http://schemas.openxmlformats.org/officeDocument/2006/relationships/image" Target="../media/image50.wmf"/><Relationship Id="rId23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652840" y="4038480"/>
            <a:ext cx="4238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Times New Roman"/>
                <a:ea typeface="Times New Roman"/>
              </a:rPr>
              <a:t>Desktop Presentation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624040" y="4046400"/>
            <a:ext cx="4238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Presentation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320920" y="1476360"/>
            <a:ext cx="5584680" cy="2476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581200" y="2560680"/>
            <a:ext cx="5038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250015"/>
                </a:solidFill>
                <a:latin typeface="Times New Roman"/>
                <a:ea typeface="Times New Roman"/>
              </a:rPr>
              <a:t>Microsoft PowerPoint </a:t>
            </a:r>
            <a:r>
              <a:rPr b="1" i="1" lang="en-US" sz="1200" spc="-1" strike="noStrike">
                <a:solidFill>
                  <a:srgbClr val="250015"/>
                </a:solidFill>
                <a:latin typeface="Arial"/>
                <a:ea typeface="Arial"/>
              </a:rPr>
              <a:t>®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Times New Roman"/>
                <a:ea typeface="Times New Roman"/>
              </a:rPr>
              <a:t>for </a:t>
            </a:r>
            <a:r>
              <a:rPr b="1" i="1" lang="en-US" sz="3600" spc="-1" strike="noStrike">
                <a:solidFill>
                  <a:srgbClr val="250015"/>
                </a:solidFill>
                <a:latin typeface="Times New Roman"/>
                <a:ea typeface="Times New Roman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62120" y="2529000"/>
            <a:ext cx="5038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®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895400" y="4670280"/>
            <a:ext cx="5283360" cy="1241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699080" y="4956120"/>
            <a:ext cx="1905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562120" y="5334120"/>
            <a:ext cx="45435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olor overhead transpa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46280" y="5315040"/>
            <a:ext cx="45435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olor overhead transpa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558880" y="2019240"/>
            <a:ext cx="1295280" cy="99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419720" y="2019240"/>
            <a:ext cx="122868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52920" y="2133720"/>
            <a:ext cx="961920" cy="685800"/>
          </a:xfrm>
          <a:prstGeom prst="roundRect">
            <a:avLst/>
          </a:prstGeom>
          <a:solidFill>
            <a:srgbClr val="250015"/>
          </a:solidFill>
          <a:ln w="12600">
            <a:solidFill>
              <a:srgbClr val="6949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38600" y="2193840"/>
            <a:ext cx="876240" cy="625320"/>
          </a:xfrm>
          <a:prstGeom prst="roundRect">
            <a:avLst/>
          </a:prstGeom>
          <a:solidFill>
            <a:srgbClr val="dc00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43360" y="2562120"/>
            <a:ext cx="66600" cy="2570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67200" y="2486160"/>
            <a:ext cx="57240" cy="3333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91040" y="2514600"/>
            <a:ext cx="57240" cy="30492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14880" y="2638440"/>
            <a:ext cx="57240" cy="18108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29360" y="2695680"/>
            <a:ext cx="66600" cy="1238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43480" y="2752560"/>
            <a:ext cx="57240" cy="6660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71492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250015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67400" y="249552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91240" y="24192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15080" y="244800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38560" y="257184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53040" y="262908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67160" y="26859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00720" y="26859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29240" y="27716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38600" y="220968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33800" y="306072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50015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905360" y="302904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eff6e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438360" y="5334120"/>
            <a:ext cx="2981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olor 35mm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419640" y="5324400"/>
            <a:ext cx="2981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olor 35mm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558880" y="2019240"/>
            <a:ext cx="1295280" cy="993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419720" y="2019240"/>
            <a:ext cx="122868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52920" y="2133720"/>
            <a:ext cx="961920" cy="685800"/>
          </a:xfrm>
          <a:prstGeom prst="roundRect">
            <a:avLst/>
          </a:prstGeom>
          <a:solidFill>
            <a:srgbClr val="250015"/>
          </a:solidFill>
          <a:ln w="12600">
            <a:solidFill>
              <a:srgbClr val="6949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38600" y="2193840"/>
            <a:ext cx="876240" cy="625320"/>
          </a:xfrm>
          <a:prstGeom prst="roundRect">
            <a:avLst/>
          </a:prstGeom>
          <a:solidFill>
            <a:srgbClr val="dc00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43360" y="2562120"/>
            <a:ext cx="66600" cy="2570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67200" y="2486160"/>
            <a:ext cx="57240" cy="3333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91040" y="2514600"/>
            <a:ext cx="57240" cy="30492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14880" y="2638440"/>
            <a:ext cx="57240" cy="18108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29360" y="2695680"/>
            <a:ext cx="66600" cy="1238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43480" y="2752560"/>
            <a:ext cx="57240" cy="6660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71492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250015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67400" y="249552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91240" y="24192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15080" y="244800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38560" y="257184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53040" y="262908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67160" y="26859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00720" y="26859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29240" y="27716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38600" y="220968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62840" y="1943280"/>
            <a:ext cx="1219320" cy="1219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05560" y="20667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96200" y="205740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91200" y="20667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81840" y="205740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50556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9620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9120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184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1972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1036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7704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6768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1972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1036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7704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26768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350040" y="229860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330960" y="2273400"/>
            <a:ext cx="885960" cy="5619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81720" y="252396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05560" y="24480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247644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53240" y="260028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67360" y="265752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81840" y="27147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15040" y="27147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43560" y="28004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37236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676920" y="327960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50015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648480" y="324792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eff6e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519960" y="2901960"/>
            <a:ext cx="530280" cy="1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143160" y="5315040"/>
            <a:ext cx="355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On-screen slide sh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133800" y="5295960"/>
            <a:ext cx="355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On-screen slide sh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558880" y="2019240"/>
            <a:ext cx="1295280" cy="993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419720" y="2019240"/>
            <a:ext cx="122868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52920" y="2133720"/>
            <a:ext cx="961920" cy="685800"/>
          </a:xfrm>
          <a:prstGeom prst="roundRect">
            <a:avLst/>
          </a:prstGeom>
          <a:solidFill>
            <a:srgbClr val="250015"/>
          </a:solidFill>
          <a:ln w="12600">
            <a:solidFill>
              <a:srgbClr val="6949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38600" y="2193840"/>
            <a:ext cx="876240" cy="625320"/>
          </a:xfrm>
          <a:prstGeom prst="roundRect">
            <a:avLst/>
          </a:prstGeom>
          <a:solidFill>
            <a:srgbClr val="dc00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43360" y="2562120"/>
            <a:ext cx="66600" cy="2570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867200" y="2486160"/>
            <a:ext cx="57240" cy="3333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91040" y="2514600"/>
            <a:ext cx="57240" cy="30492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14880" y="2638440"/>
            <a:ext cx="57240" cy="18108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29360" y="2695680"/>
            <a:ext cx="66600" cy="1238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43480" y="2752560"/>
            <a:ext cx="57240" cy="6660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71492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250015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67400" y="249552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91240" y="24192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15080" y="244800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38560" y="257184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53040" y="262908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7160" y="26859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00720" y="26859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29240" y="27716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38600" y="220968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62840" y="1943280"/>
            <a:ext cx="1219320" cy="1219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05560" y="20667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96200" y="205740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91200" y="20667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981840" y="205740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0556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9620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9120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8184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1972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1036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7704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6768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1972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1036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7704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6768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6350040" y="229860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330960" y="2273400"/>
            <a:ext cx="885960" cy="5619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81720" y="252396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05560" y="24480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29400" y="247644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753240" y="260028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67360" y="265752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81840" y="27147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115040" y="27147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43560" y="28004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37236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87520" y="4419720"/>
            <a:ext cx="1533600" cy="6285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49520" y="4295880"/>
            <a:ext cx="1038240" cy="4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06600" y="3295800"/>
            <a:ext cx="1352520" cy="10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59320" y="421956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59320" y="421956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59320" y="421956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521080" y="3438360"/>
            <a:ext cx="1095480" cy="70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2000" y="3409920"/>
            <a:ext cx="1143000" cy="7621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73200" y="3381480"/>
            <a:ext cx="1200240" cy="81900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311560" y="4762440"/>
            <a:ext cx="1533600" cy="2095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11560" y="4857840"/>
            <a:ext cx="200160" cy="11448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13160" y="4848120"/>
            <a:ext cx="422280" cy="12384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4343400"/>
            <a:ext cx="1533600" cy="5428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30600" y="4381560"/>
            <a:ext cx="676440" cy="447840"/>
          </a:xfrm>
          <a:prstGeom prst="round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52448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7760" y="4543560"/>
            <a:ext cx="133200" cy="95400"/>
          </a:xfrm>
          <a:prstGeom prst="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92360" y="4667400"/>
            <a:ext cx="26676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59120" y="4524480"/>
            <a:ext cx="0" cy="14292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730600" y="4371840"/>
            <a:ext cx="106668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4371840"/>
            <a:ext cx="0" cy="46692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30600" y="4838760"/>
            <a:ext cx="10666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97280" y="4381560"/>
            <a:ext cx="0" cy="45720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39960" y="4381560"/>
            <a:ext cx="66672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739960" y="4381560"/>
            <a:ext cx="0" cy="4474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39960" y="4829040"/>
            <a:ext cx="66672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16400" y="4381560"/>
            <a:ext cx="0" cy="44748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20920" y="4448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20920" y="4429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20920" y="4772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320920" y="4753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92360" y="4448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92360" y="4429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92360" y="4772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92360" y="4753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59080" y="4896000"/>
            <a:ext cx="143820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49680" y="450540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49680" y="464832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92600" y="439092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92600" y="439092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92600" y="439092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92600" y="452448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92600" y="452448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892600" y="452448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92600" y="466740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92600" y="466740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92600" y="4667400"/>
            <a:ext cx="0" cy="1425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368440" y="4543560"/>
            <a:ext cx="1904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06600" y="4581360"/>
            <a:ext cx="114480" cy="0"/>
          </a:xfrm>
          <a:prstGeom prst="line">
            <a:avLst/>
          </a:prstGeom>
          <a:ln w="12600">
            <a:solidFill>
              <a:srgbClr val="9e0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87480" y="4438800"/>
            <a:ext cx="57168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787480" y="4429080"/>
            <a:ext cx="58104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63800" y="4572000"/>
            <a:ext cx="41904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63800" y="4562640"/>
            <a:ext cx="40968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97160" y="461016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97160" y="460044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54400" y="441000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54400" y="440064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02080" y="460044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02080" y="460044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502080" y="460044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97120" y="4572000"/>
            <a:ext cx="38160" cy="3816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692520" y="4562640"/>
            <a:ext cx="0" cy="4752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11440" y="4762440"/>
            <a:ext cx="572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2644920" y="352728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676600" y="375300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00440" y="367668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24280" y="370512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48120" y="382896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62240" y="388620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76720" y="394344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09920" y="394344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38440" y="402912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666880" y="350532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943360" y="508968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50015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914560" y="505764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eff6e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6519960" y="2901960"/>
            <a:ext cx="530280" cy="1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2876400" y="5334120"/>
            <a:ext cx="39625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Notes page for each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857680" y="5315040"/>
            <a:ext cx="39625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Notes page for each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558880" y="2019240"/>
            <a:ext cx="1295280" cy="9936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4419720" y="2019240"/>
            <a:ext cx="122868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52920" y="2133720"/>
            <a:ext cx="961920" cy="685800"/>
          </a:xfrm>
          <a:prstGeom prst="roundRect">
            <a:avLst/>
          </a:prstGeom>
          <a:solidFill>
            <a:srgbClr val="250015"/>
          </a:solidFill>
          <a:ln w="12600">
            <a:solidFill>
              <a:srgbClr val="6949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38600" y="2193840"/>
            <a:ext cx="876240" cy="625320"/>
          </a:xfrm>
          <a:prstGeom prst="roundRect">
            <a:avLst/>
          </a:prstGeom>
          <a:solidFill>
            <a:srgbClr val="dc00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43360" y="2562120"/>
            <a:ext cx="66600" cy="2570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67200" y="2486160"/>
            <a:ext cx="57240" cy="3333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91040" y="2514600"/>
            <a:ext cx="57240" cy="30492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14880" y="2638440"/>
            <a:ext cx="57240" cy="18108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29360" y="2695680"/>
            <a:ext cx="66600" cy="1238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43480" y="2752560"/>
            <a:ext cx="57240" cy="6660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71492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250015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67400" y="249552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91240" y="24192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15080" y="244800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257184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53040" y="262908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67160" y="26859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00720" y="26859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29240" y="27716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638600" y="220968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62840" y="1943280"/>
            <a:ext cx="1219320" cy="1219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05560" y="20667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96200" y="205740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91200" y="20667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981840" y="205740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0556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9620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99120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8184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21972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21036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7704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6768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21972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1036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7704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350040" y="229860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330960" y="2273400"/>
            <a:ext cx="885960" cy="5619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81720" y="252396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05560" y="24480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9400" y="247644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53240" y="260028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67360" y="265752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981840" y="27147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15040" y="27147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43560" y="28004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37236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387520" y="4419720"/>
            <a:ext cx="1533600" cy="6285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49520" y="4295880"/>
            <a:ext cx="1038240" cy="4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06600" y="3295800"/>
            <a:ext cx="1352520" cy="10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59320" y="421956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59320" y="421956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59320" y="421956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521080" y="3438360"/>
            <a:ext cx="1095480" cy="70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02000" y="3409920"/>
            <a:ext cx="1143000" cy="7621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473200" y="3381480"/>
            <a:ext cx="1200240" cy="81900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311560" y="4762440"/>
            <a:ext cx="1533600" cy="2095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11560" y="4857840"/>
            <a:ext cx="200160" cy="11448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13160" y="4848120"/>
            <a:ext cx="422280" cy="12384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311560" y="4343400"/>
            <a:ext cx="1533600" cy="5428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30600" y="4381560"/>
            <a:ext cx="676440" cy="447840"/>
          </a:xfrm>
          <a:prstGeom prst="round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92360" y="452448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87760" y="4543560"/>
            <a:ext cx="133200" cy="95400"/>
          </a:xfrm>
          <a:prstGeom prst="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492360" y="4667400"/>
            <a:ext cx="26676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59120" y="4524480"/>
            <a:ext cx="0" cy="14292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730600" y="4371840"/>
            <a:ext cx="106668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30600" y="4371840"/>
            <a:ext cx="0" cy="46692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730600" y="4838760"/>
            <a:ext cx="10666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797280" y="4381560"/>
            <a:ext cx="0" cy="45720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739960" y="4381560"/>
            <a:ext cx="66672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739960" y="4381560"/>
            <a:ext cx="0" cy="4474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39960" y="4829040"/>
            <a:ext cx="66672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16400" y="4381560"/>
            <a:ext cx="0" cy="44748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20920" y="4448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320920" y="4429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320920" y="4772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20920" y="4753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92360" y="4448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492360" y="4429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92360" y="4772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2360" y="4753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359080" y="4896000"/>
            <a:ext cx="143820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749680" y="450540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49680" y="464832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92600" y="439092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892600" y="439092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92600" y="439092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92600" y="452448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92600" y="452448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892600" y="452448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92600" y="466740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92600" y="466740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92600" y="4667400"/>
            <a:ext cx="0" cy="1425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368440" y="4543560"/>
            <a:ext cx="18432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06600" y="4581360"/>
            <a:ext cx="114480" cy="0"/>
          </a:xfrm>
          <a:prstGeom prst="line">
            <a:avLst/>
          </a:prstGeom>
          <a:ln w="12600">
            <a:solidFill>
              <a:srgbClr val="9e0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787480" y="4438800"/>
            <a:ext cx="57168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787480" y="4429080"/>
            <a:ext cx="58104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63800" y="4572000"/>
            <a:ext cx="41904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863800" y="4562640"/>
            <a:ext cx="40968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97160" y="461016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197160" y="460044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54400" y="441000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54400" y="440064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502080" y="460044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502080" y="460044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02080" y="460044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597120" y="4572000"/>
            <a:ext cx="38160" cy="3816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92520" y="4562640"/>
            <a:ext cx="0" cy="4752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11440" y="4762440"/>
            <a:ext cx="572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2644920" y="352728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2676600" y="375300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800440" y="367668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24280" y="370512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48120" y="382896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162240" y="388620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76720" y="394344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09920" y="394344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638440" y="402912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666880" y="350532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5"/>
          <a:stretch/>
        </p:blipFill>
        <p:spPr>
          <a:xfrm>
            <a:off x="4476600" y="3467160"/>
            <a:ext cx="1197000" cy="14796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4924440" y="497520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50015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896000" y="494352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eff6e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6"/>
          <a:stretch/>
        </p:blipFill>
        <p:spPr>
          <a:xfrm>
            <a:off x="6519960" y="2901960"/>
            <a:ext cx="530280" cy="1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52680" y="5334120"/>
            <a:ext cx="31622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Audience hando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336840" y="5315040"/>
            <a:ext cx="30672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Audience hand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2558880" y="2019240"/>
            <a:ext cx="1295280" cy="9936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4419720" y="2019240"/>
            <a:ext cx="122868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52920" y="2133720"/>
            <a:ext cx="961920" cy="685800"/>
          </a:xfrm>
          <a:prstGeom prst="roundRect">
            <a:avLst/>
          </a:prstGeom>
          <a:solidFill>
            <a:srgbClr val="250015"/>
          </a:solidFill>
          <a:ln w="12600">
            <a:solidFill>
              <a:srgbClr val="6949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38600" y="2193840"/>
            <a:ext cx="876240" cy="625320"/>
          </a:xfrm>
          <a:prstGeom prst="roundRect">
            <a:avLst/>
          </a:prstGeom>
          <a:solidFill>
            <a:srgbClr val="dc00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743360" y="2562120"/>
            <a:ext cx="66600" cy="2570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67200" y="2486160"/>
            <a:ext cx="57240" cy="3333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991040" y="2514600"/>
            <a:ext cx="57240" cy="30492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14880" y="2638440"/>
            <a:ext cx="57240" cy="18108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229360" y="2695680"/>
            <a:ext cx="66600" cy="1238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343480" y="2752560"/>
            <a:ext cx="57240" cy="6660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71492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250015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67400" y="249552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91240" y="24192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915080" y="244800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38560" y="257184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153040" y="262908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67160" y="26859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400720" y="26859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629240" y="27716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638600" y="220968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62840" y="1943280"/>
            <a:ext cx="1219320" cy="1219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05560" y="20667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496200" y="205740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991200" y="20667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981840" y="205740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50556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9620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99120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98184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1972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21036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7704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26768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21972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21036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7704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26768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6350040" y="229860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6330960" y="2273400"/>
            <a:ext cx="885960" cy="5619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381720" y="252396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505560" y="24480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29400" y="247644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753240" y="260028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867360" y="265752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981840" y="27147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115040" y="27147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43560" y="28004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37236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387520" y="4419720"/>
            <a:ext cx="1533600" cy="6285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49520" y="4295880"/>
            <a:ext cx="1038240" cy="4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06600" y="3295800"/>
            <a:ext cx="1352520" cy="10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559320" y="421956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559320" y="421956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559320" y="421956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521080" y="3438360"/>
            <a:ext cx="1095480" cy="70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02000" y="3409920"/>
            <a:ext cx="1143000" cy="7621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73200" y="3381480"/>
            <a:ext cx="1200240" cy="81900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11560" y="4762440"/>
            <a:ext cx="1533600" cy="2095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311560" y="4857840"/>
            <a:ext cx="200160" cy="11448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13160" y="4848120"/>
            <a:ext cx="422280" cy="12384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11560" y="4343400"/>
            <a:ext cx="1533600" cy="5428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30600" y="4381560"/>
            <a:ext cx="676440" cy="447840"/>
          </a:xfrm>
          <a:prstGeom prst="round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492360" y="452448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87760" y="4543560"/>
            <a:ext cx="133200" cy="95400"/>
          </a:xfrm>
          <a:prstGeom prst="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492360" y="4667400"/>
            <a:ext cx="26676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59120" y="4524480"/>
            <a:ext cx="0" cy="14292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730600" y="4371840"/>
            <a:ext cx="106668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730600" y="4371840"/>
            <a:ext cx="0" cy="46692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30600" y="4838760"/>
            <a:ext cx="10666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97280" y="4381560"/>
            <a:ext cx="0" cy="45720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739960" y="4381560"/>
            <a:ext cx="66672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39960" y="4381560"/>
            <a:ext cx="0" cy="4474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39960" y="4829040"/>
            <a:ext cx="66672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416400" y="4381560"/>
            <a:ext cx="0" cy="44748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20920" y="4448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320920" y="4429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20920" y="4772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20920" y="4753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492360" y="4448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492360" y="4429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492360" y="4772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92360" y="4753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359080" y="4896000"/>
            <a:ext cx="143820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749680" y="450540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49680" y="464832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92600" y="439092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92600" y="439092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92600" y="439092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92600" y="452448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92600" y="452448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92600" y="452448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2600" y="466740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92600" y="466740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92600" y="4667400"/>
            <a:ext cx="0" cy="1425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68440" y="4543560"/>
            <a:ext cx="1904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406600" y="4581360"/>
            <a:ext cx="114480" cy="0"/>
          </a:xfrm>
          <a:prstGeom prst="line">
            <a:avLst/>
          </a:prstGeom>
          <a:ln w="12600">
            <a:solidFill>
              <a:srgbClr val="9e0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87480" y="4438800"/>
            <a:ext cx="57168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87480" y="4429080"/>
            <a:ext cx="58104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863800" y="4572000"/>
            <a:ext cx="41904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63800" y="4562640"/>
            <a:ext cx="40968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197160" y="461016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97160" y="460044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54400" y="441000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0" y="440064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502080" y="460044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502080" y="460044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502080" y="460044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97120" y="4572000"/>
            <a:ext cx="38160" cy="3816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92520" y="4562640"/>
            <a:ext cx="0" cy="4752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511440" y="4762440"/>
            <a:ext cx="572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4"/>
          <a:stretch/>
        </p:blipFill>
        <p:spPr>
          <a:xfrm>
            <a:off x="2644920" y="352728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76600" y="375300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00440" y="367668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24280" y="370512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48120" y="382896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62240" y="388620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76720" y="394344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409920" y="394344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38440" y="402912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2666880" y="350532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4476600" y="3467160"/>
            <a:ext cx="1197000" cy="14796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6178680" y="346392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 txBox="1"/>
          <p:nvPr/>
        </p:nvSpPr>
        <p:spPr>
          <a:xfrm>
            <a:off x="6600960" y="497196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50015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6572160" y="494028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eff6e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6519960" y="2901960"/>
            <a:ext cx="530280" cy="16524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8"/>
          <a:stretch/>
        </p:blipFill>
        <p:spPr>
          <a:xfrm>
            <a:off x="6519960" y="2901960"/>
            <a:ext cx="530280" cy="1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2533680" y="5372280"/>
            <a:ext cx="4772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The Complete Presen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521080" y="5353200"/>
            <a:ext cx="4772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The Complete Presen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230640" y="1538280"/>
            <a:ext cx="3448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220920" y="1519200"/>
            <a:ext cx="3448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Microsoft 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2558880" y="2019240"/>
            <a:ext cx="1295280" cy="9936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4419720" y="2019240"/>
            <a:ext cx="122868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52920" y="2133720"/>
            <a:ext cx="961920" cy="685800"/>
          </a:xfrm>
          <a:prstGeom prst="roundRect">
            <a:avLst/>
          </a:prstGeom>
          <a:solidFill>
            <a:srgbClr val="250015"/>
          </a:solidFill>
          <a:ln w="12600">
            <a:solidFill>
              <a:srgbClr val="69495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38600" y="2193840"/>
            <a:ext cx="876240" cy="625320"/>
          </a:xfrm>
          <a:prstGeom prst="roundRect">
            <a:avLst/>
          </a:prstGeom>
          <a:solidFill>
            <a:srgbClr val="dc008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43360" y="2562120"/>
            <a:ext cx="66600" cy="2570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67200" y="2486160"/>
            <a:ext cx="57240" cy="3333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91040" y="2514600"/>
            <a:ext cx="57240" cy="30492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14880" y="2638440"/>
            <a:ext cx="57240" cy="18108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29360" y="2695680"/>
            <a:ext cx="66600" cy="12384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343480" y="2752560"/>
            <a:ext cx="57240" cy="6660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471492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250015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667400" y="249552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91240" y="24192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15080" y="244800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038560" y="257184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153040" y="262908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67160" y="26859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400720" y="26859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629240" y="27716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638600" y="220968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162840" y="1943280"/>
            <a:ext cx="1219320" cy="1219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19960" y="21146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510240" y="210492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005600" y="21146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96240" y="210492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0556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9620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991200" y="29908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981840" y="29811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1972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21036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77040" y="23115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267680" y="230184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21972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21036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277040" y="274968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67680" y="2739960"/>
            <a:ext cx="57240" cy="5724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50040" y="229860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6330960" y="2273400"/>
            <a:ext cx="885960" cy="5619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381720" y="252396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05560" y="24480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29400" y="247644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753240" y="260028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867360" y="265752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981840" y="27147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115040" y="27147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343560" y="28004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6372360" y="2276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87520" y="4419720"/>
            <a:ext cx="1533600" cy="6285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49520" y="4295880"/>
            <a:ext cx="1038240" cy="4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406600" y="3295800"/>
            <a:ext cx="1352520" cy="10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559320" y="421956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559320" y="421956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559320" y="421956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21080" y="3438360"/>
            <a:ext cx="1095480" cy="70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02000" y="3409920"/>
            <a:ext cx="1143000" cy="7621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473200" y="3381480"/>
            <a:ext cx="1200240" cy="81900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311560" y="4762440"/>
            <a:ext cx="1533600" cy="2095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311560" y="4857840"/>
            <a:ext cx="200160" cy="11448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413160" y="4848120"/>
            <a:ext cx="422280" cy="12384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311560" y="4343400"/>
            <a:ext cx="1533600" cy="5428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730600" y="4381560"/>
            <a:ext cx="676440" cy="447840"/>
          </a:xfrm>
          <a:prstGeom prst="round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492360" y="452448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587760" y="4543560"/>
            <a:ext cx="133200" cy="95400"/>
          </a:xfrm>
          <a:prstGeom prst="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492360" y="4667400"/>
            <a:ext cx="26676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759120" y="4524480"/>
            <a:ext cx="0" cy="14292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730600" y="4371840"/>
            <a:ext cx="106668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730600" y="4371840"/>
            <a:ext cx="0" cy="46692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30600" y="4838760"/>
            <a:ext cx="10666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97280" y="4381560"/>
            <a:ext cx="0" cy="45720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39960" y="4381560"/>
            <a:ext cx="66672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739960" y="4381560"/>
            <a:ext cx="0" cy="4474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739960" y="4829040"/>
            <a:ext cx="66672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16400" y="4381560"/>
            <a:ext cx="0" cy="44748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320920" y="4448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320920" y="4429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320920" y="4772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320920" y="4753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492360" y="4448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492360" y="4429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492360" y="477216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492360" y="475308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59080" y="4896000"/>
            <a:ext cx="143820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49680" y="450540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749680" y="464832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892600" y="439092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892600" y="439092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892600" y="439092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892600" y="452448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92600" y="452448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92600" y="452448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892600" y="466740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92600" y="466740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92600" y="4667400"/>
            <a:ext cx="0" cy="1425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68440" y="4543560"/>
            <a:ext cx="190440" cy="6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06600" y="4581360"/>
            <a:ext cx="114480" cy="0"/>
          </a:xfrm>
          <a:prstGeom prst="line">
            <a:avLst/>
          </a:prstGeom>
          <a:ln w="12600">
            <a:solidFill>
              <a:srgbClr val="9e0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787480" y="4438800"/>
            <a:ext cx="57168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787480" y="4429080"/>
            <a:ext cx="58104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63800" y="4572000"/>
            <a:ext cx="41904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863800" y="4562640"/>
            <a:ext cx="40968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97160" y="461016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197160" y="460044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254400" y="441000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254400" y="440064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02080" y="460044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502080" y="460044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502080" y="460044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597120" y="4572000"/>
            <a:ext cx="38160" cy="3816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692520" y="4562640"/>
            <a:ext cx="0" cy="4752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11440" y="4762440"/>
            <a:ext cx="572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4"/>
          <a:stretch/>
        </p:blipFill>
        <p:spPr>
          <a:xfrm>
            <a:off x="2644920" y="352728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2676600" y="375300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00440" y="367668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924280" y="370512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048120" y="382896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62240" y="388620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276720" y="394344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409920" y="394344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38440" y="402912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2666880" y="350532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5"/>
          <a:stretch/>
        </p:blipFill>
        <p:spPr>
          <a:xfrm>
            <a:off x="4476600" y="3467160"/>
            <a:ext cx="1197000" cy="147960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6"/>
          <a:stretch/>
        </p:blipFill>
        <p:spPr>
          <a:xfrm>
            <a:off x="6178680" y="3463920"/>
            <a:ext cx="1181160" cy="146700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7"/>
          <a:stretch/>
        </p:blipFill>
        <p:spPr>
          <a:xfrm>
            <a:off x="6519960" y="2901960"/>
            <a:ext cx="530280" cy="16524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8"/>
          <a:stretch/>
        </p:blipFill>
        <p:spPr>
          <a:xfrm>
            <a:off x="6519960" y="2901960"/>
            <a:ext cx="530280" cy="1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2806560" y="3324240"/>
            <a:ext cx="37148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Here’s How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Makes i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8576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2790720" y="3308400"/>
            <a:ext cx="37148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Here’s How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Makes i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61008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360036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3049560" y="2685960"/>
            <a:ext cx="34765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Word Proces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288612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 txBox="1"/>
          <p:nvPr/>
        </p:nvSpPr>
        <p:spPr>
          <a:xfrm>
            <a:off x="3040200" y="2666880"/>
            <a:ext cx="34765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Word Proces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87480" y="3639960"/>
            <a:ext cx="4257720" cy="2079720"/>
          </a:xfrm>
          <a:prstGeom prst="rect">
            <a:avLst/>
          </a:prstGeom>
          <a:solidFill>
            <a:srgbClr val="810041"/>
          </a:solidFill>
          <a:ln w="12600">
            <a:solidFill>
              <a:srgbClr val="c3c3c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asy to learn and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entation word processing features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 5-level outline indentatio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 tabbing, variable line spacing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- all fonts and character styles, plus user-defined sty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efaults to hanging indents for bulle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ve and resize text boxes graphic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port outlines from Word for Wind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2778120" y="3224160"/>
            <a:ext cx="4295880" cy="4381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 txBox="1"/>
          <p:nvPr/>
        </p:nvSpPr>
        <p:spPr>
          <a:xfrm>
            <a:off x="363852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62916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2990880" y="2933640"/>
            <a:ext cx="2743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Correct sp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Find and Chang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288612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 txBox="1"/>
          <p:nvPr/>
        </p:nvSpPr>
        <p:spPr>
          <a:xfrm>
            <a:off x="2971800" y="2927520"/>
            <a:ext cx="2743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rrect sp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nd and Chang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6124680" y="267192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3"/>
          <a:stretch/>
        </p:blipFill>
        <p:spPr>
          <a:xfrm>
            <a:off x="2235240" y="4290840"/>
            <a:ext cx="3743280" cy="148608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 txBox="1"/>
          <p:nvPr/>
        </p:nvSpPr>
        <p:spPr>
          <a:xfrm>
            <a:off x="363852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62916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2647800" y="3708360"/>
            <a:ext cx="33526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- throughout your entire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2628720" y="3699000"/>
            <a:ext cx="33526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throughout your entire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4"/>
          <a:stretch/>
        </p:blipFill>
        <p:spPr>
          <a:xfrm>
            <a:off x="2847960" y="300024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5"/>
          <a:stretch/>
        </p:blipFill>
        <p:spPr>
          <a:xfrm>
            <a:off x="2603520" y="3314880"/>
            <a:ext cx="2350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2521080" y="2838600"/>
            <a:ext cx="23716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Draw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8432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 txBox="1"/>
          <p:nvPr/>
        </p:nvSpPr>
        <p:spPr>
          <a:xfrm>
            <a:off x="359568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58632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2502000" y="2813040"/>
            <a:ext cx="23716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Draw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927600" y="3359160"/>
            <a:ext cx="596880" cy="596880"/>
          </a:xfrm>
          <a:prstGeom prst="ellipse">
            <a:avLst/>
          </a:prstGeom>
          <a:noFill/>
          <a:ln w="25560">
            <a:solidFill>
              <a:srgbClr val="0000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038400" y="3308400"/>
            <a:ext cx="1143000" cy="596880"/>
          </a:xfrm>
          <a:prstGeom prst="ellipse">
            <a:avLst/>
          </a:prstGeom>
          <a:noFill/>
          <a:ln w="25560">
            <a:solidFill>
              <a:srgbClr val="0000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423040" y="3540240"/>
            <a:ext cx="622440" cy="622440"/>
          </a:xfrm>
          <a:prstGeom prst="rect">
            <a:avLst/>
          </a:prstGeom>
          <a:noFill/>
          <a:ln w="25560">
            <a:solidFill>
              <a:srgbClr val="0000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35360" y="3438360"/>
            <a:ext cx="1219320" cy="558720"/>
          </a:xfrm>
          <a:prstGeom prst="rect">
            <a:avLst/>
          </a:prstGeom>
          <a:noFill/>
          <a:ln w="25560">
            <a:solidFill>
              <a:srgbClr val="0000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686640" y="3060720"/>
            <a:ext cx="546120" cy="511200"/>
          </a:xfrm>
          <a:prstGeom prst="roundRect">
            <a:avLst/>
          </a:prstGeom>
          <a:noFill/>
          <a:ln w="25560">
            <a:solidFill>
              <a:srgbClr val="0000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978520" y="2908440"/>
            <a:ext cx="1101600" cy="498600"/>
          </a:xfrm>
          <a:prstGeom prst="roundRect">
            <a:avLst/>
          </a:prstGeom>
          <a:noFill/>
          <a:ln w="25560">
            <a:solidFill>
              <a:srgbClr val="0000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813720" y="3408480"/>
            <a:ext cx="977760" cy="7747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804000" y="3371760"/>
            <a:ext cx="977760" cy="774720"/>
          </a:xfrm>
          <a:prstGeom prst="line">
            <a:avLst/>
          </a:prstGeom>
          <a:ln w="25560">
            <a:solidFill>
              <a:srgbClr val="feff6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004840" y="3290760"/>
            <a:ext cx="876600" cy="885960"/>
          </a:xfrm>
          <a:prstGeom prst="line">
            <a:avLst/>
          </a:prstGeom>
          <a:ln w="2556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2009880" y="3286080"/>
            <a:ext cx="847800" cy="847800"/>
          </a:xfrm>
          <a:prstGeom prst="line">
            <a:avLst/>
          </a:prstGeom>
          <a:ln w="25560">
            <a:solidFill>
              <a:srgbClr val="feff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2176560" y="474336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2043000" y="511488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>
            <a:off x="1928880" y="546732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5"/>
          <a:stretch/>
        </p:blipFill>
        <p:spPr>
          <a:xfrm>
            <a:off x="5138640" y="474336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6"/>
          <a:stretch/>
        </p:blipFill>
        <p:spPr>
          <a:xfrm>
            <a:off x="4995720" y="510552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7"/>
          <a:stretch/>
        </p:blipFill>
        <p:spPr>
          <a:xfrm>
            <a:off x="4871880" y="546732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 txBox="1"/>
          <p:nvPr/>
        </p:nvSpPr>
        <p:spPr>
          <a:xfrm>
            <a:off x="2238480" y="4314960"/>
            <a:ext cx="2800440" cy="15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 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22 patterns and line sty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Automatic drop sha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Scale and crop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2216160" y="4299120"/>
            <a:ext cx="2682720" cy="15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feff6e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feff6e"/>
                </a:solidFill>
                <a:latin typeface="Arial"/>
                <a:ea typeface="Arial"/>
              </a:rPr>
              <a:t>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2 patterns and line sty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utomatic drop sha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cale and crop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5200560" y="4305240"/>
            <a:ext cx="2676600" cy="15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 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Snap-to-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Alignment gu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Bring to front / send to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5181480" y="4299120"/>
            <a:ext cx="2705040" cy="15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feff6e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feff6e"/>
                </a:solidFill>
                <a:latin typeface="Arial"/>
                <a:ea typeface="Arial"/>
              </a:rPr>
              <a:t>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nap-to-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ignment gu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3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ring to front / send to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685960" y="3305160"/>
            <a:ext cx="389556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What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hristopher Colu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ould have presented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plan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64000" y="3286080"/>
            <a:ext cx="38955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What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hristopher Colu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ould have presented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plan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7172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538440" y="212400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529080" y="210492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2933640" y="2978280"/>
            <a:ext cx="39816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Present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2927520" y="2955960"/>
            <a:ext cx="39816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Present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2633760" y="364320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2471760" y="426240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 txBox="1"/>
          <p:nvPr/>
        </p:nvSpPr>
        <p:spPr>
          <a:xfrm>
            <a:off x="2671920" y="3581280"/>
            <a:ext cx="4424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43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Master slide contains common elements for all 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Slide sorter -- re-arrange slides vi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2657520" y="3562200"/>
            <a:ext cx="44388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43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3f3f3"/>
                </a:solidFill>
                <a:latin typeface="Arial"/>
                <a:ea typeface="Arial"/>
              </a:rPr>
              <a:t>Master slide contains common elements for all 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3f3f3"/>
                </a:solidFill>
                <a:latin typeface="Arial"/>
                <a:ea typeface="Arial"/>
              </a:rPr>
              <a:t>Slide sorter -- re-arrange slides vi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3"/>
          <a:stretch/>
        </p:blipFill>
        <p:spPr>
          <a:xfrm>
            <a:off x="28432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 txBox="1"/>
          <p:nvPr/>
        </p:nvSpPr>
        <p:spPr>
          <a:xfrm>
            <a:off x="359568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8632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2933640" y="2978280"/>
            <a:ext cx="39816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Present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28432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 txBox="1"/>
          <p:nvPr/>
        </p:nvSpPr>
        <p:spPr>
          <a:xfrm>
            <a:off x="2927520" y="2955960"/>
            <a:ext cx="39816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Present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59568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58632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2633760" y="364320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471760" y="426240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 txBox="1"/>
          <p:nvPr/>
        </p:nvSpPr>
        <p:spPr>
          <a:xfrm>
            <a:off x="2671920" y="3581280"/>
            <a:ext cx="4424400" cy="17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43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Master slide contains common elements for all 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Slide sorter -- re-arrange slides vi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Title sorter -- re-arrange slides by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Easily combine and share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2657520" y="3562200"/>
            <a:ext cx="4438800" cy="17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43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eff6e"/>
                </a:solidFill>
                <a:latin typeface="Arial"/>
                <a:ea typeface="Arial"/>
              </a:rPr>
              <a:t>Master slide contains common elements for all 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eff6e"/>
                </a:solidFill>
                <a:latin typeface="Arial"/>
                <a:ea typeface="Arial"/>
              </a:rPr>
              <a:t>Slide sorter -- re-arrange slides vi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itle sorter -- re-arrange slides by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asily combine and share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4"/>
          <a:stretch/>
        </p:blipFill>
        <p:spPr>
          <a:xfrm>
            <a:off x="2338560" y="469584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5"/>
          <a:stretch/>
        </p:blipFill>
        <p:spPr>
          <a:xfrm>
            <a:off x="2214720" y="5114880"/>
            <a:ext cx="2286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 txBox="1"/>
          <p:nvPr/>
        </p:nvSpPr>
        <p:spPr>
          <a:xfrm>
            <a:off x="2728800" y="2954160"/>
            <a:ext cx="4410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ing Text an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275760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 txBox="1"/>
          <p:nvPr/>
        </p:nvSpPr>
        <p:spPr>
          <a:xfrm>
            <a:off x="351000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350028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2719440" y="2935440"/>
            <a:ext cx="4410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Importing Text an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2057400" y="3781440"/>
            <a:ext cx="838080" cy="15858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3"/>
          <a:stretch/>
        </p:blipFill>
        <p:spPr>
          <a:xfrm>
            <a:off x="3324240" y="360036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 txBox="1"/>
          <p:nvPr/>
        </p:nvSpPr>
        <p:spPr>
          <a:xfrm>
            <a:off x="3552840" y="3519360"/>
            <a:ext cx="104292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Impor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3533760" y="3510000"/>
            <a:ext cx="104292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por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944880" y="3886200"/>
            <a:ext cx="1127160" cy="10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P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CG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Lotus P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925800" y="3876840"/>
            <a:ext cx="1127160" cy="10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G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otus P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5268960" y="3886200"/>
            <a:ext cx="2222640" cy="10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2600" indent="-12600"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Windows Paintbru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Windows meta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TI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HPG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5249880" y="3876840"/>
            <a:ext cx="2222640" cy="10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2600" indent="-12600"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s Paintbru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s meta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I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spcAft>
                <a:spcPts val="241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PG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838680" y="4000680"/>
            <a:ext cx="71280" cy="71280"/>
          </a:xfrm>
          <a:prstGeom prst="ellipse">
            <a:avLst/>
          </a:prstGeom>
          <a:solidFill>
            <a:srgbClr val="250015"/>
          </a:solidFill>
          <a:ln w="12600">
            <a:solidFill>
              <a:srgbClr val="250015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838680" y="4257720"/>
            <a:ext cx="71280" cy="71280"/>
          </a:xfrm>
          <a:prstGeom prst="ellipse">
            <a:avLst/>
          </a:prstGeom>
          <a:solidFill>
            <a:srgbClr val="250015"/>
          </a:solidFill>
          <a:ln w="12600">
            <a:solidFill>
              <a:srgbClr val="250015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838680" y="4505400"/>
            <a:ext cx="71280" cy="71280"/>
          </a:xfrm>
          <a:prstGeom prst="ellipse">
            <a:avLst/>
          </a:prstGeom>
          <a:solidFill>
            <a:srgbClr val="250015"/>
          </a:solidFill>
          <a:ln w="12600">
            <a:solidFill>
              <a:srgbClr val="250015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838680" y="4743360"/>
            <a:ext cx="71280" cy="71280"/>
          </a:xfrm>
          <a:prstGeom prst="ellipse">
            <a:avLst/>
          </a:prstGeom>
          <a:solidFill>
            <a:srgbClr val="250015"/>
          </a:solidFill>
          <a:ln w="12600">
            <a:solidFill>
              <a:srgbClr val="250015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819600" y="3990960"/>
            <a:ext cx="71280" cy="71280"/>
          </a:xfrm>
          <a:prstGeom prst="ellipse">
            <a:avLst/>
          </a:prstGeom>
          <a:solidFill>
            <a:srgbClr val="7f0000"/>
          </a:solidFill>
          <a:ln w="12600">
            <a:solidFill>
              <a:srgbClr val="7f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19600" y="4248000"/>
            <a:ext cx="71280" cy="71280"/>
          </a:xfrm>
          <a:prstGeom prst="ellipse">
            <a:avLst/>
          </a:prstGeom>
          <a:solidFill>
            <a:srgbClr val="7f0000"/>
          </a:solidFill>
          <a:ln w="12600">
            <a:solidFill>
              <a:srgbClr val="7f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819600" y="4495680"/>
            <a:ext cx="71280" cy="71280"/>
          </a:xfrm>
          <a:prstGeom prst="ellipse">
            <a:avLst/>
          </a:prstGeom>
          <a:solidFill>
            <a:srgbClr val="7f0000"/>
          </a:solidFill>
          <a:ln w="12600">
            <a:solidFill>
              <a:srgbClr val="7f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819600" y="4734000"/>
            <a:ext cx="71280" cy="71280"/>
          </a:xfrm>
          <a:prstGeom prst="ellipse">
            <a:avLst/>
          </a:prstGeom>
          <a:solidFill>
            <a:srgbClr val="7f0000"/>
          </a:solidFill>
          <a:ln w="12600">
            <a:solidFill>
              <a:srgbClr val="7f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172120" y="3990960"/>
            <a:ext cx="71280" cy="71280"/>
          </a:xfrm>
          <a:prstGeom prst="ellipse">
            <a:avLst/>
          </a:prstGeom>
          <a:solidFill>
            <a:srgbClr val="250015"/>
          </a:solidFill>
          <a:ln w="12600">
            <a:solidFill>
              <a:srgbClr val="250015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172120" y="4248000"/>
            <a:ext cx="71280" cy="71280"/>
          </a:xfrm>
          <a:prstGeom prst="ellipse">
            <a:avLst/>
          </a:prstGeom>
          <a:solidFill>
            <a:srgbClr val="250015"/>
          </a:solidFill>
          <a:ln w="12600">
            <a:solidFill>
              <a:srgbClr val="250015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172120" y="4495680"/>
            <a:ext cx="71280" cy="71280"/>
          </a:xfrm>
          <a:prstGeom prst="ellipse">
            <a:avLst/>
          </a:prstGeom>
          <a:solidFill>
            <a:srgbClr val="250015"/>
          </a:solidFill>
          <a:ln w="12600">
            <a:solidFill>
              <a:srgbClr val="250015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72120" y="4734000"/>
            <a:ext cx="71280" cy="71280"/>
          </a:xfrm>
          <a:prstGeom prst="ellipse">
            <a:avLst/>
          </a:prstGeom>
          <a:solidFill>
            <a:srgbClr val="250015"/>
          </a:solidFill>
          <a:ln w="12600">
            <a:solidFill>
              <a:srgbClr val="250015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153040" y="3981600"/>
            <a:ext cx="71280" cy="71280"/>
          </a:xfrm>
          <a:prstGeom prst="ellipse">
            <a:avLst/>
          </a:prstGeom>
          <a:solidFill>
            <a:srgbClr val="7f0000"/>
          </a:solidFill>
          <a:ln w="12600">
            <a:solidFill>
              <a:srgbClr val="7f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153040" y="4238640"/>
            <a:ext cx="71280" cy="71280"/>
          </a:xfrm>
          <a:prstGeom prst="ellipse">
            <a:avLst/>
          </a:prstGeom>
          <a:solidFill>
            <a:srgbClr val="7f0000"/>
          </a:solidFill>
          <a:ln w="12600">
            <a:solidFill>
              <a:srgbClr val="7f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53040" y="4486320"/>
            <a:ext cx="71280" cy="71280"/>
          </a:xfrm>
          <a:prstGeom prst="ellipse">
            <a:avLst/>
          </a:prstGeom>
          <a:solidFill>
            <a:srgbClr val="7f0000"/>
          </a:solidFill>
          <a:ln w="12600">
            <a:solidFill>
              <a:srgbClr val="7f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153040" y="4724280"/>
            <a:ext cx="71280" cy="71280"/>
          </a:xfrm>
          <a:prstGeom prst="ellipse">
            <a:avLst/>
          </a:prstGeom>
          <a:solidFill>
            <a:srgbClr val="7f0000"/>
          </a:solidFill>
          <a:ln w="12600">
            <a:solidFill>
              <a:srgbClr val="7f0000"/>
            </a:solidFill>
            <a:round/>
          </a:ln>
        </p:spPr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3295800" y="541008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 txBox="1"/>
          <p:nvPr/>
        </p:nvSpPr>
        <p:spPr>
          <a:xfrm>
            <a:off x="3586320" y="5343480"/>
            <a:ext cx="3900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Imports outlines directly from Word for 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3567240" y="5334120"/>
            <a:ext cx="3900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ports outlines directly from Word for 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2790720" y="2978280"/>
            <a:ext cx="1523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287640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2771640" y="2971800"/>
            <a:ext cx="1523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5445000" y="2733840"/>
            <a:ext cx="2044800" cy="17240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3"/>
          <a:stretch/>
        </p:blipFill>
        <p:spPr>
          <a:xfrm>
            <a:off x="2700360" y="428616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4"/>
          <a:stretch/>
        </p:blipFill>
        <p:spPr>
          <a:xfrm>
            <a:off x="2576520" y="471492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5"/>
          <a:stretch/>
        </p:blipFill>
        <p:spPr>
          <a:xfrm>
            <a:off x="2433600" y="513396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 txBox="1"/>
          <p:nvPr/>
        </p:nvSpPr>
        <p:spPr>
          <a:xfrm>
            <a:off x="2705040" y="4219560"/>
            <a:ext cx="46292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25 different types of ch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3D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Customize fonts, legends, gridlines, colo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2689200" y="4200480"/>
            <a:ext cx="46544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5 different types of ch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6660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D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ustomize fonts, legends, gridlines, colo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62916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61944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2771640" y="2968560"/>
            <a:ext cx="1523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28432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 txBox="1"/>
          <p:nvPr/>
        </p:nvSpPr>
        <p:spPr>
          <a:xfrm>
            <a:off x="359568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58632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752560" y="2946240"/>
            <a:ext cx="1523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4829040" y="2608200"/>
            <a:ext cx="2558880" cy="238140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3"/>
          <a:stretch/>
        </p:blipFill>
        <p:spPr>
          <a:xfrm>
            <a:off x="4824360" y="2617920"/>
            <a:ext cx="2533680" cy="236232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/>
          <p:cNvPicPr/>
          <p:nvPr/>
        </p:nvPicPr>
        <p:blipFill>
          <a:blip r:embed="rId4"/>
          <a:stretch/>
        </p:blipFill>
        <p:spPr>
          <a:xfrm>
            <a:off x="2576520" y="474336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5"/>
          <a:stretch/>
        </p:blipFill>
        <p:spPr>
          <a:xfrm>
            <a:off x="2428920" y="518148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 txBox="1"/>
          <p:nvPr/>
        </p:nvSpPr>
        <p:spPr>
          <a:xfrm>
            <a:off x="2622600" y="4676760"/>
            <a:ext cx="48672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Enter data directly into Power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Import data from Excel, Lotus 1-2-3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and other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616120" y="4657680"/>
            <a:ext cx="485136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ter data directly into PowerPoint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6660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port data from Excel, Lotus 1-2-3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d other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 txBox="1"/>
          <p:nvPr/>
        </p:nvSpPr>
        <p:spPr>
          <a:xfrm>
            <a:off x="2295360" y="2978280"/>
            <a:ext cx="29242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olo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28576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 txBox="1"/>
          <p:nvPr/>
        </p:nvSpPr>
        <p:spPr>
          <a:xfrm>
            <a:off x="361008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60036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282760" y="2959200"/>
            <a:ext cx="29242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olo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2766960" y="403848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2548080" y="465768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4"/>
          <a:stretch/>
        </p:blipFill>
        <p:spPr>
          <a:xfrm>
            <a:off x="2376360" y="509580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 txBox="1"/>
          <p:nvPr/>
        </p:nvSpPr>
        <p:spPr>
          <a:xfrm>
            <a:off x="2619360" y="3971880"/>
            <a:ext cx="5003640" cy="17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Genigraphics color schemes and color palette for great color combin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Professionally designed templates for a fast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Shaded backgrounds make professional effects ea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12880" y="3952800"/>
            <a:ext cx="5003640" cy="17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enigraphics color schemes and color palette for great color combin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fessionally designed templates for a fast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aded backgrounds make professional effects ea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5"/>
          <a:stretch/>
        </p:blipFill>
        <p:spPr>
          <a:xfrm>
            <a:off x="5218200" y="2860560"/>
            <a:ext cx="22874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2266920" y="2978280"/>
            <a:ext cx="2362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olor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8432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 txBox="1"/>
          <p:nvPr/>
        </p:nvSpPr>
        <p:spPr>
          <a:xfrm>
            <a:off x="359568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58632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247840" y="2959200"/>
            <a:ext cx="2362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olor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276640" y="3971880"/>
            <a:ext cx="29811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982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Over 5000 built-in schemes chosen by Genigraph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Color intelligence applies color as you type and dr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2338560" y="403848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3"/>
          <a:stretch/>
        </p:blipFill>
        <p:spPr>
          <a:xfrm>
            <a:off x="2138400" y="4667400"/>
            <a:ext cx="228600" cy="13320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 txBox="1"/>
          <p:nvPr/>
        </p:nvSpPr>
        <p:spPr>
          <a:xfrm>
            <a:off x="2266920" y="3952800"/>
            <a:ext cx="29811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982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ver 5000 built-in schemes chosen by Genigraph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lor intelligence applies color as you type and dr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845320" y="3787920"/>
            <a:ext cx="1905120" cy="114300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388120" y="3559320"/>
            <a:ext cx="76212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464080" y="3635280"/>
            <a:ext cx="609480" cy="152280"/>
          </a:xfrm>
          <a:prstGeom prst="rect">
            <a:avLst/>
          </a:prstGeom>
          <a:solidFill>
            <a:srgbClr val="00008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464080" y="4778280"/>
            <a:ext cx="609480" cy="15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464080" y="5006880"/>
            <a:ext cx="60948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464080" y="5235480"/>
            <a:ext cx="609480" cy="1522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464080" y="4092480"/>
            <a:ext cx="609480" cy="152280"/>
          </a:xfrm>
          <a:prstGeom prst="rect">
            <a:avLst/>
          </a:prstGeom>
          <a:solidFill>
            <a:srgbClr val="000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464080" y="3863880"/>
            <a:ext cx="60948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464080" y="4549680"/>
            <a:ext cx="609480" cy="152280"/>
          </a:xfrm>
          <a:prstGeom prst="rect">
            <a:avLst/>
          </a:prstGeom>
          <a:solidFill>
            <a:srgbClr val="0000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5464080" y="4321080"/>
            <a:ext cx="609480" cy="152280"/>
          </a:xfrm>
          <a:prstGeom prst="rect">
            <a:avLst/>
          </a:prstGeom>
          <a:solidFill>
            <a:srgbClr val="feff6e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69000" y="3711600"/>
            <a:ext cx="1905120" cy="1143000"/>
          </a:xfrm>
          <a:prstGeom prst="rect">
            <a:avLst/>
          </a:prstGeom>
          <a:solidFill>
            <a:srgbClr val="00008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5997600" y="4016520"/>
            <a:ext cx="1447920" cy="622440"/>
          </a:xfrm>
          <a:prstGeom prst="rect">
            <a:avLst/>
          </a:prstGeom>
          <a:solidFill>
            <a:srgbClr val="0000fd"/>
          </a:solidFill>
          <a:ln w="12600">
            <a:solidFill>
              <a:srgbClr val="a2c1fe"/>
            </a:solidFill>
            <a:round/>
          </a:ln>
          <a:effectLst>
            <a:outerShdw dist="0" dir="0" blurRad="0" rotWithShape="0">
              <a:srgbClr val="00004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od cho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ave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5985000" y="3762360"/>
            <a:ext cx="1266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eff6e"/>
                </a:solidFill>
                <a:latin typeface="Arial"/>
                <a:ea typeface="Arial"/>
              </a:rPr>
              <a:t>Color Sc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2181240" y="3809880"/>
            <a:ext cx="98100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295740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 txBox="1"/>
          <p:nvPr/>
        </p:nvSpPr>
        <p:spPr>
          <a:xfrm>
            <a:off x="371016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70044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162160" y="3800520"/>
            <a:ext cx="885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Pr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2"/>
          <a:stretch/>
        </p:blipFill>
        <p:spPr>
          <a:xfrm>
            <a:off x="1898640" y="3176640"/>
            <a:ext cx="1525680" cy="50796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3486240" y="2857680"/>
            <a:ext cx="4248000" cy="276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c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524400" y="2895480"/>
            <a:ext cx="4172040" cy="19044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Other Co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524400" y="2895480"/>
            <a:ext cx="181080" cy="19044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524400" y="2892600"/>
            <a:ext cx="4181400" cy="2698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4"/>
          <a:stretch/>
        </p:blipFill>
        <p:spPr>
          <a:xfrm>
            <a:off x="3556080" y="2967120"/>
            <a:ext cx="123840" cy="3816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 txBox="1"/>
          <p:nvPr/>
        </p:nvSpPr>
        <p:spPr>
          <a:xfrm>
            <a:off x="3505320" y="376236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3505320" y="393372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505320" y="411480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505320" y="429588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505320" y="447660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505320" y="465768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505320" y="482904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3505320" y="500076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240" indent="-57240"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772080" y="3409920"/>
            <a:ext cx="162000" cy="152280"/>
          </a:xfrm>
          <a:prstGeom prst="rect">
            <a:avLst/>
          </a:prstGeom>
          <a:solidFill>
            <a:srgbClr val="00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743280" y="3222720"/>
            <a:ext cx="219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124160" y="3222720"/>
            <a:ext cx="29520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444920" y="3222720"/>
            <a:ext cx="476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863960" y="3222720"/>
            <a:ext cx="476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r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5407200" y="3222720"/>
            <a:ext cx="304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079880" y="3079800"/>
            <a:ext cx="124776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lors of Selected 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200480" y="3409920"/>
            <a:ext cx="1620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610160" y="3409920"/>
            <a:ext cx="162000" cy="152280"/>
          </a:xfrm>
          <a:prstGeom prst="rect">
            <a:avLst/>
          </a:prstGeom>
          <a:solidFill>
            <a:srgbClr val="25001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029200" y="3409920"/>
            <a:ext cx="16200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495760" y="3409920"/>
            <a:ext cx="16200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730680" y="3371760"/>
            <a:ext cx="235080" cy="228600"/>
          </a:xfrm>
          <a:prstGeom prst="rect">
            <a:avLst/>
          </a:prstGeom>
          <a:noFill/>
          <a:ln w="25560">
            <a:solidFill>
              <a:srgbClr val="0000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733920" y="322884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143240" y="5423040"/>
            <a:ext cx="23796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5010120" y="5423040"/>
            <a:ext cx="2761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733920" y="3762360"/>
            <a:ext cx="181080" cy="181080"/>
          </a:xfrm>
          <a:prstGeom prst="rect">
            <a:avLst/>
          </a:prstGeom>
          <a:solidFill>
            <a:srgbClr val="41414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733920" y="3943440"/>
            <a:ext cx="181080" cy="171360"/>
          </a:xfrm>
          <a:prstGeom prst="rect">
            <a:avLst/>
          </a:prstGeom>
          <a:solidFill>
            <a:srgbClr val="dadada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733920" y="4114800"/>
            <a:ext cx="181080" cy="181080"/>
          </a:xfrm>
          <a:prstGeom prst="rect">
            <a:avLst/>
          </a:prstGeom>
          <a:solidFill>
            <a:srgbClr val="cecece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733920" y="4295880"/>
            <a:ext cx="181080" cy="171360"/>
          </a:xfrm>
          <a:prstGeom prst="rect">
            <a:avLst/>
          </a:prstGeom>
          <a:solidFill>
            <a:srgbClr val="91919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733920" y="4467240"/>
            <a:ext cx="181080" cy="181080"/>
          </a:xfrm>
          <a:prstGeom prst="rect">
            <a:avLst/>
          </a:prstGeom>
          <a:solidFill>
            <a:srgbClr val="676767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4648320"/>
            <a:ext cx="181080" cy="171360"/>
          </a:xfrm>
          <a:prstGeom prst="rect">
            <a:avLst/>
          </a:prstGeom>
          <a:solidFill>
            <a:srgbClr val="474747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733920" y="4819680"/>
            <a:ext cx="181080" cy="181080"/>
          </a:xfrm>
          <a:prstGeom prst="rect">
            <a:avLst/>
          </a:prstGeom>
          <a:solidFill>
            <a:srgbClr val="33333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733920" y="5000760"/>
            <a:ext cx="181080" cy="171360"/>
          </a:xfrm>
          <a:prstGeom prst="rect">
            <a:avLst/>
          </a:prstGeom>
          <a:solidFill>
            <a:srgbClr val="23232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914640" y="3762360"/>
            <a:ext cx="181080" cy="181080"/>
          </a:xfrm>
          <a:prstGeom prst="rect">
            <a:avLst/>
          </a:prstGeom>
          <a:solidFill>
            <a:srgbClr val="fc012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914640" y="3943440"/>
            <a:ext cx="181080" cy="171360"/>
          </a:xfrm>
          <a:prstGeom prst="rect">
            <a:avLst/>
          </a:prstGeom>
          <a:solidFill>
            <a:srgbClr val="ffc5c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14640" y="4114800"/>
            <a:ext cx="181080" cy="181080"/>
          </a:xfrm>
          <a:prstGeom prst="rect">
            <a:avLst/>
          </a:prstGeom>
          <a:solidFill>
            <a:srgbClr val="fda4b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914640" y="4295880"/>
            <a:ext cx="181080" cy="171360"/>
          </a:xfrm>
          <a:prstGeom prst="rect">
            <a:avLst/>
          </a:prstGeom>
          <a:solidFill>
            <a:srgbClr val="f766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914640" y="4467240"/>
            <a:ext cx="181080" cy="181080"/>
          </a:xfrm>
          <a:prstGeom prst="rect">
            <a:avLst/>
          </a:prstGeom>
          <a:solidFill>
            <a:srgbClr val="e5405d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914640" y="4648320"/>
            <a:ext cx="181080" cy="171360"/>
          </a:xfrm>
          <a:prstGeom prst="rect">
            <a:avLst/>
          </a:prstGeom>
          <a:solidFill>
            <a:srgbClr val="cf0e3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914640" y="4819680"/>
            <a:ext cx="181080" cy="181080"/>
          </a:xfrm>
          <a:prstGeom prst="rect">
            <a:avLst/>
          </a:prstGeom>
          <a:solidFill>
            <a:srgbClr val="79001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914640" y="5000760"/>
            <a:ext cx="181080" cy="171360"/>
          </a:xfrm>
          <a:prstGeom prst="rect">
            <a:avLst/>
          </a:prstGeom>
          <a:solidFill>
            <a:srgbClr val="3f000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095720" y="3762360"/>
            <a:ext cx="181080" cy="181080"/>
          </a:xfrm>
          <a:prstGeom prst="rect">
            <a:avLst/>
          </a:prstGeom>
          <a:solidFill>
            <a:srgbClr val="ff500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095720" y="3943440"/>
            <a:ext cx="181080" cy="171360"/>
          </a:xfrm>
          <a:prstGeom prst="rect">
            <a:avLst/>
          </a:prstGeom>
          <a:solidFill>
            <a:srgbClr val="fcd1c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095720" y="4114800"/>
            <a:ext cx="181080" cy="181080"/>
          </a:xfrm>
          <a:prstGeom prst="rect">
            <a:avLst/>
          </a:prstGeom>
          <a:solidFill>
            <a:srgbClr val="ffa27c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095720" y="4295880"/>
            <a:ext cx="181080" cy="171360"/>
          </a:xfrm>
          <a:prstGeom prst="rect">
            <a:avLst/>
          </a:prstGeom>
          <a:solidFill>
            <a:srgbClr val="f57b4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95720" y="4467240"/>
            <a:ext cx="181080" cy="181080"/>
          </a:xfrm>
          <a:prstGeom prst="rect">
            <a:avLst/>
          </a:prstGeom>
          <a:solidFill>
            <a:srgbClr val="f35b1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095720" y="4648320"/>
            <a:ext cx="181080" cy="171360"/>
          </a:xfrm>
          <a:prstGeom prst="rect">
            <a:avLst/>
          </a:prstGeom>
          <a:solidFill>
            <a:srgbClr val="bc37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095720" y="4819680"/>
            <a:ext cx="181080" cy="181080"/>
          </a:xfrm>
          <a:prstGeom prst="rect">
            <a:avLst/>
          </a:prstGeom>
          <a:solidFill>
            <a:srgbClr val="7120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95720" y="5000760"/>
            <a:ext cx="181080" cy="171360"/>
          </a:xfrm>
          <a:prstGeom prst="rect">
            <a:avLst/>
          </a:prstGeom>
          <a:solidFill>
            <a:srgbClr val="3e140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276800" y="3762360"/>
            <a:ext cx="181080" cy="181080"/>
          </a:xfrm>
          <a:prstGeom prst="rect">
            <a:avLst/>
          </a:prstGeom>
          <a:solidFill>
            <a:srgbClr val="fe9b0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76800" y="3943440"/>
            <a:ext cx="181080" cy="171360"/>
          </a:xfrm>
          <a:prstGeom prst="rect">
            <a:avLst/>
          </a:prstGeom>
          <a:solidFill>
            <a:srgbClr val="fde3ba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276800" y="4114800"/>
            <a:ext cx="181080" cy="181080"/>
          </a:xfrm>
          <a:prstGeom prst="rect">
            <a:avLst/>
          </a:prstGeom>
          <a:solidFill>
            <a:srgbClr val="f6bf6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276800" y="4295880"/>
            <a:ext cx="181080" cy="171360"/>
          </a:xfrm>
          <a:prstGeom prst="rect">
            <a:avLst/>
          </a:prstGeom>
          <a:solidFill>
            <a:srgbClr val="ef91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276800" y="4467240"/>
            <a:ext cx="181080" cy="181080"/>
          </a:xfrm>
          <a:prstGeom prst="rect">
            <a:avLst/>
          </a:prstGeom>
          <a:solidFill>
            <a:srgbClr val="ad6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276800" y="4648320"/>
            <a:ext cx="181080" cy="171360"/>
          </a:xfrm>
          <a:prstGeom prst="rect">
            <a:avLst/>
          </a:prstGeom>
          <a:solidFill>
            <a:srgbClr val="7144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276800" y="4819680"/>
            <a:ext cx="181080" cy="181080"/>
          </a:xfrm>
          <a:prstGeom prst="rect">
            <a:avLst/>
          </a:prstGeom>
          <a:solidFill>
            <a:srgbClr val="4c2e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276800" y="5000760"/>
            <a:ext cx="181080" cy="171360"/>
          </a:xfrm>
          <a:prstGeom prst="rect">
            <a:avLst/>
          </a:prstGeom>
          <a:solidFill>
            <a:srgbClr val="3720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457880" y="3762360"/>
            <a:ext cx="181080" cy="181080"/>
          </a:xfrm>
          <a:prstGeom prst="rect">
            <a:avLst/>
          </a:prstGeom>
          <a:solidFill>
            <a:srgbClr val="fafd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457880" y="3943440"/>
            <a:ext cx="181080" cy="171360"/>
          </a:xfrm>
          <a:prstGeom prst="rect">
            <a:avLst/>
          </a:prstGeom>
          <a:solidFill>
            <a:srgbClr val="fcfeb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57880" y="4114800"/>
            <a:ext cx="181080" cy="181080"/>
          </a:xfrm>
          <a:prstGeom prst="rect">
            <a:avLst/>
          </a:prstGeom>
          <a:solidFill>
            <a:srgbClr val="eaec5e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57880" y="4295880"/>
            <a:ext cx="181080" cy="171360"/>
          </a:xfrm>
          <a:prstGeom prst="rect">
            <a:avLst/>
          </a:prstGeom>
          <a:solidFill>
            <a:srgbClr val="b3b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57880" y="4467240"/>
            <a:ext cx="181080" cy="181080"/>
          </a:xfrm>
          <a:prstGeom prst="rect">
            <a:avLst/>
          </a:prstGeom>
          <a:solidFill>
            <a:srgbClr val="767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57880" y="4648320"/>
            <a:ext cx="181080" cy="171360"/>
          </a:xfrm>
          <a:prstGeom prst="rect">
            <a:avLst/>
          </a:prstGeom>
          <a:solidFill>
            <a:srgbClr val="4e4f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7880" y="4819680"/>
            <a:ext cx="181080" cy="181080"/>
          </a:xfrm>
          <a:prstGeom prst="rect">
            <a:avLst/>
          </a:prstGeom>
          <a:solidFill>
            <a:srgbClr val="3a3c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457880" y="5000760"/>
            <a:ext cx="181080" cy="171360"/>
          </a:xfrm>
          <a:prstGeom prst="rect">
            <a:avLst/>
          </a:prstGeom>
          <a:solidFill>
            <a:srgbClr val="282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638600" y="3762360"/>
            <a:ext cx="181080" cy="181080"/>
          </a:xfrm>
          <a:prstGeom prst="rect">
            <a:avLst/>
          </a:prstGeom>
          <a:solidFill>
            <a:srgbClr val="7fff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638600" y="3943440"/>
            <a:ext cx="181080" cy="171360"/>
          </a:xfrm>
          <a:prstGeom prst="rect">
            <a:avLst/>
          </a:prstGeom>
          <a:solidFill>
            <a:srgbClr val="dbffb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38600" y="4114800"/>
            <a:ext cx="181080" cy="181080"/>
          </a:xfrm>
          <a:prstGeom prst="rect">
            <a:avLst/>
          </a:prstGeom>
          <a:solidFill>
            <a:srgbClr val="a3f25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38600" y="4295880"/>
            <a:ext cx="181080" cy="171360"/>
          </a:xfrm>
          <a:prstGeom prst="rect">
            <a:avLst/>
          </a:prstGeom>
          <a:solidFill>
            <a:srgbClr val="60c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38600" y="4467240"/>
            <a:ext cx="181080" cy="181080"/>
          </a:xfrm>
          <a:prstGeom prst="rect">
            <a:avLst/>
          </a:prstGeom>
          <a:solidFill>
            <a:srgbClr val="438e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638600" y="4648320"/>
            <a:ext cx="181080" cy="171360"/>
          </a:xfrm>
          <a:prstGeom prst="rect">
            <a:avLst/>
          </a:prstGeom>
          <a:solidFill>
            <a:srgbClr val="31650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38600" y="4819680"/>
            <a:ext cx="181080" cy="181080"/>
          </a:xfrm>
          <a:prstGeom prst="rect">
            <a:avLst/>
          </a:prstGeom>
          <a:solidFill>
            <a:srgbClr val="1f43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38600" y="5000760"/>
            <a:ext cx="181080" cy="171360"/>
          </a:xfrm>
          <a:prstGeom prst="rect">
            <a:avLst/>
          </a:prstGeom>
          <a:solidFill>
            <a:srgbClr val="1834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819680" y="3762360"/>
            <a:ext cx="181080" cy="181080"/>
          </a:xfrm>
          <a:prstGeom prst="rect">
            <a:avLst/>
          </a:prstGeom>
          <a:solidFill>
            <a:srgbClr val="00ff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819680" y="3943440"/>
            <a:ext cx="181080" cy="171360"/>
          </a:xfrm>
          <a:prstGeom prst="rect">
            <a:avLst/>
          </a:prstGeom>
          <a:solidFill>
            <a:srgbClr val="c8fec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819680" y="4114800"/>
            <a:ext cx="181080" cy="181080"/>
          </a:xfrm>
          <a:prstGeom prst="rect">
            <a:avLst/>
          </a:prstGeom>
          <a:solidFill>
            <a:srgbClr val="a2ffa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819680" y="4295880"/>
            <a:ext cx="181080" cy="171360"/>
          </a:xfrm>
          <a:prstGeom prst="rect">
            <a:avLst/>
          </a:prstGeom>
          <a:solidFill>
            <a:srgbClr val="51dc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819680" y="4467240"/>
            <a:ext cx="181080" cy="181080"/>
          </a:xfrm>
          <a:prstGeom prst="rect">
            <a:avLst/>
          </a:prstGeom>
          <a:solidFill>
            <a:srgbClr val="00ae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819680" y="4648320"/>
            <a:ext cx="181080" cy="171360"/>
          </a:xfrm>
          <a:prstGeom prst="rect">
            <a:avLst/>
          </a:prstGeom>
          <a:solidFill>
            <a:srgbClr val="037c0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819680" y="4819680"/>
            <a:ext cx="181080" cy="181080"/>
          </a:xfrm>
          <a:prstGeom prst="rect">
            <a:avLst/>
          </a:prstGeom>
          <a:solidFill>
            <a:srgbClr val="0054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819680" y="5000760"/>
            <a:ext cx="181080" cy="171360"/>
          </a:xfrm>
          <a:prstGeom prst="rect">
            <a:avLst/>
          </a:prstGeom>
          <a:solidFill>
            <a:srgbClr val="003e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000760" y="3762360"/>
            <a:ext cx="181080" cy="181080"/>
          </a:xfrm>
          <a:prstGeom prst="rect">
            <a:avLst/>
          </a:prstGeom>
          <a:solidFill>
            <a:srgbClr val="00dfca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000760" y="3943440"/>
            <a:ext cx="181080" cy="171360"/>
          </a:xfrm>
          <a:prstGeom prst="rect">
            <a:avLst/>
          </a:prstGeom>
          <a:solidFill>
            <a:srgbClr val="c0fef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000760" y="4114800"/>
            <a:ext cx="181080" cy="181080"/>
          </a:xfrm>
          <a:prstGeom prst="rect">
            <a:avLst/>
          </a:prstGeom>
          <a:solidFill>
            <a:srgbClr val="8cf4ea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000760" y="4295880"/>
            <a:ext cx="181080" cy="171360"/>
          </a:xfrm>
          <a:prstGeom prst="rect">
            <a:avLst/>
          </a:prstGeom>
          <a:solidFill>
            <a:srgbClr val="dc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000760" y="4467240"/>
            <a:ext cx="181080" cy="181080"/>
          </a:xfrm>
          <a:prstGeom prst="rect">
            <a:avLst/>
          </a:prstGeom>
          <a:solidFill>
            <a:srgbClr val="00968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000760" y="4648320"/>
            <a:ext cx="181080" cy="171360"/>
          </a:xfrm>
          <a:prstGeom prst="rect">
            <a:avLst/>
          </a:prstGeom>
          <a:solidFill>
            <a:srgbClr val="006b6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000760" y="4819680"/>
            <a:ext cx="181080" cy="181080"/>
          </a:xfrm>
          <a:prstGeom prst="rect">
            <a:avLst/>
          </a:prstGeom>
          <a:solidFill>
            <a:srgbClr val="004e47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000760" y="5000760"/>
            <a:ext cx="181080" cy="171360"/>
          </a:xfrm>
          <a:prstGeom prst="rect">
            <a:avLst/>
          </a:prstGeom>
          <a:solidFill>
            <a:srgbClr val="00353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181480" y="3762360"/>
            <a:ext cx="181080" cy="181080"/>
          </a:xfrm>
          <a:prstGeom prst="rect">
            <a:avLst/>
          </a:prstGeom>
          <a:solidFill>
            <a:srgbClr val="114ff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181480" y="3943440"/>
            <a:ext cx="181080" cy="171360"/>
          </a:xfrm>
          <a:prstGeom prst="rect">
            <a:avLst/>
          </a:prstGeom>
          <a:solidFill>
            <a:srgbClr val="c1ce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81480" y="4114800"/>
            <a:ext cx="181080" cy="181080"/>
          </a:xfrm>
          <a:prstGeom prst="rect">
            <a:avLst/>
          </a:prstGeom>
          <a:solidFill>
            <a:srgbClr val="a2c1fe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181480" y="4295880"/>
            <a:ext cx="181080" cy="171360"/>
          </a:xfrm>
          <a:prstGeom prst="rect">
            <a:avLst/>
          </a:prstGeom>
          <a:solidFill>
            <a:srgbClr val="618ffd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181480" y="4467240"/>
            <a:ext cx="181080" cy="181080"/>
          </a:xfrm>
          <a:prstGeom prst="rect">
            <a:avLst/>
          </a:prstGeom>
          <a:solidFill>
            <a:srgbClr val="3365f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181480" y="4648320"/>
            <a:ext cx="181080" cy="171360"/>
          </a:xfrm>
          <a:prstGeom prst="rect">
            <a:avLst/>
          </a:prstGeom>
          <a:solidFill>
            <a:srgbClr val="063de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181480" y="4819680"/>
            <a:ext cx="181080" cy="181080"/>
          </a:xfrm>
          <a:prstGeom prst="rect">
            <a:avLst/>
          </a:prstGeom>
          <a:solidFill>
            <a:srgbClr val="00279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181480" y="5000760"/>
            <a:ext cx="181080" cy="171360"/>
          </a:xfrm>
          <a:prstGeom prst="rect">
            <a:avLst/>
          </a:prstGeom>
          <a:solidFill>
            <a:srgbClr val="081d5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362560" y="3762360"/>
            <a:ext cx="181080" cy="181080"/>
          </a:xfrm>
          <a:prstGeom prst="rect">
            <a:avLst/>
          </a:prstGeom>
          <a:solidFill>
            <a:srgbClr val="8901f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362560" y="3943440"/>
            <a:ext cx="181080" cy="171360"/>
          </a:xfrm>
          <a:prstGeom prst="rect">
            <a:avLst/>
          </a:prstGeom>
          <a:solidFill>
            <a:srgbClr val="e3be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362560" y="4114800"/>
            <a:ext cx="181080" cy="181080"/>
          </a:xfrm>
          <a:prstGeom prst="rect">
            <a:avLst/>
          </a:prstGeom>
          <a:solidFill>
            <a:srgbClr val="d49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62560" y="4295880"/>
            <a:ext cx="181080" cy="171360"/>
          </a:xfrm>
          <a:prstGeom prst="rect">
            <a:avLst/>
          </a:prstGeom>
          <a:solidFill>
            <a:srgbClr val="b760f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362560" y="4467240"/>
            <a:ext cx="181080" cy="181080"/>
          </a:xfrm>
          <a:prstGeom prst="rect">
            <a:avLst/>
          </a:prstGeom>
          <a:solidFill>
            <a:srgbClr val="9234d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362560" y="4648320"/>
            <a:ext cx="181080" cy="171360"/>
          </a:xfrm>
          <a:prstGeom prst="rect">
            <a:avLst/>
          </a:prstGeom>
          <a:solidFill>
            <a:srgbClr val="7b00e4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362560" y="4819680"/>
            <a:ext cx="181080" cy="181080"/>
          </a:xfrm>
          <a:prstGeom prst="rect">
            <a:avLst/>
          </a:prstGeom>
          <a:solidFill>
            <a:srgbClr val="50009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362560" y="5000760"/>
            <a:ext cx="181080" cy="171360"/>
          </a:xfrm>
          <a:prstGeom prst="rect">
            <a:avLst/>
          </a:prstGeom>
          <a:solidFill>
            <a:srgbClr val="28004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543640" y="3762360"/>
            <a:ext cx="181080" cy="181080"/>
          </a:xfrm>
          <a:prstGeom prst="rect">
            <a:avLst/>
          </a:prstGeom>
          <a:solidFill>
            <a:srgbClr val="dc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543640" y="3943440"/>
            <a:ext cx="181080" cy="171360"/>
          </a:xfrm>
          <a:prstGeom prst="rect">
            <a:avLst/>
          </a:prstGeom>
          <a:solidFill>
            <a:srgbClr val="fdc0e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43640" y="4114800"/>
            <a:ext cx="181080" cy="181080"/>
          </a:xfrm>
          <a:prstGeom prst="rect">
            <a:avLst/>
          </a:prstGeom>
          <a:solidFill>
            <a:srgbClr val="f39fd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543640" y="4295880"/>
            <a:ext cx="181080" cy="171360"/>
          </a:xfrm>
          <a:prstGeom prst="rect">
            <a:avLst/>
          </a:prstGeom>
          <a:solidFill>
            <a:srgbClr val="f95ab7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43640" y="4467240"/>
            <a:ext cx="181080" cy="181080"/>
          </a:xfrm>
          <a:prstGeom prst="rect">
            <a:avLst/>
          </a:prstGeom>
          <a:solidFill>
            <a:srgbClr val="d93192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543640" y="4648320"/>
            <a:ext cx="181080" cy="171360"/>
          </a:xfrm>
          <a:prstGeom prst="rect">
            <a:avLst/>
          </a:prstGeom>
          <a:solidFill>
            <a:srgbClr val="b5006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43640" y="4819680"/>
            <a:ext cx="181080" cy="181080"/>
          </a:xfrm>
          <a:prstGeom prst="rect">
            <a:avLst/>
          </a:prstGeom>
          <a:solidFill>
            <a:srgbClr val="6e004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543640" y="5000760"/>
            <a:ext cx="181080" cy="171360"/>
          </a:xfrm>
          <a:prstGeom prst="rect">
            <a:avLst/>
          </a:prstGeom>
          <a:solidFill>
            <a:srgbClr val="3c002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369576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14640" y="5248440"/>
            <a:ext cx="7142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09960" y="5248440"/>
            <a:ext cx="71424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5334120" y="3591000"/>
            <a:ext cx="23796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514332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496260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4781520" y="3591000"/>
            <a:ext cx="2570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461016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4410000" y="3591000"/>
            <a:ext cx="2761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Y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4057560" y="3591000"/>
            <a:ext cx="2570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423864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Y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76840" y="3591000"/>
            <a:ext cx="2570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550548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886360" y="3524400"/>
            <a:ext cx="181080" cy="190440"/>
          </a:xfrm>
          <a:prstGeom prst="rect">
            <a:avLst/>
          </a:prstGeom>
          <a:solidFill>
            <a:srgbClr val="dc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886360" y="4000680"/>
            <a:ext cx="181080" cy="190440"/>
          </a:xfrm>
          <a:prstGeom prst="rect">
            <a:avLst/>
          </a:prstGeom>
          <a:solidFill>
            <a:srgbClr val="25001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886360" y="4229280"/>
            <a:ext cx="181080" cy="190440"/>
          </a:xfrm>
          <a:prstGeom prst="rect">
            <a:avLst/>
          </a:prstGeom>
          <a:solidFill>
            <a:srgbClr val="feff6e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886360" y="4467240"/>
            <a:ext cx="181080" cy="190440"/>
          </a:xfrm>
          <a:prstGeom prst="rect">
            <a:avLst/>
          </a:prstGeom>
          <a:solidFill>
            <a:srgbClr val="00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886360" y="4705200"/>
            <a:ext cx="181080" cy="190440"/>
          </a:xfrm>
          <a:prstGeom prst="rect">
            <a:avLst/>
          </a:prstGeom>
          <a:solidFill>
            <a:srgbClr val="00787c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886360" y="4943520"/>
            <a:ext cx="181080" cy="181080"/>
          </a:xfrm>
          <a:prstGeom prst="rect">
            <a:avLst/>
          </a:prstGeom>
          <a:solidFill>
            <a:srgbClr val="69495d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886360" y="5172120"/>
            <a:ext cx="181080" cy="190440"/>
          </a:xfrm>
          <a:prstGeom prst="rect">
            <a:avLst/>
          </a:prstGeom>
          <a:solidFill>
            <a:srgbClr val="63003c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5740560" y="3168720"/>
            <a:ext cx="47628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che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838840" y="3486240"/>
            <a:ext cx="276120" cy="19335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6168960" y="3168720"/>
            <a:ext cx="38088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l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276960" y="3524400"/>
            <a:ext cx="181080" cy="190440"/>
          </a:xfrm>
          <a:prstGeom prst="rect">
            <a:avLst/>
          </a:prstGeom>
          <a:solidFill>
            <a:srgbClr val="9e025d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276960" y="4000680"/>
            <a:ext cx="181080" cy="190440"/>
          </a:xfrm>
          <a:prstGeom prst="rect">
            <a:avLst/>
          </a:prstGeom>
          <a:solidFill>
            <a:srgbClr val="f3f3f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276960" y="4229280"/>
            <a:ext cx="181080" cy="190440"/>
          </a:xfrm>
          <a:prstGeom prst="rect">
            <a:avLst/>
          </a:prstGeom>
          <a:solidFill>
            <a:srgbClr val="8181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276960" y="4467240"/>
            <a:ext cx="181080" cy="190440"/>
          </a:xfrm>
          <a:prstGeom prst="rect">
            <a:avLst/>
          </a:prstGeom>
          <a:solidFill>
            <a:srgbClr val="bfbfb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229440" y="3486240"/>
            <a:ext cx="276120" cy="19335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886360" y="3772080"/>
            <a:ext cx="181080" cy="19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276960" y="3772080"/>
            <a:ext cx="181080" cy="190440"/>
          </a:xfrm>
          <a:prstGeom prst="rect">
            <a:avLst/>
          </a:prstGeom>
          <a:solidFill>
            <a:srgbClr val="00126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6"/>
          <a:stretch/>
        </p:blipFill>
        <p:spPr>
          <a:xfrm>
            <a:off x="6794640" y="3178080"/>
            <a:ext cx="600120" cy="57168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 txBox="1"/>
          <p:nvPr/>
        </p:nvSpPr>
        <p:spPr>
          <a:xfrm>
            <a:off x="6835680" y="3905280"/>
            <a:ext cx="476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ll Co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7"/>
          <a:stretch/>
        </p:blipFill>
        <p:spPr>
          <a:xfrm>
            <a:off x="6572160" y="4962600"/>
            <a:ext cx="1057320" cy="26676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6696000" y="4095720"/>
            <a:ext cx="781200" cy="800280"/>
          </a:xfrm>
          <a:prstGeom prst="rect">
            <a:avLst/>
          </a:prstGeom>
          <a:solidFill>
            <a:srgbClr val="00008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 txBox="1"/>
          <p:nvPr/>
        </p:nvSpPr>
        <p:spPr>
          <a:xfrm>
            <a:off x="4014720" y="2847960"/>
            <a:ext cx="19717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1"/>
          <a:stretch/>
        </p:blipFill>
        <p:spPr>
          <a:xfrm>
            <a:off x="286704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249" name=""/>
          <p:cNvSpPr txBox="1"/>
          <p:nvPr/>
        </p:nvSpPr>
        <p:spPr>
          <a:xfrm>
            <a:off x="3619440" y="210816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3610080" y="209880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995640" y="2828880"/>
            <a:ext cx="19717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533840" y="3624120"/>
            <a:ext cx="1143000" cy="0"/>
          </a:xfrm>
          <a:prstGeom prst="line">
            <a:avLst/>
          </a:prstGeom>
          <a:ln w="50760">
            <a:solidFill>
              <a:srgbClr val="25001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514760" y="3605040"/>
            <a:ext cx="1143000" cy="0"/>
          </a:xfrm>
          <a:prstGeom prst="line">
            <a:avLst/>
          </a:prstGeom>
          <a:ln w="507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533680" y="2895480"/>
            <a:ext cx="1352520" cy="10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143080" y="3952800"/>
            <a:ext cx="2114640" cy="6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143080" y="4457880"/>
            <a:ext cx="2114640" cy="1332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143080" y="4095720"/>
            <a:ext cx="2114640" cy="381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143080" y="4124160"/>
            <a:ext cx="21146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143080" y="4067280"/>
            <a:ext cx="21146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295800" y="4067280"/>
            <a:ext cx="428760" cy="381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753000" y="4067280"/>
            <a:ext cx="428760" cy="38160"/>
          </a:xfrm>
          <a:prstGeom prst="rect">
            <a:avLst/>
          </a:prstGeom>
          <a:solidFill>
            <a:srgbClr val="818181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3"/>
          <a:stretch/>
        </p:blipFill>
        <p:spPr>
          <a:xfrm>
            <a:off x="2444760" y="4321080"/>
            <a:ext cx="301680" cy="85680"/>
          </a:xfrm>
          <a:prstGeom prst="rect">
            <a:avLst/>
          </a:prstGeom>
          <a:ln w="0">
            <a:noFill/>
          </a:ln>
        </p:spPr>
      </p:pic>
      <p:sp>
        <p:nvSpPr>
          <p:cNvPr id="1263" name=""/>
          <p:cNvSpPr/>
          <p:nvPr/>
        </p:nvSpPr>
        <p:spPr>
          <a:xfrm>
            <a:off x="3686040" y="380988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f3f3f3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686040" y="380988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686040" y="3809880"/>
            <a:ext cx="6696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657520" y="3029040"/>
            <a:ext cx="1095480" cy="70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7" name="" descr=""/>
          <p:cNvPicPr/>
          <p:nvPr/>
        </p:nvPicPr>
        <p:blipFill>
          <a:blip r:embed="rId4"/>
          <a:stretch/>
        </p:blipFill>
        <p:spPr>
          <a:xfrm>
            <a:off x="2346480" y="4282920"/>
            <a:ext cx="63360" cy="10476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5"/>
          <a:stretch/>
        </p:blipFill>
        <p:spPr>
          <a:xfrm>
            <a:off x="2670120" y="3759120"/>
            <a:ext cx="63360" cy="10476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6"/>
          <a:stretch/>
        </p:blipFill>
        <p:spPr>
          <a:xfrm>
            <a:off x="2778120" y="311796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2809800" y="334332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933640" y="326700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057480" y="329580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181320" y="341964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295800" y="347652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409920" y="353376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543480" y="353376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771640" y="361944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2800440" y="309564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149880" y="4033800"/>
            <a:ext cx="1533600" cy="628560"/>
          </a:xfrm>
          <a:prstGeom prst="rect">
            <a:avLst/>
          </a:prstGeom>
          <a:solidFill>
            <a:srgbClr val="25001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311880" y="3909960"/>
            <a:ext cx="1038240" cy="4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168960" y="2909880"/>
            <a:ext cx="1352520" cy="10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7321680" y="383364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7321680" y="383364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7321680" y="383364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283440" y="3052800"/>
            <a:ext cx="1095480" cy="70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264360" y="3024360"/>
            <a:ext cx="1143000" cy="7621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35560" y="2995560"/>
            <a:ext cx="1200240" cy="81900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73920" y="4376880"/>
            <a:ext cx="1533600" cy="209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073920" y="4471920"/>
            <a:ext cx="200160" cy="11448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175520" y="4462560"/>
            <a:ext cx="422280" cy="123840"/>
          </a:xfrm>
          <a:prstGeom prst="rect">
            <a:avLst/>
          </a:prstGeom>
          <a:solidFill>
            <a:srgbClr val="bfbfb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073920" y="3957480"/>
            <a:ext cx="1533600" cy="5428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492960" y="3995640"/>
            <a:ext cx="676440" cy="447840"/>
          </a:xfrm>
          <a:prstGeom prst="round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254720" y="413856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350120" y="4157640"/>
            <a:ext cx="133200" cy="95400"/>
          </a:xfrm>
          <a:prstGeom prst="rect">
            <a:avLst/>
          </a:prstGeom>
          <a:solidFill>
            <a:srgbClr val="bfbfbf"/>
          </a:solidFill>
          <a:ln w="12600">
            <a:solidFill>
              <a:srgbClr val="676767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254720" y="4281480"/>
            <a:ext cx="26676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521480" y="4138560"/>
            <a:ext cx="0" cy="14292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492960" y="3986280"/>
            <a:ext cx="106668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492960" y="3986280"/>
            <a:ext cx="0" cy="4665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92960" y="4452840"/>
            <a:ext cx="10666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7559640" y="3995640"/>
            <a:ext cx="0" cy="45720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02320" y="3995640"/>
            <a:ext cx="66672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502320" y="3995640"/>
            <a:ext cx="0" cy="447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502320" y="4443480"/>
            <a:ext cx="66672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178760" y="3995640"/>
            <a:ext cx="0" cy="44784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083280" y="406224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083280" y="404352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083280" y="438624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083280" y="436716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254720" y="406224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254720" y="404352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254720" y="4386240"/>
            <a:ext cx="343080" cy="0"/>
          </a:xfrm>
          <a:prstGeom prst="line">
            <a:avLst/>
          </a:prstGeom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254720" y="4367160"/>
            <a:ext cx="35244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2040" y="411948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512040" y="4262400"/>
            <a:ext cx="6476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654960" y="400536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654960" y="400536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654960" y="400536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654960" y="4138560"/>
            <a:ext cx="266760" cy="1047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654960" y="413856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654960" y="4138560"/>
            <a:ext cx="0" cy="10476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654960" y="4281480"/>
            <a:ext cx="266760" cy="142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54960" y="4281480"/>
            <a:ext cx="26640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654960" y="4281480"/>
            <a:ext cx="0" cy="14292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6149880" y="4167360"/>
            <a:ext cx="190440" cy="6660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6130800" y="4157640"/>
            <a:ext cx="190440" cy="66600"/>
          </a:xfrm>
          <a:prstGeom prst="ellipse">
            <a:avLst/>
          </a:prstGeom>
          <a:solidFill>
            <a:srgbClr val="f3f3f3"/>
          </a:solidFill>
          <a:ln w="12600">
            <a:solidFill>
              <a:srgbClr val="919191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168960" y="4195800"/>
            <a:ext cx="114480" cy="0"/>
          </a:xfrm>
          <a:prstGeom prst="line">
            <a:avLst/>
          </a:prstGeom>
          <a:ln w="12600">
            <a:solidFill>
              <a:srgbClr val="9e0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550200" y="4052880"/>
            <a:ext cx="57132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550200" y="4043520"/>
            <a:ext cx="58068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626160" y="4186080"/>
            <a:ext cx="41904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626160" y="4176720"/>
            <a:ext cx="40968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959520" y="422424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959520" y="421488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016760" y="4024440"/>
            <a:ext cx="76320" cy="0"/>
          </a:xfrm>
          <a:prstGeom prst="line">
            <a:avLst/>
          </a:prstGeom>
          <a:ln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7016760" y="4014720"/>
            <a:ext cx="66600" cy="0"/>
          </a:xfrm>
          <a:prstGeom prst="line">
            <a:avLst/>
          </a:prstGeom>
          <a:ln w="12600">
            <a:solidFill>
              <a:srgbClr val="f3f3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264440" y="4214880"/>
            <a:ext cx="66600" cy="38160"/>
          </a:xfrm>
          <a:prstGeom prst="rect">
            <a:avLst/>
          </a:prstGeom>
          <a:solidFill>
            <a:srgbClr val="7fff00"/>
          </a:solidFill>
          <a:ln w="12600">
            <a:solidFill>
              <a:srgbClr val="bfbfbf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264440" y="4214880"/>
            <a:ext cx="0" cy="381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264440" y="4214880"/>
            <a:ext cx="6660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359480" y="4186080"/>
            <a:ext cx="38160" cy="38160"/>
          </a:xfrm>
          <a:prstGeom prst="ellipse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7454880" y="4176720"/>
            <a:ext cx="0" cy="4752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73800" y="4376880"/>
            <a:ext cx="57240" cy="0"/>
          </a:xfrm>
          <a:prstGeom prst="line">
            <a:avLst/>
          </a:prstGeom>
          <a:ln w="12600">
            <a:solidFill>
              <a:srgbClr val="2500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8"/>
          <a:stretch/>
        </p:blipFill>
        <p:spPr>
          <a:xfrm>
            <a:off x="6407280" y="3141720"/>
            <a:ext cx="851040" cy="53028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>
            <a:off x="6438960" y="3367080"/>
            <a:ext cx="57240" cy="276120"/>
          </a:xfrm>
          <a:prstGeom prst="rect">
            <a:avLst/>
          </a:prstGeom>
          <a:solidFill>
            <a:srgbClr val="00787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62800" y="3290760"/>
            <a:ext cx="57240" cy="352440"/>
          </a:xfrm>
          <a:prstGeom prst="rect">
            <a:avLst/>
          </a:prstGeom>
          <a:solidFill>
            <a:srgbClr val="feff6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686640" y="3319560"/>
            <a:ext cx="57240" cy="324000"/>
          </a:xfrm>
          <a:prstGeom prst="rect">
            <a:avLst/>
          </a:prstGeom>
          <a:solidFill>
            <a:srgbClr val="7f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810480" y="3443400"/>
            <a:ext cx="57240" cy="200160"/>
          </a:xfrm>
          <a:prstGeom prst="rect">
            <a:avLst/>
          </a:prstGeom>
          <a:solidFill>
            <a:srgbClr val="bfbfb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924600" y="3500280"/>
            <a:ext cx="66600" cy="1429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039080" y="3557520"/>
            <a:ext cx="76320" cy="85680"/>
          </a:xfrm>
          <a:prstGeom prst="rect">
            <a:avLst/>
          </a:prstGeom>
          <a:solidFill>
            <a:srgbClr val="81004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172280" y="3557520"/>
            <a:ext cx="57240" cy="85680"/>
          </a:xfrm>
          <a:prstGeom prst="rect">
            <a:avLst/>
          </a:prstGeom>
          <a:solidFill>
            <a:srgbClr val="8181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400800" y="364320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6429240" y="3119400"/>
            <a:ext cx="714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 u="sng">
                <a:solidFill>
                  <a:srgbClr val="feff6e"/>
                </a:solidFill>
                <a:uFillTx/>
                <a:latin typeface="Arial"/>
                <a:ea typeface="Arial"/>
              </a:rPr>
              <a:t>Market Sh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2514600" y="4861080"/>
            <a:ext cx="50007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e presentations between the Apple Macintosh and Windows 3.0 personal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486160" y="4859280"/>
            <a:ext cx="49975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hare presentations between the Apple Macintosh and Windows 3.0 personal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121440" y="4510080"/>
            <a:ext cx="1438200" cy="0"/>
          </a:xfrm>
          <a:prstGeom prst="line">
            <a:avLst/>
          </a:prstGeom>
          <a:ln w="12600">
            <a:solidFill>
              <a:srgbClr val="81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9"/>
          <a:stretch/>
        </p:blipFill>
        <p:spPr>
          <a:xfrm>
            <a:off x="2041560" y="4792680"/>
            <a:ext cx="349200" cy="42228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0"/>
          <a:stretch/>
        </p:blipFill>
        <p:spPr>
          <a:xfrm>
            <a:off x="6167520" y="5448240"/>
            <a:ext cx="1719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2647800" y="3133800"/>
            <a:ext cx="310500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Solution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Professional-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Presenta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291456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 txBox="1"/>
          <p:nvPr/>
        </p:nvSpPr>
        <p:spPr>
          <a:xfrm>
            <a:off x="3743280" y="2124000"/>
            <a:ext cx="2800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733920" y="2104920"/>
            <a:ext cx="2800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2631960" y="3130560"/>
            <a:ext cx="310500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Solution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Professional-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Presenta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4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479760" y="1562040"/>
            <a:ext cx="28576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S I N E S S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 A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01680" y="1797120"/>
            <a:ext cx="5629320" cy="3838680"/>
          </a:xfrm>
          <a:prstGeom prst="rect">
            <a:avLst/>
          </a:prstGeom>
          <a:noFill/>
          <a:ln w="25560">
            <a:solidFill>
              <a:srgbClr val="081d5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301840" y="5489640"/>
            <a:ext cx="1943280" cy="228600"/>
          </a:xfrm>
          <a:prstGeom prst="rect">
            <a:avLst/>
          </a:prstGeom>
          <a:solidFill>
            <a:srgbClr val="0004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4f9"/>
                </a:solidFill>
                <a:latin typeface="Arial"/>
                <a:ea typeface="Arial"/>
              </a:rPr>
              <a:t>New World Exped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019920" y="5492880"/>
            <a:ext cx="1380960" cy="228600"/>
          </a:xfrm>
          <a:prstGeom prst="rect">
            <a:avLst/>
          </a:prstGeom>
          <a:solidFill>
            <a:srgbClr val="0004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4f9"/>
                </a:solidFill>
                <a:latin typeface="Arial"/>
                <a:ea typeface="Arial"/>
              </a:rPr>
              <a:t>March 14, 149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479760" y="1562040"/>
            <a:ext cx="28576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S I N E S S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 A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429000" y="1523880"/>
            <a:ext cx="28576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0f0f0"/>
                </a:solidFill>
                <a:latin typeface="Times New Roman"/>
                <a:ea typeface="Times New Roman"/>
              </a:rPr>
              <a:t>B</a:t>
            </a:r>
            <a:r>
              <a:rPr b="1" lang="en-US" sz="1800" spc="-1" strike="noStrike">
                <a:solidFill>
                  <a:srgbClr val="f0f0f0"/>
                </a:solidFill>
                <a:latin typeface="Times New Roman"/>
                <a:ea typeface="Times New Roman"/>
              </a:rPr>
              <a:t> U S I N E S S   </a:t>
            </a:r>
            <a:r>
              <a:rPr b="1" lang="en-US" sz="2400" spc="-1" strike="noStrike">
                <a:solidFill>
                  <a:srgbClr val="f0f0f0"/>
                </a:solidFill>
                <a:latin typeface="Times New Roman"/>
                <a:ea typeface="Times New Roman"/>
              </a:rPr>
              <a:t>P </a:t>
            </a:r>
            <a:r>
              <a:rPr b="1" lang="en-US" sz="1800" spc="-1" strike="noStrike">
                <a:solidFill>
                  <a:srgbClr val="f0f0f0"/>
                </a:solidFill>
                <a:latin typeface="Times New Roman"/>
                <a:ea typeface="Times New Roman"/>
              </a:rPr>
              <a:t>L A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718080" y="2155680"/>
            <a:ext cx="23526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Presented to Her Royal Maj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QUEEN  ISAB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B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0" y="241452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533840" y="238608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428920" y="2943360"/>
            <a:ext cx="5019840" cy="13622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2352600" y="2828880"/>
            <a:ext cx="5019840" cy="1362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200480" y="4295880"/>
            <a:ext cx="1295280" cy="1085760"/>
          </a:xfrm>
          <a:prstGeom prst="rect">
            <a:avLst/>
          </a:prstGeom>
          <a:solidFill>
            <a:srgbClr val="9e025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00480" y="5324400"/>
            <a:ext cx="1295280" cy="4752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00480" y="5286240"/>
            <a:ext cx="12952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00480" y="5248440"/>
            <a:ext cx="12952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00480" y="5210280"/>
            <a:ext cx="12952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4067280" y="3971880"/>
            <a:ext cx="1581120" cy="1305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4038480" y="3943440"/>
            <a:ext cx="15811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 txBox="1"/>
          <p:nvPr/>
        </p:nvSpPr>
        <p:spPr>
          <a:xfrm>
            <a:off x="2124000" y="2952720"/>
            <a:ext cx="3419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Genigraphics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Present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1"/>
          <a:stretch/>
        </p:blipFill>
        <p:spPr>
          <a:xfrm>
            <a:off x="28576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 txBox="1"/>
          <p:nvPr/>
        </p:nvSpPr>
        <p:spPr>
          <a:xfrm>
            <a:off x="3686040" y="2124000"/>
            <a:ext cx="2800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3676680" y="2104920"/>
            <a:ext cx="2800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04920" y="2933640"/>
            <a:ext cx="3419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Genigraphics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Present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2"/>
          <a:stretch/>
        </p:blipFill>
        <p:spPr>
          <a:xfrm>
            <a:off x="2452680" y="405288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367" name="" descr=""/>
          <p:cNvPicPr/>
          <p:nvPr/>
        </p:nvPicPr>
        <p:blipFill>
          <a:blip r:embed="rId3"/>
          <a:stretch/>
        </p:blipFill>
        <p:spPr>
          <a:xfrm>
            <a:off x="2314440" y="445788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368" name="" descr=""/>
          <p:cNvPicPr/>
          <p:nvPr/>
        </p:nvPicPr>
        <p:blipFill>
          <a:blip r:embed="rId4"/>
          <a:stretch/>
        </p:blipFill>
        <p:spPr>
          <a:xfrm>
            <a:off x="2195640" y="4881600"/>
            <a:ext cx="223920" cy="12384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5"/>
          <a:stretch/>
        </p:blipFill>
        <p:spPr>
          <a:xfrm>
            <a:off x="2066760" y="5310360"/>
            <a:ext cx="223920" cy="12384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 txBox="1"/>
          <p:nvPr/>
        </p:nvSpPr>
        <p:spPr>
          <a:xfrm>
            <a:off x="2424240" y="3971880"/>
            <a:ext cx="5510160" cy="17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712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The leading presentation graphics service bure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 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Over 20 local service centers in 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Send your presentation by modem (software inclu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Rigorous quality control, overnight turn-around, money-back guaran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2405160" y="3957480"/>
            <a:ext cx="5510160" cy="17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712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eff6e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leading presentation graphics service bure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ver 20 local service centers in 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nd your presentation by modem (software inclu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igorous quality control, overnight turn-around, money-back guaran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6"/>
          <a:stretch/>
        </p:blipFill>
        <p:spPr>
          <a:xfrm>
            <a:off x="5599080" y="2936880"/>
            <a:ext cx="22874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 txBox="1"/>
          <p:nvPr/>
        </p:nvSpPr>
        <p:spPr>
          <a:xfrm>
            <a:off x="2390760" y="2978280"/>
            <a:ext cx="3390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Printing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286236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 txBox="1"/>
          <p:nvPr/>
        </p:nvSpPr>
        <p:spPr>
          <a:xfrm>
            <a:off x="3691080" y="2124000"/>
            <a:ext cx="2800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owerPoin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3681360" y="2104920"/>
            <a:ext cx="2800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2371680" y="2959200"/>
            <a:ext cx="3390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Printing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2"/>
          <a:stretch/>
        </p:blipFill>
        <p:spPr>
          <a:xfrm>
            <a:off x="2662200" y="396252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3"/>
          <a:stretch/>
        </p:blipFill>
        <p:spPr>
          <a:xfrm>
            <a:off x="2538360" y="439092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4"/>
          <a:stretch/>
        </p:blipFill>
        <p:spPr>
          <a:xfrm>
            <a:off x="2386080" y="480996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1381" name="" descr=""/>
          <p:cNvPicPr/>
          <p:nvPr/>
        </p:nvPicPr>
        <p:blipFill>
          <a:blip r:embed="rId5"/>
          <a:stretch/>
        </p:blipFill>
        <p:spPr>
          <a:xfrm>
            <a:off x="2224080" y="544824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 txBox="1"/>
          <p:nvPr/>
        </p:nvSpPr>
        <p:spPr>
          <a:xfrm>
            <a:off x="2638440" y="3905280"/>
            <a:ext cx="4884840" cy="17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P LaserJet and Paint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ktronix ColorQuick, 4693DX, and Phaser C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, QMS, Apple and other B&amp;W and color  PostScript pri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y Windows 3.0 compatible 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2628720" y="3886200"/>
            <a:ext cx="4851360" cy="17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P LaserJet and Paint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ktronix ColorQuick, 4693DX, and Phaser C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, QMS, Apple and other B&amp;W and color  PostScript pri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y Windows 3.0 compatible 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 txBox="1"/>
          <p:nvPr/>
        </p:nvSpPr>
        <p:spPr>
          <a:xfrm>
            <a:off x="2257560" y="3371760"/>
            <a:ext cx="5219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zens of templates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you can make slides like thes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287172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1386" name=""/>
          <p:cNvSpPr txBox="1"/>
          <p:nvPr/>
        </p:nvSpPr>
        <p:spPr>
          <a:xfrm>
            <a:off x="3591000" y="2124000"/>
            <a:ext cx="30193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3571920" y="2114640"/>
            <a:ext cx="30193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2238480" y="3352680"/>
            <a:ext cx="5219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Dozens of templates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so you can make slides like thes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5359320" y="253692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1860480" y="1476360"/>
            <a:ext cx="6093000" cy="4435560"/>
          </a:xfrm>
          <a:prstGeom prst="rect">
            <a:avLst/>
          </a:prstGeom>
          <a:ln w="0">
            <a:noFill/>
          </a:ln>
        </p:spPr>
      </p:pic>
      <p:sp>
        <p:nvSpPr>
          <p:cNvPr id="1391" name=""/>
          <p:cNvSpPr txBox="1"/>
          <p:nvPr/>
        </p:nvSpPr>
        <p:spPr>
          <a:xfrm>
            <a:off x="5987880" y="5649840"/>
            <a:ext cx="188604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Microsoft</a:t>
            </a:r>
            <a:r>
              <a:rPr b="1" i="1" lang="en-US" sz="14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w</a:t>
            </a:r>
            <a:r>
              <a:rPr b="1" i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</a:t>
            </a:r>
            <a:r>
              <a:rPr b="1" i="1" lang="en-US" sz="14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r</a:t>
            </a:r>
            <a:r>
              <a:rPr b="1" i="1" lang="en-US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</a:t>
            </a:r>
            <a:r>
              <a:rPr b="1" i="1" lang="en-US" sz="1400" spc="-1" strike="noStrike">
                <a:solidFill>
                  <a:srgbClr val="8901f3"/>
                </a:solidFill>
                <a:latin typeface="Times New Roman"/>
                <a:ea typeface="Times New Roman"/>
              </a:rPr>
              <a:t>n</a:t>
            </a:r>
            <a:r>
              <a:rPr b="1" i="1" lang="en-US" sz="1400" spc="-1" strike="noStrike">
                <a:solidFill>
                  <a:srgbClr val="dc0081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133800" y="2076480"/>
            <a:ext cx="35337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I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209760" y="2000160"/>
            <a:ext cx="35337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3822840" y="2755800"/>
            <a:ext cx="21812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57760" y="2708280"/>
            <a:ext cx="21812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1ceff"/>
                </a:solidFill>
                <a:latin typeface="Times New Roman"/>
                <a:ea typeface="Times New Roman"/>
              </a:rPr>
              <a:t>Servic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629160" y="350208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QUALITY 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3898800" y="3848040"/>
            <a:ext cx="19717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TURN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476520" y="4178160"/>
            <a:ext cx="28195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COLOR -- HIGH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630600" y="4591080"/>
            <a:ext cx="251460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RANG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657600" y="348948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QUALITY 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927600" y="3835440"/>
            <a:ext cx="19717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TURN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505320" y="4165560"/>
            <a:ext cx="28195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COLOR -- HIGH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659040" y="4578480"/>
            <a:ext cx="251460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RANG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7262640" y="43196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1866960" y="1552680"/>
            <a:ext cx="404640" cy="39060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866960" y="1523880"/>
            <a:ext cx="876240" cy="87660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1866960" y="1538280"/>
            <a:ext cx="1319040" cy="131940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1866960" y="1609560"/>
            <a:ext cx="1704960" cy="170532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1866960" y="1581120"/>
            <a:ext cx="2190600" cy="219096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1866960" y="1552680"/>
            <a:ext cx="2676600" cy="267660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866960" y="1581120"/>
            <a:ext cx="3105000" cy="310536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1866960" y="1581120"/>
            <a:ext cx="3562200" cy="356256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1866960" y="1538280"/>
            <a:ext cx="4062240" cy="406260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2019240" y="1566720"/>
            <a:ext cx="4338720" cy="433872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2476440" y="1538280"/>
            <a:ext cx="4367160" cy="436716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2933640" y="1538280"/>
            <a:ext cx="4367160" cy="436716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3390840" y="1538280"/>
            <a:ext cx="4367160" cy="436716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3848040" y="1795320"/>
            <a:ext cx="4110120" cy="411012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305240" y="2252520"/>
            <a:ext cx="3652920" cy="365292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762440" y="2709720"/>
            <a:ext cx="3195720" cy="319572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219640" y="3171960"/>
            <a:ext cx="2733840" cy="273348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676840" y="3629160"/>
            <a:ext cx="2276640" cy="227628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134040" y="4086360"/>
            <a:ext cx="1819440" cy="181908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6591240" y="4543560"/>
            <a:ext cx="1362240" cy="136188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7048440" y="5000760"/>
            <a:ext cx="905040" cy="90468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505640" y="5457960"/>
            <a:ext cx="447840" cy="447480"/>
          </a:xfrm>
          <a:prstGeom prst="line">
            <a:avLst/>
          </a:prstGeom>
          <a:ln w="1260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866960" y="1476360"/>
            <a:ext cx="6100920" cy="257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862280" y="5654520"/>
            <a:ext cx="6100920" cy="257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5959440" y="5651640"/>
            <a:ext cx="188604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Microsoft</a:t>
            </a:r>
            <a:r>
              <a:rPr b="1" i="1" lang="en-US" sz="14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w</a:t>
            </a:r>
            <a:r>
              <a:rPr b="1" i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</a:t>
            </a:r>
            <a:r>
              <a:rPr b="1" i="1" lang="en-US" sz="14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r</a:t>
            </a:r>
            <a:r>
              <a:rPr b="1" i="1" lang="en-US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</a:t>
            </a:r>
            <a:r>
              <a:rPr b="1" i="1" lang="en-US" sz="1400" spc="-1" strike="noStrike">
                <a:solidFill>
                  <a:srgbClr val="8901f3"/>
                </a:solidFill>
                <a:latin typeface="Times New Roman"/>
                <a:ea typeface="Times New Roman"/>
              </a:rPr>
              <a:t>n</a:t>
            </a:r>
            <a:r>
              <a:rPr b="1" i="1" lang="en-US" sz="1400" spc="-1" strike="noStrike">
                <a:solidFill>
                  <a:srgbClr val="dc0081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>
            <a:off x="2333520" y="2095560"/>
            <a:ext cx="5181480" cy="320040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 txBox="1"/>
          <p:nvPr/>
        </p:nvSpPr>
        <p:spPr>
          <a:xfrm>
            <a:off x="2638440" y="2441520"/>
            <a:ext cx="44449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2695680" y="2589120"/>
            <a:ext cx="4444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45720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3530"/>
                </a:solidFill>
                <a:latin typeface="Times New Roman"/>
                <a:ea typeface="Times New Roman"/>
              </a:rPr>
              <a:t>Use Presentation Visual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2671920" y="2589120"/>
            <a:ext cx="4444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45720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f39fd1"/>
                </a:solidFill>
                <a:latin typeface="Times New Roman"/>
                <a:ea typeface="Times New Roman"/>
              </a:rPr>
              <a:t>Use Presentation Visual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2824200" y="3195720"/>
            <a:ext cx="4133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60"/>
              </a:spcAft>
            </a:pPr>
            <a:r>
              <a:rPr b="0" lang="en-US" sz="1200" spc="-1" strike="noStrike">
                <a:solidFill>
                  <a:srgbClr val="f39fd1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hance perceptions of the 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60"/>
              </a:spcAft>
            </a:pPr>
            <a:r>
              <a:rPr b="0" lang="en-US" sz="1200" spc="-1" strike="noStrike">
                <a:solidFill>
                  <a:srgbClr val="f39fd1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chieve quicker group consen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60"/>
              </a:spcAft>
            </a:pPr>
            <a:r>
              <a:rPr b="0" lang="en-US" sz="1200" spc="-1" strike="noStrike">
                <a:solidFill>
                  <a:srgbClr val="f39fd1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 more convi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60"/>
              </a:spcAft>
            </a:pPr>
            <a:r>
              <a:rPr b="0" lang="en-US" sz="1200" spc="-1" strike="noStrike">
                <a:solidFill>
                  <a:srgbClr val="f39fd1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ch faster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 txBox="1"/>
          <p:nvPr/>
        </p:nvSpPr>
        <p:spPr>
          <a:xfrm>
            <a:off x="4951440" y="1992240"/>
            <a:ext cx="139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4851360" y="1536840"/>
            <a:ext cx="139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5987880" y="5649840"/>
            <a:ext cx="188604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Microsoft </a:t>
            </a:r>
            <a:r>
              <a:rPr b="1" i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w</a:t>
            </a:r>
            <a:r>
              <a:rPr b="1" i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</a:t>
            </a:r>
            <a:r>
              <a:rPr b="1" i="1" lang="en-US" sz="14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r</a:t>
            </a:r>
            <a:r>
              <a:rPr b="1" i="1" lang="en-US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</a:t>
            </a:r>
            <a:r>
              <a:rPr b="1" i="1" lang="en-US" sz="1400" spc="-1" strike="noStrike">
                <a:solidFill>
                  <a:srgbClr val="8901f3"/>
                </a:solidFill>
                <a:latin typeface="Times New Roman"/>
                <a:ea typeface="Times New Roman"/>
              </a:rPr>
              <a:t>n</a:t>
            </a:r>
            <a:r>
              <a:rPr b="1" i="1" lang="en-US" sz="1400" spc="-1" strike="noStrike">
                <a:solidFill>
                  <a:srgbClr val="dc0081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2343240" y="1776240"/>
            <a:ext cx="5338800" cy="304812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 txBox="1"/>
          <p:nvPr/>
        </p:nvSpPr>
        <p:spPr>
          <a:xfrm>
            <a:off x="2795760" y="1932120"/>
            <a:ext cx="4444920" cy="25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457200">
              <a:lnSpc>
                <a:spcPct val="90000"/>
              </a:lnSpc>
              <a:spcAft>
                <a:spcPts val="1321"/>
              </a:spcAf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457200">
              <a:lnSpc>
                <a:spcPct val="90000"/>
              </a:lnSpc>
              <a:spcAft>
                <a:spcPts val="132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entralized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457200">
              <a:lnSpc>
                <a:spcPct val="90000"/>
              </a:lnSpc>
              <a:spcAft>
                <a:spcPts val="132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Corporate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457200">
              <a:lnSpc>
                <a:spcPct val="90000"/>
              </a:lnSpc>
              <a:spcAft>
                <a:spcPts val="1321"/>
              </a:spcAf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ear Strategy and Rigorous Internal Audits are Key Discip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1871640" y="5295960"/>
            <a:ext cx="608652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2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4851360" y="2006640"/>
            <a:ext cx="139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029120" y="1965240"/>
            <a:ext cx="184788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990960" y="1917720"/>
            <a:ext cx="184788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862280" y="1476360"/>
            <a:ext cx="6091200" cy="26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876320" y="3619440"/>
            <a:ext cx="6077160" cy="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876320" y="3743280"/>
            <a:ext cx="6077160" cy="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876320" y="3914640"/>
            <a:ext cx="6077160" cy="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76320" y="4219560"/>
            <a:ext cx="6077160" cy="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76320" y="4619520"/>
            <a:ext cx="6077160" cy="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76320" y="5076720"/>
            <a:ext cx="6077160" cy="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1876320" y="3619440"/>
            <a:ext cx="476280" cy="6660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1876320" y="3619440"/>
            <a:ext cx="1019160" cy="24768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876320" y="3619440"/>
            <a:ext cx="1428840" cy="45720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876320" y="3619440"/>
            <a:ext cx="1676520" cy="79056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1876320" y="3619440"/>
            <a:ext cx="1962360" cy="121932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1876320" y="3619440"/>
            <a:ext cx="2133720" cy="169560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2114640" y="3619440"/>
            <a:ext cx="2076480" cy="204804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2790720" y="3619440"/>
            <a:ext cx="1590840" cy="204804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3533760" y="3619440"/>
            <a:ext cx="1038240" cy="204804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4200480" y="3619440"/>
            <a:ext cx="523800" cy="205740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933800" y="3619440"/>
            <a:ext cx="0" cy="203832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14880" y="3629160"/>
            <a:ext cx="504720" cy="204768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295960" y="3629160"/>
            <a:ext cx="1038240" cy="202860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486400" y="3619440"/>
            <a:ext cx="1562040" cy="206712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7480" y="3619440"/>
            <a:ext cx="2124000" cy="208620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848200" y="3619440"/>
            <a:ext cx="2105280" cy="163836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19920" y="3629160"/>
            <a:ext cx="1933560" cy="117144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257880" y="3619440"/>
            <a:ext cx="1695600" cy="78120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515280" y="3619440"/>
            <a:ext cx="1438200" cy="42876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915240" y="3619440"/>
            <a:ext cx="1038240" cy="20952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419960" y="3619440"/>
            <a:ext cx="533520" cy="66600"/>
          </a:xfrm>
          <a:prstGeom prst="line">
            <a:avLst/>
          </a:prstGeom>
          <a:ln w="50760">
            <a:solidFill>
              <a:srgbClr val="000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886040" y="3587760"/>
            <a:ext cx="607680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876320" y="3720960"/>
            <a:ext cx="60771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876320" y="3892680"/>
            <a:ext cx="60771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876320" y="4197240"/>
            <a:ext cx="60771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876320" y="4597560"/>
            <a:ext cx="60771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876320" y="5054760"/>
            <a:ext cx="6077160" cy="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886040" y="3587760"/>
            <a:ext cx="476280" cy="66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886040" y="3587760"/>
            <a:ext cx="1019160" cy="24768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886040" y="3587760"/>
            <a:ext cx="1428840" cy="457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1886040" y="3597120"/>
            <a:ext cx="1647720" cy="781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1886040" y="3587760"/>
            <a:ext cx="1962000" cy="121932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1886040" y="3587760"/>
            <a:ext cx="2133360" cy="1695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2124000" y="3587760"/>
            <a:ext cx="2076480" cy="204804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2800440" y="3587760"/>
            <a:ext cx="1590480" cy="204804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3543480" y="3587760"/>
            <a:ext cx="1037880" cy="204804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4210200" y="3587760"/>
            <a:ext cx="523800" cy="20574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943520" y="3587760"/>
            <a:ext cx="0" cy="203832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124600" y="3597120"/>
            <a:ext cx="504720" cy="204804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305320" y="3597120"/>
            <a:ext cx="1038240" cy="20289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495760" y="3587760"/>
            <a:ext cx="1562400" cy="20667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676840" y="3587760"/>
            <a:ext cx="2124000" cy="208584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857920" y="3587760"/>
            <a:ext cx="2104920" cy="16383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029280" y="3597120"/>
            <a:ext cx="1933560" cy="11718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267600" y="3587760"/>
            <a:ext cx="1695240" cy="7812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524640" y="3587760"/>
            <a:ext cx="1438200" cy="42876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924600" y="3587760"/>
            <a:ext cx="1038240" cy="20952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429680" y="3587760"/>
            <a:ext cx="533160" cy="6660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62280" y="5654520"/>
            <a:ext cx="609120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5987880" y="5649840"/>
            <a:ext cx="188604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Microsoft</a:t>
            </a:r>
            <a:r>
              <a:rPr b="1" i="1" lang="en-US" sz="14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w</a:t>
            </a:r>
            <a:r>
              <a:rPr b="1" i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</a:t>
            </a:r>
            <a:r>
              <a:rPr b="1" i="1" lang="en-US" sz="14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r</a:t>
            </a:r>
            <a:r>
              <a:rPr b="1" i="1" lang="en-US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</a:t>
            </a:r>
            <a:r>
              <a:rPr b="1" i="1" lang="en-US" sz="1400" spc="-1" strike="noStrike">
                <a:solidFill>
                  <a:srgbClr val="8901f3"/>
                </a:solidFill>
                <a:latin typeface="Times New Roman"/>
                <a:ea typeface="Times New Roman"/>
              </a:rPr>
              <a:t>n</a:t>
            </a:r>
            <a:r>
              <a:rPr b="1" i="1" lang="en-US" sz="1400" spc="-1" strike="noStrike">
                <a:solidFill>
                  <a:srgbClr val="dc0081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1"/>
          <a:stretch/>
        </p:blipFill>
        <p:spPr>
          <a:xfrm>
            <a:off x="4019400" y="283860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2"/>
          <a:stretch/>
        </p:blipFill>
        <p:spPr>
          <a:xfrm>
            <a:off x="3943440" y="2762280"/>
            <a:ext cx="1905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2857680" y="2395440"/>
            <a:ext cx="29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866960" y="16826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2"/>
          <a:stretch/>
        </p:blipFill>
        <p:spPr>
          <a:xfrm>
            <a:off x="1866960" y="19112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06" name="" descr=""/>
          <p:cNvPicPr/>
          <p:nvPr/>
        </p:nvPicPr>
        <p:blipFill>
          <a:blip r:embed="rId3"/>
          <a:stretch/>
        </p:blipFill>
        <p:spPr>
          <a:xfrm>
            <a:off x="1866960" y="21398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07" name="" descr=""/>
          <p:cNvPicPr/>
          <p:nvPr/>
        </p:nvPicPr>
        <p:blipFill>
          <a:blip r:embed="rId4"/>
          <a:stretch/>
        </p:blipFill>
        <p:spPr>
          <a:xfrm>
            <a:off x="1866960" y="23684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08" name="" descr=""/>
          <p:cNvPicPr/>
          <p:nvPr/>
        </p:nvPicPr>
        <p:blipFill>
          <a:blip r:embed="rId5"/>
          <a:stretch/>
        </p:blipFill>
        <p:spPr>
          <a:xfrm>
            <a:off x="1866960" y="53402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09" name="" descr=""/>
          <p:cNvPicPr/>
          <p:nvPr/>
        </p:nvPicPr>
        <p:blipFill>
          <a:blip r:embed="rId6"/>
          <a:stretch/>
        </p:blipFill>
        <p:spPr>
          <a:xfrm>
            <a:off x="1866960" y="55688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0" name="" descr=""/>
          <p:cNvPicPr/>
          <p:nvPr/>
        </p:nvPicPr>
        <p:blipFill>
          <a:blip r:embed="rId7"/>
          <a:stretch/>
        </p:blipFill>
        <p:spPr>
          <a:xfrm>
            <a:off x="1866960" y="44258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1" name="" descr=""/>
          <p:cNvPicPr/>
          <p:nvPr/>
        </p:nvPicPr>
        <p:blipFill>
          <a:blip r:embed="rId8"/>
          <a:stretch/>
        </p:blipFill>
        <p:spPr>
          <a:xfrm>
            <a:off x="1866960" y="46544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/>
          <p:cNvPicPr/>
          <p:nvPr/>
        </p:nvPicPr>
        <p:blipFill>
          <a:blip r:embed="rId9"/>
          <a:stretch/>
        </p:blipFill>
        <p:spPr>
          <a:xfrm>
            <a:off x="1866960" y="48830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3" name="" descr=""/>
          <p:cNvPicPr/>
          <p:nvPr/>
        </p:nvPicPr>
        <p:blipFill>
          <a:blip r:embed="rId10"/>
          <a:stretch/>
        </p:blipFill>
        <p:spPr>
          <a:xfrm>
            <a:off x="1866960" y="51116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4" name="" descr=""/>
          <p:cNvPicPr/>
          <p:nvPr/>
        </p:nvPicPr>
        <p:blipFill>
          <a:blip r:embed="rId11"/>
          <a:stretch/>
        </p:blipFill>
        <p:spPr>
          <a:xfrm>
            <a:off x="1866960" y="35114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5" name="" descr=""/>
          <p:cNvPicPr/>
          <p:nvPr/>
        </p:nvPicPr>
        <p:blipFill>
          <a:blip r:embed="rId12"/>
          <a:stretch/>
        </p:blipFill>
        <p:spPr>
          <a:xfrm>
            <a:off x="1866960" y="37400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13"/>
          <a:stretch/>
        </p:blipFill>
        <p:spPr>
          <a:xfrm>
            <a:off x="1866960" y="39686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7" name="" descr=""/>
          <p:cNvPicPr/>
          <p:nvPr/>
        </p:nvPicPr>
        <p:blipFill>
          <a:blip r:embed="rId14"/>
          <a:stretch/>
        </p:blipFill>
        <p:spPr>
          <a:xfrm>
            <a:off x="1866960" y="41972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8" name="" descr=""/>
          <p:cNvPicPr/>
          <p:nvPr/>
        </p:nvPicPr>
        <p:blipFill>
          <a:blip r:embed="rId15"/>
          <a:stretch/>
        </p:blipFill>
        <p:spPr>
          <a:xfrm>
            <a:off x="1866960" y="25970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19" name="" descr=""/>
          <p:cNvPicPr/>
          <p:nvPr/>
        </p:nvPicPr>
        <p:blipFill>
          <a:blip r:embed="rId16"/>
          <a:stretch/>
        </p:blipFill>
        <p:spPr>
          <a:xfrm>
            <a:off x="1866960" y="28256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20" name="" descr=""/>
          <p:cNvPicPr/>
          <p:nvPr/>
        </p:nvPicPr>
        <p:blipFill>
          <a:blip r:embed="rId17"/>
          <a:stretch/>
        </p:blipFill>
        <p:spPr>
          <a:xfrm>
            <a:off x="1866960" y="3054240"/>
            <a:ext cx="6081840" cy="50760"/>
          </a:xfrm>
          <a:prstGeom prst="rect">
            <a:avLst/>
          </a:prstGeom>
          <a:ln w="0">
            <a:noFill/>
          </a:ln>
        </p:spPr>
      </p:pic>
      <p:pic>
        <p:nvPicPr>
          <p:cNvPr id="1521" name="" descr=""/>
          <p:cNvPicPr/>
          <p:nvPr/>
        </p:nvPicPr>
        <p:blipFill>
          <a:blip r:embed="rId18"/>
          <a:stretch/>
        </p:blipFill>
        <p:spPr>
          <a:xfrm>
            <a:off x="1866960" y="3282840"/>
            <a:ext cx="6081840" cy="50760"/>
          </a:xfrm>
          <a:prstGeom prst="rect">
            <a:avLst/>
          </a:prstGeom>
          <a:ln w="0">
            <a:noFill/>
          </a:ln>
        </p:spPr>
      </p:pic>
      <p:sp>
        <p:nvSpPr>
          <p:cNvPr id="1522" name=""/>
          <p:cNvSpPr/>
          <p:nvPr/>
        </p:nvSpPr>
        <p:spPr>
          <a:xfrm>
            <a:off x="1866960" y="1476360"/>
            <a:ext cx="6091200" cy="27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866960" y="5634000"/>
            <a:ext cx="6091200" cy="27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5987880" y="5630760"/>
            <a:ext cx="188604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Microsoft</a:t>
            </a:r>
            <a:r>
              <a:rPr b="1" i="1" lang="en-US" sz="14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w</a:t>
            </a:r>
            <a:r>
              <a:rPr b="1" i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</a:t>
            </a:r>
            <a:r>
              <a:rPr b="1" i="1" lang="en-US" sz="14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r</a:t>
            </a:r>
            <a:r>
              <a:rPr b="1" i="1" lang="en-US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1" i="1" lang="en-US" sz="1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</a:t>
            </a:r>
            <a:r>
              <a:rPr b="1" i="1" lang="en-US" sz="1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i</a:t>
            </a:r>
            <a:r>
              <a:rPr b="1" i="1" lang="en-US" sz="1400" spc="-1" strike="noStrike">
                <a:solidFill>
                  <a:srgbClr val="8901f3"/>
                </a:solidFill>
                <a:latin typeface="Times New Roman"/>
                <a:ea typeface="Times New Roman"/>
              </a:rPr>
              <a:t>n</a:t>
            </a:r>
            <a:r>
              <a:rPr b="1" i="1" lang="en-US" sz="1400" spc="-1" strike="noStrike">
                <a:solidFill>
                  <a:srgbClr val="dc0081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316240" y="1919160"/>
            <a:ext cx="5095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Customer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2293920" y="1916280"/>
            <a:ext cx="5095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Customer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" descr=""/>
          <p:cNvPicPr/>
          <p:nvPr/>
        </p:nvPicPr>
        <p:blipFill>
          <a:blip r:embed="rId19"/>
          <a:stretch/>
        </p:blipFill>
        <p:spPr>
          <a:xfrm>
            <a:off x="2381400" y="3452760"/>
            <a:ext cx="66600" cy="66600"/>
          </a:xfrm>
          <a:prstGeom prst="rect">
            <a:avLst/>
          </a:prstGeom>
          <a:ln w="0">
            <a:noFill/>
          </a:ln>
        </p:spPr>
      </p:pic>
      <p:pic>
        <p:nvPicPr>
          <p:cNvPr id="1528" name="" descr=""/>
          <p:cNvPicPr/>
          <p:nvPr/>
        </p:nvPicPr>
        <p:blipFill>
          <a:blip r:embed="rId20"/>
          <a:stretch/>
        </p:blipFill>
        <p:spPr>
          <a:xfrm>
            <a:off x="2381400" y="4119480"/>
            <a:ext cx="66600" cy="6660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21"/>
          <a:stretch/>
        </p:blipFill>
        <p:spPr>
          <a:xfrm>
            <a:off x="2381400" y="2805120"/>
            <a:ext cx="66600" cy="6660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 txBox="1"/>
          <p:nvPr/>
        </p:nvSpPr>
        <p:spPr>
          <a:xfrm>
            <a:off x="2589120" y="2681280"/>
            <a:ext cx="5073480" cy="23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232323"/>
                </a:solidFill>
                <a:latin typeface="Arial"/>
                <a:ea typeface="Arial"/>
              </a:rPr>
              <a:t>Toll-Free Ho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457200"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232323"/>
                </a:solidFill>
                <a:latin typeface="Arial"/>
                <a:ea typeface="Arial"/>
              </a:rPr>
              <a:t>-16 hours a day, 6 days a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232323"/>
                </a:solidFill>
                <a:latin typeface="Arial"/>
                <a:ea typeface="Arial"/>
              </a:rPr>
              <a:t>Wide Range of Training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457200"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232323"/>
                </a:solidFill>
                <a:latin typeface="Arial"/>
                <a:ea typeface="Arial"/>
              </a:rPr>
              <a:t>- 5 nation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232323"/>
                </a:solidFill>
                <a:latin typeface="Arial"/>
                <a:ea typeface="Arial"/>
              </a:rPr>
              <a:t>Technical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457200"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232323"/>
                </a:solidFill>
                <a:latin typeface="Arial"/>
                <a:ea typeface="Arial"/>
              </a:rPr>
              <a:t>- documenta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457200"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232323"/>
                </a:solidFill>
                <a:latin typeface="Arial"/>
                <a:ea typeface="Arial"/>
              </a:rPr>
              <a:t>- product test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2571840" y="2662200"/>
            <a:ext cx="5073480" cy="23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fde3ba"/>
                </a:solidFill>
                <a:latin typeface="Arial"/>
                <a:ea typeface="Arial"/>
              </a:rPr>
              <a:t>Toll-Free Ho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457200"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fde3ba"/>
                </a:solidFill>
                <a:latin typeface="Arial"/>
                <a:ea typeface="Arial"/>
              </a:rPr>
              <a:t>-16 hours a day, 6 days a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fde3ba"/>
                </a:solidFill>
                <a:latin typeface="Arial"/>
                <a:ea typeface="Arial"/>
              </a:rPr>
              <a:t>Wide Range of Training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457200"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fde3ba"/>
                </a:solidFill>
                <a:latin typeface="Arial"/>
                <a:ea typeface="Arial"/>
              </a:rPr>
              <a:t>- 5 nation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fde3ba"/>
                </a:solidFill>
                <a:latin typeface="Arial"/>
                <a:ea typeface="Arial"/>
              </a:rPr>
              <a:t>Technical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457200"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fde3ba"/>
                </a:solidFill>
                <a:latin typeface="Arial"/>
                <a:ea typeface="Arial"/>
              </a:rPr>
              <a:t>- documenta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457200">
              <a:lnSpc>
                <a:spcPct val="100000"/>
              </a:lnSpc>
              <a:spcAft>
                <a:spcPts val="241"/>
              </a:spcAft>
            </a:pPr>
            <a:r>
              <a:rPr b="1" i="1" lang="en-US" sz="1800" spc="-1" strike="noStrike">
                <a:solidFill>
                  <a:srgbClr val="fde3ba"/>
                </a:solidFill>
                <a:latin typeface="Arial"/>
                <a:ea typeface="Arial"/>
              </a:rPr>
              <a:t>- product test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127240" y="5167440"/>
            <a:ext cx="5586480" cy="37152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22"/>
          <a:stretch/>
        </p:blipFill>
        <p:spPr>
          <a:xfrm>
            <a:off x="2090880" y="5205240"/>
            <a:ext cx="5581800" cy="34308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2090880" y="5310360"/>
            <a:ext cx="5581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081160" y="5443560"/>
            <a:ext cx="558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085840" y="5205240"/>
            <a:ext cx="0" cy="343080"/>
          </a:xfrm>
          <a:prstGeom prst="line">
            <a:avLst/>
          </a:prstGeom>
          <a:ln w="1260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085840" y="5433840"/>
            <a:ext cx="557712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085840" y="5315040"/>
            <a:ext cx="5586480" cy="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 txBox="1"/>
          <p:nvPr/>
        </p:nvSpPr>
        <p:spPr>
          <a:xfrm>
            <a:off x="2905200" y="2809800"/>
            <a:ext cx="3943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This presentation wa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entirely in Microsoft 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for Windows, in a format desig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250015"/>
                </a:solidFill>
                <a:latin typeface="Arial"/>
                <a:ea typeface="Arial"/>
              </a:rPr>
              <a:t>by Genigraph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2886120" y="2800440"/>
            <a:ext cx="3943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This presentation wa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entirely in Microsoft 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for Windows, in a format desig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e2cbcb"/>
                </a:solidFill>
                <a:latin typeface="Arial"/>
                <a:ea typeface="Arial"/>
              </a:rPr>
              <a:t>by Genigraph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871640" y="4670280"/>
            <a:ext cx="5283360" cy="1241280"/>
          </a:xfrm>
          <a:prstGeom prst="rect">
            <a:avLst/>
          </a:prstGeom>
          <a:ln w="0">
            <a:noFill/>
          </a:ln>
        </p:spPr>
      </p:pic>
      <p:pic>
        <p:nvPicPr>
          <p:cNvPr id="1542" name="" descr=""/>
          <p:cNvPicPr/>
          <p:nvPr/>
        </p:nvPicPr>
        <p:blipFill>
          <a:blip r:embed="rId2"/>
          <a:stretch/>
        </p:blipFill>
        <p:spPr>
          <a:xfrm>
            <a:off x="4699080" y="4956120"/>
            <a:ext cx="1905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171960" y="2838600"/>
            <a:ext cx="39434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He would have 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funding to reach Am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in 1486 instead of 1492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8576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3524400" y="212400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514680" y="210492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156120" y="2822400"/>
            <a:ext cx="383868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He would have 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funding to reac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in 1486 instead of 1492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759040" y="4025880"/>
            <a:ext cx="399096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...if only he could have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a personal compute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171960" y="2838600"/>
            <a:ext cx="39434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He would have 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funding to reach Am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in 1486 instead of 1492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156120" y="2822400"/>
            <a:ext cx="383868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He would have 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funding to reac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in 1486 instead of 1492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743200" y="4010040"/>
            <a:ext cx="399096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...if only he could have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a personal compute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8576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3524400" y="212400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14680" y="210492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766960" y="2979720"/>
            <a:ext cx="4314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PowerPoint fo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47880" y="2960640"/>
            <a:ext cx="4314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PowerPoint fo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867040" y="1476360"/>
            <a:ext cx="4505400" cy="1127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2462040" y="378144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309760" y="421020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2390760" y="3705120"/>
            <a:ext cx="512460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The fastest, easiest way to get high-quality vis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 it yourself to be sure it is exactly what you w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ve time and money without compromising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ily share and combine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374920" y="3695760"/>
            <a:ext cx="521964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eff6e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fastest, easiest way to get high-quality vis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o it yourself to be sure it is exactly what you w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ave time and money without compromising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asily share and combine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33760" y="212400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524400" y="210492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2171520" y="460548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990800" y="5048280"/>
            <a:ext cx="2286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81200" y="2979720"/>
            <a:ext cx="46767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What You See Is What You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87640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571840" y="2960640"/>
            <a:ext cx="46767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What You See Is What You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300560" y="385776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4138560" y="4281480"/>
            <a:ext cx="228600" cy="1238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543120" y="212400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533760" y="210492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330800" y="3781440"/>
            <a:ext cx="27273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3200" indent="-60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No more previewing!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5400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250015"/>
                </a:solidFill>
                <a:latin typeface="Arial"/>
                <a:ea typeface="Arial"/>
              </a:rPr>
              <a:t>Directly manipulate graphics, text, colors - even complete 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321080" y="3771720"/>
            <a:ext cx="27273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3200" indent="-60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more previewing!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5400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irectly manipulate graphics, text, colors - even complete 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1866960" y="3529080"/>
            <a:ext cx="23241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562120" y="2979720"/>
            <a:ext cx="4181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Everything fo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91456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3581280" y="212400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571920" y="2104920"/>
            <a:ext cx="3191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43040" y="2960640"/>
            <a:ext cx="4181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Everything fo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628720" y="3771720"/>
            <a:ext cx="228600" cy="1238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441520" y="4429080"/>
            <a:ext cx="235080" cy="123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251080" y="5048280"/>
            <a:ext cx="235080" cy="1238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2595600" y="3695760"/>
            <a:ext cx="30765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6560" indent="-60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 your visuals, notes and handouts in on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730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dows graphical interface  makes it easy to learn an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 400 color clip-art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76520" y="3686040"/>
            <a:ext cx="30765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6560" indent="-604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l your visuals, notes and handouts in on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7308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s graphical interface  makes it easy to learn an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lnSpc>
                <a:spcPct val="100000"/>
              </a:lnSpc>
              <a:spcAft>
                <a:spcPts val="1199"/>
              </a:spcAf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ver 400 color clip-art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5657760" y="4352760"/>
            <a:ext cx="213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552760" y="5315040"/>
            <a:ext cx="44956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B&amp;W overhead transpa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36920" y="5295960"/>
            <a:ext cx="44956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B&amp;W overhead transpa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58880" y="2019240"/>
            <a:ext cx="129528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3057480" y="306072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50015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29040" y="3029040"/>
            <a:ext cx="304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eff6e"/>
                </a:solidFill>
                <a:latin typeface="ZapfDingbats"/>
                <a:ea typeface="ZapfDingbat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