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548568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71520" y="3861000"/>
            <a:ext cx="548568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152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98276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26240" y="251568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881320" y="251568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171520" y="386100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26240" y="386100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881320" y="3861000"/>
            <a:ext cx="17661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171520" y="2515680"/>
            <a:ext cx="548568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548568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171520" y="1653480"/>
            <a:ext cx="548568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17152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2760" y="386100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1520" y="1653480"/>
            <a:ext cx="54856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7152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2760" y="2515680"/>
            <a:ext cx="267696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71520" y="3861000"/>
            <a:ext cx="548568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66960" y="1476360"/>
            <a:ext cx="6091200" cy="443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4397400" y="2006640"/>
            <a:ext cx="1047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eff6e"/>
                </a:solidFill>
                <a:latin typeface="Arial"/>
                <a:ea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2806560" y="3324240"/>
            <a:ext cx="3714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Here’s How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250015"/>
                </a:solidFill>
                <a:latin typeface="Arial"/>
                <a:ea typeface="Arial"/>
              </a:rPr>
              <a:t>Makes 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857680" y="1476360"/>
            <a:ext cx="4505400" cy="11271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2790720" y="3308400"/>
            <a:ext cx="3714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Here’s How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eff6e"/>
                </a:solidFill>
                <a:latin typeface="Arial"/>
                <a:ea typeface="Arial"/>
              </a:rPr>
              <a:t>Makes 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610080" y="211464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00360" y="2104920"/>
            <a:ext cx="2838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