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839325" cy="73961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124920" y="6875640"/>
            <a:ext cx="3301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BAB08FF1-6A12-4EFB-87AD-E16CECB896E4}" type="slidenum">
              <a:rPr b="1" lang="en-US" sz="1800" spc="-1" strike="noStrike">
                <a:solidFill>
                  <a:srgbClr val="000000"/>
                </a:solidFill>
                <a:latin typeface="Helvetica-Narrow"/>
                <a:ea typeface="Helvetica-Narrow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349880" y="571680"/>
            <a:ext cx="11304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81d58"/>
                </a:solidFill>
                <a:latin typeface="Garamond"/>
                <a:ea typeface="Garamond"/>
              </a:rPr>
              <a:t>F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8560" y="1009800"/>
            <a:ext cx="8572680" cy="5962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6610320" y="6189840"/>
            <a:ext cx="2082960" cy="4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Garamond"/>
                <a:ea typeface="Garamond"/>
              </a:rPr>
              <a:t>~Bene Gesserit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15080" y="1486080"/>
            <a:ext cx="152280" cy="44197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1558800"/>
            <a:ext cx="72388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I must not fe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Fear is the mind killer.  Fear is the little death that brings total obliteration.  I will face my fe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I will permit it to pass over me and through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And when it has gone past, I will turn the inner eye to see its pa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Where the fear has gone there will be no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Only I will re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162320" y="1181160"/>
            <a:ext cx="15001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57480" y="1981080"/>
            <a:ext cx="7315200" cy="42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4000" spc="-1" strike="noStrike">
                <a:solidFill>
                  <a:srgbClr val="000000"/>
                </a:solidFill>
                <a:latin typeface="Berkeley Book"/>
                <a:ea typeface="Berkeley Book"/>
              </a:rPr>
              <a:t>People will accept your ideas much more readil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4000" spc="-1" strike="noStrike">
                <a:solidFill>
                  <a:srgbClr val="000000"/>
                </a:solidFill>
                <a:latin typeface="Berkeley Book"/>
                <a:ea typeface="Berkeley Book"/>
              </a:rPr>
              <a:t>if you tell them Benjamin Frankl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4000" spc="-1" strike="noStrike">
                <a:solidFill>
                  <a:srgbClr val="000000"/>
                </a:solidFill>
                <a:latin typeface="Berkeley Book"/>
                <a:ea typeface="Berkeley Book"/>
              </a:rPr>
              <a:t>said it fir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4000" spc="-1" strike="noStrike">
                <a:solidFill>
                  <a:srgbClr val="000000"/>
                </a:solidFill>
                <a:latin typeface="Berkeley Book"/>
                <a:ea typeface="Berkeley Book"/>
              </a:rPr>
              <a:t>-David H. Com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1360" y="209520"/>
            <a:ext cx="94870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938760" y="266760"/>
            <a:ext cx="195264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Berkeley Black"/>
                <a:ea typeface="Berkeley Black"/>
              </a:rPr>
              <a:t>Her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09760" y="1981080"/>
            <a:ext cx="6400800" cy="34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't all be heroes because somebody has to sit on the curb and clap as they go b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Will Ro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440" y="190440"/>
            <a:ext cx="94489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02120" y="1181160"/>
            <a:ext cx="362736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0279f"/>
                </a:solidFill>
                <a:latin typeface="Garamond"/>
                <a:ea typeface="Garamond"/>
              </a:rPr>
              <a:t>Imag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71680" y="2552760"/>
            <a:ext cx="792468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Garamond"/>
                <a:ea typeface="Garamond"/>
              </a:rPr>
              <a:t>You can't depend on your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Garamond"/>
                <a:ea typeface="Garamond"/>
              </a:rPr>
              <a:t>when your imagin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Garamond"/>
                <a:ea typeface="Garamond"/>
              </a:rPr>
              <a:t>is out of foc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Garamond"/>
                <a:ea typeface="Garamond"/>
              </a:rPr>
              <a:t>-Mark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5400" y="114480"/>
            <a:ext cx="963936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