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08760" y="1133280"/>
            <a:ext cx="6583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08760" y="2198160"/>
            <a:ext cx="658332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508760" y="3860280"/>
            <a:ext cx="658332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08760" y="1133280"/>
            <a:ext cx="6583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08760" y="2198160"/>
            <a:ext cx="32126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2320" y="2198160"/>
            <a:ext cx="32126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08760" y="3860280"/>
            <a:ext cx="32126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882320" y="3860280"/>
            <a:ext cx="32126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08760" y="1133280"/>
            <a:ext cx="6583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08760" y="2198160"/>
            <a:ext cx="211968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4640" y="2198160"/>
            <a:ext cx="211968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60880" y="2198160"/>
            <a:ext cx="211968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08760" y="3860280"/>
            <a:ext cx="211968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734640" y="3860280"/>
            <a:ext cx="211968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60880" y="3860280"/>
            <a:ext cx="211968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08760" y="1133280"/>
            <a:ext cx="6583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508760" y="2198160"/>
            <a:ext cx="658332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08760" y="1133280"/>
            <a:ext cx="6583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508760" y="2198160"/>
            <a:ext cx="658332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08760" y="1133280"/>
            <a:ext cx="6583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08760" y="2198160"/>
            <a:ext cx="32126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882320" y="2198160"/>
            <a:ext cx="32126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08760" y="1133280"/>
            <a:ext cx="6583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508760" y="1133280"/>
            <a:ext cx="6583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08760" y="1133280"/>
            <a:ext cx="6583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08760" y="2198160"/>
            <a:ext cx="32126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2320" y="2198160"/>
            <a:ext cx="32126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508760" y="3860280"/>
            <a:ext cx="32126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8760" y="1133280"/>
            <a:ext cx="6583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08760" y="2198160"/>
            <a:ext cx="32126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2320" y="2198160"/>
            <a:ext cx="32126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82320" y="3860280"/>
            <a:ext cx="32126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08760" y="1133280"/>
            <a:ext cx="6583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08760" y="2198160"/>
            <a:ext cx="32126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320" y="2198160"/>
            <a:ext cx="32126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08760" y="3860280"/>
            <a:ext cx="658332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4276800" y="1143000"/>
            <a:ext cx="1047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2743200" y="1905120"/>
            <a:ext cx="4724280" cy="3429000"/>
          </a:xfrm>
          <a:prstGeom prst="roundRect">
            <a:avLst/>
          </a:prstGeom>
          <a:solidFill>
            <a:srgbClr val="00dfc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2057400" y="1676520"/>
            <a:ext cx="1905120" cy="990720"/>
          </a:xfrm>
          <a:prstGeom prst="roundRect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600200" y="4114800"/>
            <a:ext cx="2438280" cy="609480"/>
          </a:xfrm>
          <a:prstGeom prst="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4038480" y="2895480"/>
            <a:ext cx="1295280" cy="1447920"/>
          </a:xfrm>
          <a:prstGeom prst="round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828800" y="762120"/>
            <a:ext cx="4038480" cy="0"/>
          </a:xfrm>
          <a:prstGeom prst="line">
            <a:avLst/>
          </a:prstGeom>
          <a:ln w="12600">
            <a:solidFill>
              <a:srgbClr val="00b7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905120" y="457200"/>
            <a:ext cx="396216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457200"/>
            <a:ext cx="403848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5943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81400" y="5616720"/>
            <a:ext cx="1962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63de8"/>
                </a:solidFill>
                <a:latin typeface="Arial"/>
                <a:ea typeface="Arial"/>
              </a:rPr>
              <a:t>This is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