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EA4B2F-A97B-40F8-BCA3-EF7AEA1C0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 clock cycles to switch between ring 0 and ring 3 (each 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M file system parts of MS 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y to put as much in ring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M MS-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lur the 16 32 bi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ve some of dib engine to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ystem VM was a 16-bit DPMI client as in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31 exclusive DPMI to talk between 0 and 3 client.  We now  have new  interfaces to talk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not WIn32s has been written to be integrated with Chicago instead of not modifying Win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-bit apps are sync’d by messages.  Each 16-bit app is a thre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ytona will pre-emp.  16-bit apps in shared address space.  Allows win16 to be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32 apps.  pre-emptive and scheduled.  Any thread can call any API compatible to Win NT schedu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ry Win32 app has own memory context.  ring 0 knows about threads for scheduling and about memory context (every thread in the same process shares the same memory contex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mory context is a 2G address space.  This space is not visible anywhere else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 3 code handles scheduling compatible with Windows NT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s 32 priority levels that are exclusive to each other.  So if thread a is at a higher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doe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display driver work is done in the DIB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vendors d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nly have to write code to support key hardware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BitB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lnSpc>
                <a:spcPct val="90000"/>
              </a:lnSpc>
              <a:spcBef>
                <a:spcPts val="720"/>
              </a:spcBef>
              <a:spcAft>
                <a:spcPts val="1321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622520" y="492120"/>
            <a:ext cx="58993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5960" y="4373640"/>
            <a:ext cx="6111720" cy="2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ammy Ste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s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28960" y="2494080"/>
            <a:ext cx="14875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74720" y="1728720"/>
            <a:ext cx="75963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for drawing 3-D windows and frame contr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nu support (default items, radio items, bitmap/icon items, and extended pop-up me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og manager support for other font styles in RC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op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68480" y="1728720"/>
            <a:ext cx="520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system virtual machine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sking/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se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760" y="4894200"/>
            <a:ext cx="8504280" cy="1519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059360" y="4938840"/>
            <a:ext cx="103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9800" y="5362560"/>
            <a:ext cx="4033800" cy="8888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5364000"/>
            <a:ext cx="4010040" cy="9018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1480" y="5456160"/>
            <a:ext cx="3430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Protect mode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FAT, CDFS, SCSI,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65760" y="5464080"/>
            <a:ext cx="3576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Virtual machine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r, Scheduler, DPMI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187280"/>
            <a:ext cx="4549680" cy="350820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25440" y="1273320"/>
            <a:ext cx="283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 (System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5960" y="1185840"/>
            <a:ext cx="1839960" cy="351468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13440" y="23493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56280" y="1185840"/>
            <a:ext cx="1839960" cy="3517920"/>
          </a:xfrm>
          <a:prstGeom prst="rect">
            <a:avLst/>
          </a:prstGeom>
          <a:gradFill rotWithShape="0">
            <a:gsLst>
              <a:gs pos="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043760" y="2351160"/>
            <a:ext cx="1663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S-DOS V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9800" y="1828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2280" y="18921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4840" y="182880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57440" y="1828800"/>
            <a:ext cx="1665360" cy="267480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50000">
                <a:srgbClr val="009688"/>
              </a:gs>
              <a:gs pos="100000">
                <a:srgbClr val="00786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98480" y="2052720"/>
            <a:ext cx="158112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9800" y="28242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22280" y="29098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790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2280" y="3854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49600" y="23479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02080" y="241128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9600" y="33433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02080" y="342900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ystem VM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3080" y="1728720"/>
            <a:ext cx="8459640" cy="4170240"/>
          </a:xfrm>
          <a:prstGeom prst="rect">
            <a:avLst/>
          </a:prstGeom>
          <a:gradFill rotWithShape="0">
            <a:gsLst>
              <a:gs pos="0">
                <a:srgbClr val="db4c79"/>
              </a:gs>
              <a:gs pos="50000">
                <a:srgbClr val="af3c60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81600" y="1165320"/>
            <a:ext cx="13240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ng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0800" y="257328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946240" y="211284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32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52560" y="216864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99080" y="2116080"/>
            <a:ext cx="153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16-bit s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7120" y="2171880"/>
            <a:ext cx="162432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0" y="369720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0" y="4776840"/>
            <a:ext cx="3362400" cy="866880"/>
          </a:xfrm>
          <a:prstGeom prst="rect">
            <a:avLst/>
          </a:prstGeom>
          <a:gradFill rotWithShape="0">
            <a:gsLst>
              <a:gs pos="0">
                <a:srgbClr val="00786c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728720"/>
            <a:ext cx="0" cy="414828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95128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08360" y="4951440"/>
            <a:ext cx="1585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Kernel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95920" y="3871800"/>
            <a:ext cx="1211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1320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4680" y="2747880"/>
            <a:ext cx="1488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87680" y="3029040"/>
            <a:ext cx="1153800" cy="7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85880" y="4164120"/>
            <a:ext cx="1200240" cy="484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85880" y="4862520"/>
            <a:ext cx="1209600" cy="4190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83440" y="2998800"/>
            <a:ext cx="1038240" cy="2556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261120" y="5000760"/>
            <a:ext cx="1015920" cy="1522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60560" y="458136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89640" y="327672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89640" y="519120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5440" y="267480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7560" y="273852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31040" y="2779560"/>
            <a:ext cx="1322280" cy="267192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5440" y="440388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4838b4"/>
              </a:gs>
              <a:gs pos="100000">
                <a:srgbClr val="5b47e1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7560" y="448956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5800" y="289872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88280" y="2962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35800" y="4622760"/>
            <a:ext cx="1098720" cy="709560"/>
          </a:xfrm>
          <a:prstGeom prst="roundRect">
            <a:avLst/>
          </a:prstGeom>
          <a:gradFill rotWithShape="0">
            <a:gsLst>
              <a:gs pos="0">
                <a:srgbClr val="5b47e1"/>
              </a:gs>
              <a:gs pos="100000">
                <a:srgbClr val="4838b4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388280" y="4708440"/>
            <a:ext cx="1195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16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454880" y="3701880"/>
            <a:ext cx="10540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Shared address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16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0400" y="1500120"/>
            <a:ext cx="79628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perative tasking, same as Microsof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3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Win16 application runs as a thread, providing for resource tracking in Ring 0 (VxDs) and Ring 3 (GDI and US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ation between applications occurs via mess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as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41320" y="1728720"/>
            <a:ext cx="746280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threads  are fully preemp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thread can call any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 handler on a separate thread  for robus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he Schedu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27080" y="1576440"/>
            <a:ext cx="7091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Windows NT model:  32 priority level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compatible with existing Win16 applications, VDDs, and Vx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priority boosting with timed dec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inheritance boo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I Serialization -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6400" y="1728720"/>
            <a:ext cx="6991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 multithreaded OS must serialize some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ical sections are commonly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638360" y="3741840"/>
            <a:ext cx="58672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InsertObjectInList(OBJECT* pob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ter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ectListHead = pobj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bj-&gt;pNext = pObjectListH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eaveCriticalSection(&amp;Loc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rialization Of Windows NT 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6960" y="1195560"/>
            <a:ext cx="77500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 of subsystem seri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 uses per-object locking allowing multiple clients to reenter using different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 maintains a single lock for all APIs.  Only one thread at a time may be in a User32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, applications (clients) and OS subsystems (servers) are on separate processes/threads in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We’ll Talk 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46200" y="1657440"/>
            <a:ext cx="605304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kernel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GDI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5440" y="228600"/>
            <a:ext cx="9034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70040" y="1728720"/>
            <a:ext cx="76057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cago” uses a global system-critical section for all Win16 components called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unking from 32-bit to 16-bit code, “Chicago” always attempts to claim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 current thread cannot own it (because another thread does), it bl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47880" y="1424160"/>
            <a:ext cx="72486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16-bit code is protected, including third-party DL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core components stay small and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 is ensured by not changing API ordering and ti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threads calling native 32-bit API do not block on Win16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sults Of Win16Loc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4720" y="1728720"/>
            <a:ext cx="75945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that any lack of smoothness in multitasking caused by the Win16Lock will only be due to ill-behaved Win16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ystem with only Win32 applications  will not be affected by the Win16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hell is a Win32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GDI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7360" y="228600"/>
            <a:ext cx="8369280" cy="7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DI Modul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3480" y="1554120"/>
            <a:ext cx="547704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system resource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congr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duce 64K Limit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04800" y="1803240"/>
            <a:ext cx="613404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eap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object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 management structures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s still in 64K he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object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0" y="268200"/>
            <a:ext cx="4572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raph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106720" y="1033560"/>
            <a:ext cx="5000760" cy="52704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1b15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106720" y="1814400"/>
            <a:ext cx="3162240" cy="9716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06720" y="3033720"/>
            <a:ext cx="2362320" cy="78120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62360" y="3014640"/>
            <a:ext cx="244476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106720" y="4906800"/>
            <a:ext cx="4983120" cy="731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DIB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06720" y="5886360"/>
            <a:ext cx="2286000" cy="64764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86400" y="5886360"/>
            <a:ext cx="2481120" cy="62856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87400" y="168588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46800" y="1814400"/>
            <a:ext cx="1660680" cy="99072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02240" y="3948120"/>
            <a:ext cx="2505240" cy="8002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87400" y="291924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87400" y="5764320"/>
            <a:ext cx="55357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itmaps And DIB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76200" y="1111320"/>
            <a:ext cx="659304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distinction of bitmaps and DI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 - device-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s - device-independ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DIB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BSection() - creates a DIB that both applications and GDI can write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IBColorTabl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968480" y="1484280"/>
            <a:ext cx="5208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32-bit co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be the fastest software-onl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4, 8, 16 (555), 24 (RGB) bpp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ghtforward to add other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play Minidriv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375000" y="1700280"/>
            <a:ext cx="55278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best wit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t linear frame 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bus video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ill have for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stest, best driver for frame buffers,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 for hardware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5120" y="1486080"/>
            <a:ext cx="1897200" cy="95256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5120" y="2657520"/>
            <a:ext cx="1897200" cy="771480"/>
          </a:xfrm>
          <a:prstGeom prst="rect">
            <a:avLst/>
          </a:prstGeom>
          <a:gradFill rotWithShape="0">
            <a:gsLst>
              <a:gs pos="0">
                <a:srgbClr val="b28ae0"/>
              </a:gs>
              <a:gs pos="100000">
                <a:srgbClr val="3529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494000" y="3618000"/>
            <a:ext cx="1724040" cy="9748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B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544840"/>
            <a:ext cx="25830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48355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5016600"/>
            <a:ext cx="1905120" cy="138420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0c322e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1800" y="3452760"/>
            <a:ext cx="0" cy="153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3280" y="3452760"/>
            <a:ext cx="0" cy="1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09800" y="459576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5280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 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er Archite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vantages Of DIB Eng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90720" y="1366920"/>
            <a:ext cx="71629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 DDI without requiring new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WideText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drivers no longer dependent on quality of display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obust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er display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add new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790560" y="1506600"/>
            <a:ext cx="75628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xes problems with current rasteri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cated glyphs, such as H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fide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memory mappe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more .FOT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er boot with lots o’ fo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32-Bit TrueType</a:t>
            </a:r>
            <a:r>
              <a:rPr b="1" lang="en-US" sz="3600" spc="-1" strike="noStrike" baseline="50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asteriz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ongruence Of Windows 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67080" y="1768320"/>
            <a:ext cx="4211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cur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th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346040" y="1733400"/>
            <a:ext cx="645336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Win32 path APIs have been imple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itives:  Lineto, Moveto, and PolyBezier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Bezi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465200" y="1676520"/>
            <a:ext cx="62136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Bezier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Windows NT code to 386 assemb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pel-perfect to Windows 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3160" y="1211400"/>
            <a:ext cx="75391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1 metafiles “lingua franc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enhanced meta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nhanced metafile APIs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support of world trans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p records “Chicago” does not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of the metafile converter to Windows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924200" y="228600"/>
            <a:ext cx="57913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hanced Meta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79360" y="1604880"/>
            <a:ext cx="6784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with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:  reproduce drawing from reference de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back is original size by de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transform sc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 regions scale and work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s scale better than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itions To Windows NT GD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87480" y="1692360"/>
            <a:ext cx="5370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-styled line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thered pens and 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32-bit internals and coordin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ked b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e-grained reentr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7720" y="1036800"/>
            <a:ext cx="819000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dows NT GDI has but “Chicago” doe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7716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4280" y="5219640"/>
            <a:ext cx="34290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93720" y="228600"/>
            <a:ext cx="775656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</a:t>
            </a:r>
            <a:r>
              <a:rPr b="1" i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“Chicago”</a:t>
            </a:r>
            <a:r>
              <a:rPr b="1" lang="en-US" sz="46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Ring 3 Relative Code Distribu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338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734000" y="1708200"/>
            <a:ext cx="1278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1714680"/>
            <a:ext cx="0" cy="488124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878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88080" y="1595520"/>
            <a:ext cx="914400" cy="0"/>
          </a:xfrm>
          <a:prstGeom prst="line">
            <a:avLst/>
          </a:prstGeom>
          <a:ln w="12600">
            <a:solidFill>
              <a:srgbClr val="ffd11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50800" y="521820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6080" y="5638680"/>
            <a:ext cx="345600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services, synchronization objects, memory management, memory-mapped files, file I/O, debug services, console, comm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71920" y="2643120"/>
            <a:ext cx="2057400" cy="3049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51200" y="2625840"/>
            <a:ext cx="192888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unk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24200" y="4362480"/>
            <a:ext cx="1905120" cy="76320"/>
          </a:xfrm>
          <a:prstGeom prst="rect">
            <a:avLst/>
          </a:prstGeom>
          <a:gradFill rotWithShape="0">
            <a:gsLst>
              <a:gs pos="0">
                <a:srgbClr val="ffd11a"/>
              </a:gs>
              <a:gs pos="50000">
                <a:srgbClr val="cca714"/>
              </a:gs>
              <a:gs pos="100000">
                <a:srgbClr val="ffd11a"/>
              </a:gs>
            </a:gsLst>
            <a:lin ang="5400000"/>
          </a:gradFill>
          <a:ln w="12600">
            <a:solidFill>
              <a:srgbClr val="ffd11a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51040" y="3686040"/>
            <a:ext cx="290052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55800" y="368460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1480" y="4067280"/>
            <a:ext cx="3057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Type rasterizer, print subsystem, spooler, universal graphics engine (DIB engin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57680" y="5934240"/>
            <a:ext cx="1828800" cy="0"/>
          </a:xfrm>
          <a:prstGeom prst="line">
            <a:avLst/>
          </a:prstGeom>
          <a:ln w="12600">
            <a:solidFill>
              <a:srgbClr val="ffd11a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95840" y="5753160"/>
            <a:ext cx="406440" cy="36360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b4c7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78600" y="5713560"/>
            <a:ext cx="11574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09920" y="2452680"/>
            <a:ext cx="1238400" cy="60012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af3c6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85880" y="256068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29320" y="2109960"/>
            <a:ext cx="3200400" cy="139068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686640" y="2122560"/>
            <a:ext cx="10875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45240" y="2538360"/>
            <a:ext cx="297036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window and menu management services, plus new features (async input model, new styles, etc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29320" y="3686040"/>
            <a:ext cx="2514600" cy="1343160"/>
          </a:xfrm>
          <a:prstGeom prst="roundRect">
            <a:avLst/>
          </a:prstGeom>
          <a:gradFill rotWithShape="0">
            <a:gsLst>
              <a:gs pos="0">
                <a:srgbClr val="db4c79"/>
              </a:gs>
              <a:gs pos="100000">
                <a:srgbClr val="41162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42200" y="3693960"/>
            <a:ext cx="888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808600" y="4067280"/>
            <a:ext cx="2157480" cy="96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1 graphics management, plus new Bezier, path, EMF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103640" y="5602320"/>
            <a:ext cx="1165320" cy="35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e w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 Of New User Fea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1652760"/>
            <a:ext cx="57164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ness ad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in32 APIs to support new user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682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Increased System Capac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98520" y="1500120"/>
            <a:ext cx="65484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32K menu and window handles (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imers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mited number of COM and LPT 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box item limits raise from 8K to 32K, with data limited only by availabl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7120" y="1195560"/>
            <a:ext cx="7891560" cy="49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obust parameter valid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32-bit or 16-bit process or thread ID is used for object ownership of Ring 3 o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32-bit applications and version 4.0-marked 16-bit applications have unfreed resources cleared at application  termination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1600" indent="-471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Windows 3.x-based application resources are cleared when “Chicago” determines no other Windows 3.x-based applications are ru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obustness Add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60360" y="968400"/>
            <a:ext cx="6622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Ring 3 objects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d11a"/>
                </a:solidFill>
                <a:latin typeface="Times New Roman"/>
                <a:ea typeface="Times New Roman"/>
              </a:rPr>
              <a:t>Track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11440" y="1368360"/>
            <a:ext cx="572148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Mem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so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sh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Contex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nt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tt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3986280"/>
            <a:ext cx="6729480" cy="0"/>
          </a:xfrm>
          <a:prstGeom prst="line">
            <a:avLst/>
          </a:prstGeom>
          <a:ln w="25560">
            <a:solidFill>
              <a:srgbClr val="ffd1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73280" y="36050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3280" y="4057560"/>
            <a:ext cx="61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User API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190520"/>
            <a:ext cx="429732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ebugError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essageBox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xitWindow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ccelera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Props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PostThread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Call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MessageTime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ndNotify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Format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ttachThread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ThreadDesk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003560" y="1185840"/>
            <a:ext cx="460224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From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IconIn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Ic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okupIconIDFrom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Activate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boardLayou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adKeyboardLay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indowFrom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MDI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WaitForInputI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sgWaitForMultiple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G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oreground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dded User Functiona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2760" y="1728720"/>
            <a:ext cx="817884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inimized window 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Metrics, SM_AR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control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map buttons, thumbsize of scroll b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support for context-sensitive     Help and message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mmy Steele</dc:creator>
  <dc:description>600x800</dc:description>
  <dc:language>en-US</dc:language>
  <cp:lastModifiedBy>shannon wheeler</cp:lastModifiedBy>
  <cp:revision>0</cp:revision>
  <dc:subject>SD 94</dc:subject>
  <dc:title>Windows "Chicago" Architecture</dc:title>
</cp:coreProperties>
</file>