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6859440" y="131760"/>
            <a:ext cx="227160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vid Beaver 011 SD’94 4/94 </a:t>
            </a:r>
            <a:fld id="{439C9F2F-352B-4AFB-AA8E-6BDEAED4E28F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3659040" y="733320"/>
            <a:ext cx="4859280" cy="27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riting Win32</a:t>
            </a:r>
            <a:r>
              <a:rPr b="1" lang="en-US" sz="4000" spc="-1" strike="noStrike" baseline="45000">
                <a:solidFill>
                  <a:srgbClr val="f4d337"/>
                </a:solidFill>
                <a:latin typeface="Times New Roman"/>
                <a:ea typeface="Times New Roman"/>
              </a:rPr>
              <a:t>®</a:t>
            </a: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 Applications For A Network Environ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3659040" y="4059360"/>
            <a:ext cx="4959360" cy="18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David Bea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Technical Evangel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Developer Relations 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Microsoft Corp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765600" y="5983200"/>
            <a:ext cx="386856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66560" y="1521000"/>
            <a:ext cx="2813040" cy="33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80880" y="216000"/>
            <a:ext cx="8381880" cy="16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40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indows Open Services Architecture:  Transparent Access To Heterogeneous Servic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81600" y="3343320"/>
            <a:ext cx="686160" cy="1143360"/>
          </a:xfrm>
          <a:custGeom>
            <a:avLst/>
            <a:gdLst/>
            <a:ahLst/>
            <a:rect l="0" t="0" r="r" b="b"/>
            <a:pathLst>
              <a:path w="1906" h="3176">
                <a:moveTo>
                  <a:pt x="0" y="1057"/>
                </a:moveTo>
                <a:lnTo>
                  <a:pt x="0" y="2115"/>
                </a:lnTo>
                <a:lnTo>
                  <a:pt x="1334" y="2115"/>
                </a:lnTo>
                <a:lnTo>
                  <a:pt x="1334" y="3176"/>
                </a:lnTo>
                <a:lnTo>
                  <a:pt x="1906" y="1587"/>
                </a:lnTo>
                <a:lnTo>
                  <a:pt x="1334" y="0"/>
                </a:lnTo>
                <a:lnTo>
                  <a:pt x="1334" y="1057"/>
                </a:lnTo>
                <a:lnTo>
                  <a:pt x="0" y="1057"/>
                </a:lnTo>
                <a:close/>
              </a:path>
            </a:pathLst>
          </a:custGeom>
          <a:solidFill>
            <a:srgbClr val="650865"/>
          </a:solidFill>
          <a:ln w="12600">
            <a:solidFill>
              <a:srgbClr val="65086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90560" y="3343320"/>
            <a:ext cx="686160" cy="1143360"/>
          </a:xfrm>
          <a:custGeom>
            <a:avLst/>
            <a:gdLst/>
            <a:ahLst/>
            <a:rect l="0" t="0" r="r" b="b"/>
            <a:pathLst>
              <a:path w="1906" h="3176">
                <a:moveTo>
                  <a:pt x="1906" y="1057"/>
                </a:moveTo>
                <a:lnTo>
                  <a:pt x="1906" y="2115"/>
                </a:lnTo>
                <a:lnTo>
                  <a:pt x="571" y="2115"/>
                </a:lnTo>
                <a:lnTo>
                  <a:pt x="571" y="3176"/>
                </a:lnTo>
                <a:lnTo>
                  <a:pt x="0" y="1587"/>
                </a:lnTo>
                <a:lnTo>
                  <a:pt x="571" y="0"/>
                </a:lnTo>
                <a:lnTo>
                  <a:pt x="571" y="1057"/>
                </a:lnTo>
                <a:lnTo>
                  <a:pt x="1906" y="1057"/>
                </a:lnTo>
                <a:close/>
              </a:path>
            </a:pathLst>
          </a:custGeom>
          <a:solidFill>
            <a:srgbClr val="650865"/>
          </a:solidFill>
          <a:ln w="12600">
            <a:solidFill>
              <a:srgbClr val="65086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54320" y="1981080"/>
            <a:ext cx="2728800" cy="3571920"/>
          </a:xfrm>
          <a:prstGeom prst="rect">
            <a:avLst/>
          </a:prstGeom>
          <a:solidFill>
            <a:srgbClr val="650865"/>
          </a:solidFill>
          <a:ln w="12600">
            <a:solidFill>
              <a:srgbClr val="65086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85640" y="214200"/>
            <a:ext cx="817236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7696080" y="2716200"/>
            <a:ext cx="1066680" cy="6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F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99400" y="2714760"/>
            <a:ext cx="863640" cy="12207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6824520" y="3287880"/>
            <a:ext cx="97488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905360" y="5006880"/>
            <a:ext cx="2154240" cy="9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vell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etWare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indows 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nyan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INES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7048440" y="4952880"/>
            <a:ext cx="1646640" cy="1243440"/>
            <a:chOff x="7048440" y="4952880"/>
            <a:chExt cx="1646640" cy="1243440"/>
          </a:xfrm>
        </p:grpSpPr>
        <p:sp>
          <p:nvSpPr>
            <p:cNvPr id="69" name=""/>
            <p:cNvSpPr/>
            <p:nvPr/>
          </p:nvSpPr>
          <p:spPr>
            <a:xfrm>
              <a:off x="7475400" y="542448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0" y="195"/>
                  </a:moveTo>
                  <a:lnTo>
                    <a:pt x="0" y="0"/>
                  </a:lnTo>
                  <a:lnTo>
                    <a:pt x="195" y="0"/>
                  </a:lnTo>
                  <a:lnTo>
                    <a:pt x="195" y="195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588080" y="5424480"/>
              <a:ext cx="71640" cy="70200"/>
            </a:xfrm>
            <a:custGeom>
              <a:avLst/>
              <a:gdLst/>
              <a:ahLst/>
              <a:rect l="0" t="0" r="r" b="b"/>
              <a:pathLst>
                <a:path w="199" h="195">
                  <a:moveTo>
                    <a:pt x="0" y="195"/>
                  </a:moveTo>
                  <a:lnTo>
                    <a:pt x="0" y="0"/>
                  </a:lnTo>
                  <a:lnTo>
                    <a:pt x="199" y="0"/>
                  </a:lnTo>
                  <a:lnTo>
                    <a:pt x="199" y="195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776f65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696080" y="5424480"/>
              <a:ext cx="73440" cy="70200"/>
            </a:xfrm>
            <a:custGeom>
              <a:avLst/>
              <a:gdLst/>
              <a:ahLst/>
              <a:rect l="0" t="0" r="r" b="b"/>
              <a:pathLst>
                <a:path w="204" h="195">
                  <a:moveTo>
                    <a:pt x="0" y="195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195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e6d7c1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742160" y="5597640"/>
              <a:ext cx="584640" cy="176400"/>
            </a:xfrm>
            <a:custGeom>
              <a:avLst/>
              <a:gdLst/>
              <a:ahLst/>
              <a:rect l="0" t="0" r="r" b="b"/>
              <a:pathLst>
                <a:path w="1624" h="490">
                  <a:moveTo>
                    <a:pt x="93" y="0"/>
                  </a:moveTo>
                  <a:lnTo>
                    <a:pt x="1469" y="17"/>
                  </a:lnTo>
                  <a:lnTo>
                    <a:pt x="1624" y="490"/>
                  </a:lnTo>
                  <a:lnTo>
                    <a:pt x="0" y="490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742160" y="5786280"/>
              <a:ext cx="584640" cy="3600"/>
            </a:xfrm>
            <a:custGeom>
              <a:avLst/>
              <a:gdLst/>
              <a:ahLst/>
              <a:rect l="0" t="0" r="r" b="b"/>
              <a:pathLst>
                <a:path w="1624" h="10">
                  <a:moveTo>
                    <a:pt x="1624" y="0"/>
                  </a:moveTo>
                  <a:lnTo>
                    <a:pt x="1624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1624" y="0"/>
                  </a:lnTo>
                  <a:close/>
                </a:path>
              </a:pathLst>
            </a:custGeom>
            <a:solidFill>
              <a:srgbClr val="737373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897680" y="5594400"/>
              <a:ext cx="272880" cy="11736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658280" y="5078520"/>
              <a:ext cx="33840" cy="565560"/>
            </a:xfrm>
            <a:custGeom>
              <a:avLst/>
              <a:gdLst/>
              <a:ahLst/>
              <a:rect l="0" t="0" r="r" b="b"/>
              <a:pathLst>
                <a:path w="94" h="1571">
                  <a:moveTo>
                    <a:pt x="67" y="0"/>
                  </a:moveTo>
                  <a:lnTo>
                    <a:pt x="0" y="49"/>
                  </a:lnTo>
                  <a:lnTo>
                    <a:pt x="0" y="1326"/>
                  </a:lnTo>
                  <a:lnTo>
                    <a:pt x="94" y="1571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723080" y="5075280"/>
              <a:ext cx="687600" cy="624240"/>
            </a:xfrm>
            <a:custGeom>
              <a:avLst/>
              <a:gdLst/>
              <a:ahLst/>
              <a:rect l="0" t="0" r="r" b="b"/>
              <a:pathLst>
                <a:path w="1910" h="1734">
                  <a:moveTo>
                    <a:pt x="1910" y="1548"/>
                  </a:moveTo>
                  <a:lnTo>
                    <a:pt x="0" y="1734"/>
                  </a:lnTo>
                  <a:lnTo>
                    <a:pt x="0" y="80"/>
                  </a:lnTo>
                  <a:lnTo>
                    <a:pt x="1910" y="0"/>
                  </a:lnTo>
                  <a:lnTo>
                    <a:pt x="1910" y="1548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778880" y="5097600"/>
              <a:ext cx="554400" cy="500400"/>
            </a:xfrm>
            <a:custGeom>
              <a:avLst/>
              <a:gdLst/>
              <a:ahLst/>
              <a:rect l="0" t="0" r="r" b="b"/>
              <a:pathLst>
                <a:path w="1540" h="1390">
                  <a:moveTo>
                    <a:pt x="1485" y="0"/>
                  </a:moveTo>
                  <a:lnTo>
                    <a:pt x="1491" y="12"/>
                  </a:lnTo>
                  <a:lnTo>
                    <a:pt x="1491" y="18"/>
                  </a:lnTo>
                  <a:lnTo>
                    <a:pt x="1497" y="30"/>
                  </a:lnTo>
                  <a:lnTo>
                    <a:pt x="1497" y="48"/>
                  </a:lnTo>
                  <a:lnTo>
                    <a:pt x="1503" y="67"/>
                  </a:lnTo>
                  <a:lnTo>
                    <a:pt x="1503" y="91"/>
                  </a:lnTo>
                  <a:lnTo>
                    <a:pt x="1516" y="116"/>
                  </a:lnTo>
                  <a:lnTo>
                    <a:pt x="1516" y="152"/>
                  </a:lnTo>
                  <a:lnTo>
                    <a:pt x="1522" y="183"/>
                  </a:lnTo>
                  <a:lnTo>
                    <a:pt x="1522" y="226"/>
                  </a:lnTo>
                  <a:lnTo>
                    <a:pt x="1522" y="263"/>
                  </a:lnTo>
                  <a:lnTo>
                    <a:pt x="1534" y="305"/>
                  </a:lnTo>
                  <a:lnTo>
                    <a:pt x="1534" y="348"/>
                  </a:lnTo>
                  <a:lnTo>
                    <a:pt x="1534" y="397"/>
                  </a:lnTo>
                  <a:lnTo>
                    <a:pt x="1534" y="434"/>
                  </a:lnTo>
                  <a:lnTo>
                    <a:pt x="1534" y="495"/>
                  </a:lnTo>
                  <a:lnTo>
                    <a:pt x="1540" y="538"/>
                  </a:lnTo>
                  <a:lnTo>
                    <a:pt x="1540" y="587"/>
                  </a:lnTo>
                  <a:lnTo>
                    <a:pt x="1540" y="648"/>
                  </a:lnTo>
                  <a:lnTo>
                    <a:pt x="1540" y="691"/>
                  </a:lnTo>
                  <a:lnTo>
                    <a:pt x="1540" y="747"/>
                  </a:lnTo>
                  <a:lnTo>
                    <a:pt x="1534" y="796"/>
                  </a:lnTo>
                  <a:lnTo>
                    <a:pt x="1534" y="839"/>
                  </a:lnTo>
                  <a:lnTo>
                    <a:pt x="1534" y="894"/>
                  </a:lnTo>
                  <a:lnTo>
                    <a:pt x="1534" y="937"/>
                  </a:lnTo>
                  <a:lnTo>
                    <a:pt x="1534" y="986"/>
                  </a:lnTo>
                  <a:lnTo>
                    <a:pt x="1522" y="1022"/>
                  </a:lnTo>
                  <a:lnTo>
                    <a:pt x="1522" y="1065"/>
                  </a:lnTo>
                  <a:lnTo>
                    <a:pt x="1522" y="1102"/>
                  </a:lnTo>
                  <a:lnTo>
                    <a:pt x="1516" y="1139"/>
                  </a:lnTo>
                  <a:lnTo>
                    <a:pt x="1516" y="1169"/>
                  </a:lnTo>
                  <a:lnTo>
                    <a:pt x="1503" y="1188"/>
                  </a:lnTo>
                  <a:lnTo>
                    <a:pt x="1503" y="1224"/>
                  </a:lnTo>
                  <a:lnTo>
                    <a:pt x="1497" y="1237"/>
                  </a:lnTo>
                  <a:lnTo>
                    <a:pt x="1491" y="1255"/>
                  </a:lnTo>
                  <a:lnTo>
                    <a:pt x="1491" y="1267"/>
                  </a:lnTo>
                  <a:lnTo>
                    <a:pt x="1454" y="1279"/>
                  </a:lnTo>
                  <a:lnTo>
                    <a:pt x="1423" y="1292"/>
                  </a:lnTo>
                  <a:lnTo>
                    <a:pt x="1404" y="1298"/>
                  </a:lnTo>
                  <a:lnTo>
                    <a:pt x="1379" y="1298"/>
                  </a:lnTo>
                  <a:lnTo>
                    <a:pt x="1361" y="1304"/>
                  </a:lnTo>
                  <a:lnTo>
                    <a:pt x="1311" y="1310"/>
                  </a:lnTo>
                  <a:lnTo>
                    <a:pt x="1298" y="1310"/>
                  </a:lnTo>
                  <a:lnTo>
                    <a:pt x="1255" y="1316"/>
                  </a:lnTo>
                  <a:lnTo>
                    <a:pt x="1224" y="1328"/>
                  </a:lnTo>
                  <a:lnTo>
                    <a:pt x="1181" y="1328"/>
                  </a:lnTo>
                  <a:lnTo>
                    <a:pt x="1149" y="1334"/>
                  </a:lnTo>
                  <a:lnTo>
                    <a:pt x="1105" y="1334"/>
                  </a:lnTo>
                  <a:lnTo>
                    <a:pt x="1068" y="1341"/>
                  </a:lnTo>
                  <a:lnTo>
                    <a:pt x="1024" y="1341"/>
                  </a:lnTo>
                  <a:lnTo>
                    <a:pt x="987" y="1347"/>
                  </a:lnTo>
                  <a:lnTo>
                    <a:pt x="944" y="1347"/>
                  </a:lnTo>
                  <a:lnTo>
                    <a:pt x="907" y="1353"/>
                  </a:lnTo>
                  <a:lnTo>
                    <a:pt x="863" y="1353"/>
                  </a:lnTo>
                  <a:lnTo>
                    <a:pt x="826" y="1371"/>
                  </a:lnTo>
                  <a:lnTo>
                    <a:pt x="782" y="1371"/>
                  </a:lnTo>
                  <a:lnTo>
                    <a:pt x="745" y="1371"/>
                  </a:lnTo>
                  <a:lnTo>
                    <a:pt x="702" y="1371"/>
                  </a:lnTo>
                  <a:lnTo>
                    <a:pt x="665" y="1377"/>
                  </a:lnTo>
                  <a:lnTo>
                    <a:pt x="621" y="1377"/>
                  </a:lnTo>
                  <a:lnTo>
                    <a:pt x="584" y="1377"/>
                  </a:lnTo>
                  <a:lnTo>
                    <a:pt x="540" y="1377"/>
                  </a:lnTo>
                  <a:lnTo>
                    <a:pt x="503" y="1377"/>
                  </a:lnTo>
                  <a:lnTo>
                    <a:pt x="460" y="1383"/>
                  </a:lnTo>
                  <a:lnTo>
                    <a:pt x="422" y="1383"/>
                  </a:lnTo>
                  <a:lnTo>
                    <a:pt x="378" y="1383"/>
                  </a:lnTo>
                  <a:lnTo>
                    <a:pt x="341" y="1383"/>
                  </a:lnTo>
                  <a:lnTo>
                    <a:pt x="297" y="1390"/>
                  </a:lnTo>
                  <a:lnTo>
                    <a:pt x="260" y="1383"/>
                  </a:lnTo>
                  <a:lnTo>
                    <a:pt x="217" y="1383"/>
                  </a:lnTo>
                  <a:lnTo>
                    <a:pt x="173" y="1383"/>
                  </a:lnTo>
                  <a:lnTo>
                    <a:pt x="136" y="1377"/>
                  </a:lnTo>
                  <a:lnTo>
                    <a:pt x="93" y="1377"/>
                  </a:lnTo>
                  <a:lnTo>
                    <a:pt x="55" y="1377"/>
                  </a:lnTo>
                  <a:lnTo>
                    <a:pt x="49" y="1353"/>
                  </a:lnTo>
                  <a:lnTo>
                    <a:pt x="49" y="1347"/>
                  </a:lnTo>
                  <a:lnTo>
                    <a:pt x="43" y="1341"/>
                  </a:lnTo>
                  <a:lnTo>
                    <a:pt x="37" y="1328"/>
                  </a:lnTo>
                  <a:lnTo>
                    <a:pt x="37" y="1310"/>
                  </a:lnTo>
                  <a:lnTo>
                    <a:pt x="24" y="1292"/>
                  </a:lnTo>
                  <a:lnTo>
                    <a:pt x="24" y="1261"/>
                  </a:lnTo>
                  <a:lnTo>
                    <a:pt x="12" y="1237"/>
                  </a:lnTo>
                  <a:lnTo>
                    <a:pt x="12" y="1200"/>
                  </a:lnTo>
                  <a:lnTo>
                    <a:pt x="12" y="1169"/>
                  </a:lnTo>
                  <a:lnTo>
                    <a:pt x="6" y="1133"/>
                  </a:lnTo>
                  <a:lnTo>
                    <a:pt x="6" y="1090"/>
                  </a:lnTo>
                  <a:lnTo>
                    <a:pt x="6" y="1053"/>
                  </a:lnTo>
                  <a:lnTo>
                    <a:pt x="0" y="1010"/>
                  </a:lnTo>
                  <a:lnTo>
                    <a:pt x="0" y="961"/>
                  </a:lnTo>
                  <a:lnTo>
                    <a:pt x="0" y="912"/>
                  </a:lnTo>
                  <a:lnTo>
                    <a:pt x="0" y="857"/>
                  </a:lnTo>
                  <a:lnTo>
                    <a:pt x="0" y="814"/>
                  </a:lnTo>
                  <a:lnTo>
                    <a:pt x="0" y="759"/>
                  </a:lnTo>
                  <a:lnTo>
                    <a:pt x="0" y="716"/>
                  </a:lnTo>
                  <a:lnTo>
                    <a:pt x="0" y="660"/>
                  </a:lnTo>
                  <a:lnTo>
                    <a:pt x="0" y="611"/>
                  </a:lnTo>
                  <a:lnTo>
                    <a:pt x="0" y="569"/>
                  </a:lnTo>
                  <a:lnTo>
                    <a:pt x="0" y="507"/>
                  </a:lnTo>
                  <a:lnTo>
                    <a:pt x="0" y="465"/>
                  </a:lnTo>
                  <a:lnTo>
                    <a:pt x="0" y="422"/>
                  </a:lnTo>
                  <a:lnTo>
                    <a:pt x="6" y="373"/>
                  </a:lnTo>
                  <a:lnTo>
                    <a:pt x="6" y="336"/>
                  </a:lnTo>
                  <a:lnTo>
                    <a:pt x="6" y="293"/>
                  </a:lnTo>
                  <a:lnTo>
                    <a:pt x="12" y="257"/>
                  </a:lnTo>
                  <a:lnTo>
                    <a:pt x="12" y="226"/>
                  </a:lnTo>
                  <a:lnTo>
                    <a:pt x="12" y="189"/>
                  </a:lnTo>
                  <a:lnTo>
                    <a:pt x="24" y="159"/>
                  </a:lnTo>
                  <a:lnTo>
                    <a:pt x="24" y="140"/>
                  </a:lnTo>
                  <a:lnTo>
                    <a:pt x="37" y="110"/>
                  </a:lnTo>
                  <a:lnTo>
                    <a:pt x="37" y="97"/>
                  </a:lnTo>
                  <a:lnTo>
                    <a:pt x="43" y="79"/>
                  </a:lnTo>
                  <a:lnTo>
                    <a:pt x="49" y="73"/>
                  </a:lnTo>
                  <a:lnTo>
                    <a:pt x="49" y="67"/>
                  </a:lnTo>
                  <a:lnTo>
                    <a:pt x="55" y="67"/>
                  </a:lnTo>
                  <a:lnTo>
                    <a:pt x="1485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691400" y="5035680"/>
              <a:ext cx="719640" cy="55800"/>
            </a:xfrm>
            <a:custGeom>
              <a:avLst/>
              <a:gdLst/>
              <a:ahLst/>
              <a:rect l="0" t="0" r="r" b="b"/>
              <a:pathLst>
                <a:path w="1999" h="155">
                  <a:moveTo>
                    <a:pt x="1999" y="88"/>
                  </a:moveTo>
                  <a:lnTo>
                    <a:pt x="1874" y="0"/>
                  </a:lnTo>
                  <a:lnTo>
                    <a:pt x="0" y="61"/>
                  </a:lnTo>
                  <a:lnTo>
                    <a:pt x="87" y="155"/>
                  </a:lnTo>
                  <a:lnTo>
                    <a:pt x="1999" y="88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691400" y="5062680"/>
              <a:ext cx="18000" cy="636840"/>
            </a:xfrm>
            <a:custGeom>
              <a:avLst/>
              <a:gdLst/>
              <a:ahLst/>
              <a:rect l="0" t="0" r="r" b="b"/>
              <a:pathLst>
                <a:path w="50" h="1769">
                  <a:moveTo>
                    <a:pt x="0" y="0"/>
                  </a:moveTo>
                  <a:lnTo>
                    <a:pt x="50" y="111"/>
                  </a:lnTo>
                  <a:lnTo>
                    <a:pt x="50" y="1769"/>
                  </a:lnTo>
                  <a:lnTo>
                    <a:pt x="0" y="16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369280" y="5075280"/>
              <a:ext cx="41760" cy="562320"/>
            </a:xfrm>
            <a:custGeom>
              <a:avLst/>
              <a:gdLst/>
              <a:ahLst/>
              <a:rect l="0" t="0" r="r" b="b"/>
              <a:pathLst>
                <a:path w="116" h="1562">
                  <a:moveTo>
                    <a:pt x="116" y="0"/>
                  </a:moveTo>
                  <a:lnTo>
                    <a:pt x="0" y="86"/>
                  </a:lnTo>
                  <a:lnTo>
                    <a:pt x="0" y="1401"/>
                  </a:lnTo>
                  <a:lnTo>
                    <a:pt x="116" y="1562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23080" y="5589720"/>
              <a:ext cx="687600" cy="109800"/>
            </a:xfrm>
            <a:custGeom>
              <a:avLst/>
              <a:gdLst/>
              <a:ahLst/>
              <a:rect l="0" t="0" r="r" b="b"/>
              <a:pathLst>
                <a:path w="1910" h="305">
                  <a:moveTo>
                    <a:pt x="1910" y="135"/>
                  </a:moveTo>
                  <a:lnTo>
                    <a:pt x="1760" y="0"/>
                  </a:lnTo>
                  <a:lnTo>
                    <a:pt x="150" y="135"/>
                  </a:lnTo>
                  <a:lnTo>
                    <a:pt x="0" y="305"/>
                  </a:lnTo>
                  <a:lnTo>
                    <a:pt x="1910" y="135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723080" y="5103720"/>
              <a:ext cx="44640" cy="595800"/>
            </a:xfrm>
            <a:custGeom>
              <a:avLst/>
              <a:gdLst/>
              <a:ahLst/>
              <a:rect l="0" t="0" r="r" b="b"/>
              <a:pathLst>
                <a:path w="124" h="1655">
                  <a:moveTo>
                    <a:pt x="0" y="1655"/>
                  </a:moveTo>
                  <a:lnTo>
                    <a:pt x="124" y="1470"/>
                  </a:lnTo>
                  <a:lnTo>
                    <a:pt x="124" y="74"/>
                  </a:lnTo>
                  <a:lnTo>
                    <a:pt x="0" y="0"/>
                  </a:lnTo>
                  <a:lnTo>
                    <a:pt x="0" y="1655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710480" y="5075280"/>
              <a:ext cx="703800" cy="44640"/>
            </a:xfrm>
            <a:custGeom>
              <a:avLst/>
              <a:gdLst/>
              <a:ahLst/>
              <a:rect l="0" t="0" r="r" b="b"/>
              <a:pathLst>
                <a:path w="1955" h="124">
                  <a:moveTo>
                    <a:pt x="0" y="61"/>
                  </a:moveTo>
                  <a:lnTo>
                    <a:pt x="150" y="124"/>
                  </a:lnTo>
                  <a:lnTo>
                    <a:pt x="1798" y="67"/>
                  </a:lnTo>
                  <a:lnTo>
                    <a:pt x="1955" y="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365960" y="5064120"/>
              <a:ext cx="271800" cy="918000"/>
            </a:xfrm>
            <a:custGeom>
              <a:avLst/>
              <a:gdLst/>
              <a:ahLst/>
              <a:rect l="0" t="0" r="r" b="b"/>
              <a:pathLst>
                <a:path w="755" h="2550">
                  <a:moveTo>
                    <a:pt x="755" y="0"/>
                  </a:moveTo>
                  <a:lnTo>
                    <a:pt x="755" y="2271"/>
                  </a:lnTo>
                  <a:lnTo>
                    <a:pt x="0" y="2550"/>
                  </a:lnTo>
                  <a:lnTo>
                    <a:pt x="0" y="99"/>
                  </a:lnTo>
                  <a:lnTo>
                    <a:pt x="755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48440" y="4952880"/>
              <a:ext cx="589320" cy="136800"/>
            </a:xfrm>
            <a:custGeom>
              <a:avLst/>
              <a:gdLst/>
              <a:ahLst/>
              <a:rect l="0" t="0" r="r" b="b"/>
              <a:pathLst>
                <a:path w="1637" h="380">
                  <a:moveTo>
                    <a:pt x="1637" y="282"/>
                  </a:moveTo>
                  <a:lnTo>
                    <a:pt x="758" y="0"/>
                  </a:lnTo>
                  <a:lnTo>
                    <a:pt x="0" y="86"/>
                  </a:lnTo>
                  <a:lnTo>
                    <a:pt x="865" y="380"/>
                  </a:lnTo>
                  <a:lnTo>
                    <a:pt x="1637" y="282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048440" y="4986360"/>
              <a:ext cx="305280" cy="995760"/>
            </a:xfrm>
            <a:custGeom>
              <a:avLst/>
              <a:gdLst/>
              <a:ahLst/>
              <a:rect l="0" t="0" r="r" b="b"/>
              <a:pathLst>
                <a:path w="848" h="2766">
                  <a:moveTo>
                    <a:pt x="848" y="304"/>
                  </a:moveTo>
                  <a:lnTo>
                    <a:pt x="0" y="0"/>
                  </a:lnTo>
                  <a:lnTo>
                    <a:pt x="0" y="2282"/>
                  </a:lnTo>
                  <a:lnTo>
                    <a:pt x="848" y="2766"/>
                  </a:lnTo>
                  <a:lnTo>
                    <a:pt x="848" y="304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392960" y="5478480"/>
              <a:ext cx="221040" cy="192600"/>
            </a:xfrm>
            <a:custGeom>
              <a:avLst/>
              <a:gdLst/>
              <a:ahLst/>
              <a:rect l="0" t="0" r="r" b="b"/>
              <a:pathLst>
                <a:path w="614" h="535">
                  <a:moveTo>
                    <a:pt x="614" y="0"/>
                  </a:moveTo>
                  <a:lnTo>
                    <a:pt x="614" y="366"/>
                  </a:lnTo>
                  <a:lnTo>
                    <a:pt x="0" y="535"/>
                  </a:lnTo>
                  <a:lnTo>
                    <a:pt x="0" y="144"/>
                  </a:lnTo>
                  <a:lnTo>
                    <a:pt x="614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392960" y="5278320"/>
              <a:ext cx="221040" cy="186120"/>
            </a:xfrm>
            <a:custGeom>
              <a:avLst/>
              <a:gdLst/>
              <a:ahLst/>
              <a:rect l="0" t="0" r="r" b="b"/>
              <a:pathLst>
                <a:path w="614" h="517">
                  <a:moveTo>
                    <a:pt x="614" y="0"/>
                  </a:moveTo>
                  <a:lnTo>
                    <a:pt x="614" y="362"/>
                  </a:lnTo>
                  <a:lnTo>
                    <a:pt x="0" y="517"/>
                  </a:lnTo>
                  <a:lnTo>
                    <a:pt x="0" y="112"/>
                  </a:lnTo>
                  <a:lnTo>
                    <a:pt x="614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3000" y="5276880"/>
              <a:ext cx="5040" cy="140040"/>
            </a:xfrm>
            <a:custGeom>
              <a:avLst/>
              <a:gdLst/>
              <a:ahLst/>
              <a:rect l="0" t="0" r="r" b="b"/>
              <a:pathLst>
                <a:path w="14" h="389">
                  <a:moveTo>
                    <a:pt x="14" y="0"/>
                  </a:moveTo>
                  <a:lnTo>
                    <a:pt x="0" y="0"/>
                  </a:lnTo>
                  <a:lnTo>
                    <a:pt x="0" y="389"/>
                  </a:lnTo>
                  <a:lnTo>
                    <a:pt x="14" y="35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392960" y="5423040"/>
              <a:ext cx="230400" cy="54360"/>
            </a:xfrm>
            <a:custGeom>
              <a:avLst/>
              <a:gdLst/>
              <a:ahLst/>
              <a:rect l="0" t="0" r="r" b="b"/>
              <a:pathLst>
                <a:path w="640" h="151">
                  <a:moveTo>
                    <a:pt x="640" y="19"/>
                  </a:moveTo>
                  <a:lnTo>
                    <a:pt x="616" y="0"/>
                  </a:lnTo>
                  <a:lnTo>
                    <a:pt x="0" y="118"/>
                  </a:lnTo>
                  <a:lnTo>
                    <a:pt x="0" y="151"/>
                  </a:lnTo>
                  <a:lnTo>
                    <a:pt x="640" y="19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412040" y="5429160"/>
              <a:ext cx="236880" cy="68760"/>
            </a:xfrm>
            <a:custGeom>
              <a:avLst/>
              <a:gdLst/>
              <a:ahLst/>
              <a:rect l="0" t="0" r="r" b="b"/>
              <a:pathLst>
                <a:path w="658" h="191">
                  <a:moveTo>
                    <a:pt x="621" y="0"/>
                  </a:moveTo>
                  <a:lnTo>
                    <a:pt x="658" y="57"/>
                  </a:lnTo>
                  <a:lnTo>
                    <a:pt x="30" y="191"/>
                  </a:lnTo>
                  <a:lnTo>
                    <a:pt x="0" y="123"/>
                  </a:lnTo>
                  <a:lnTo>
                    <a:pt x="621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12040" y="5457960"/>
              <a:ext cx="236880" cy="60840"/>
            </a:xfrm>
            <a:custGeom>
              <a:avLst/>
              <a:gdLst/>
              <a:ahLst/>
              <a:rect l="0" t="0" r="r" b="b"/>
              <a:pathLst>
                <a:path w="658" h="169">
                  <a:moveTo>
                    <a:pt x="658" y="0"/>
                  </a:moveTo>
                  <a:lnTo>
                    <a:pt x="621" y="35"/>
                  </a:lnTo>
                  <a:lnTo>
                    <a:pt x="0" y="169"/>
                  </a:lnTo>
                  <a:lnTo>
                    <a:pt x="30" y="122"/>
                  </a:lnTo>
                  <a:lnTo>
                    <a:pt x="658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410600" y="5484960"/>
              <a:ext cx="1800" cy="33840"/>
            </a:xfrm>
            <a:custGeom>
              <a:avLst/>
              <a:gdLst/>
              <a:ahLst/>
              <a:rect l="0" t="0" r="r" b="b"/>
              <a:pathLst>
                <a:path w="5" h="94">
                  <a:moveTo>
                    <a:pt x="5" y="0"/>
                  </a:moveTo>
                  <a:lnTo>
                    <a:pt x="0" y="47"/>
                  </a:lnTo>
                  <a:lnTo>
                    <a:pt x="5" y="9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ada391"/>
            </a:solidFill>
            <a:ln w="0">
              <a:noFill/>
            </a:ln>
          </p:spPr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623000" y="5475240"/>
              <a:ext cx="5040" cy="140040"/>
            </a:xfrm>
            <a:custGeom>
              <a:avLst/>
              <a:gdLst/>
              <a:ahLst/>
              <a:rect l="0" t="0" r="r" b="b"/>
              <a:pathLst>
                <a:path w="14" h="389">
                  <a:moveTo>
                    <a:pt x="14" y="11"/>
                  </a:moveTo>
                  <a:lnTo>
                    <a:pt x="0" y="0"/>
                  </a:lnTo>
                  <a:lnTo>
                    <a:pt x="0" y="389"/>
                  </a:lnTo>
                  <a:lnTo>
                    <a:pt x="14" y="365"/>
                  </a:lnTo>
                  <a:lnTo>
                    <a:pt x="14" y="1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392960" y="5622840"/>
              <a:ext cx="230400" cy="60840"/>
            </a:xfrm>
            <a:custGeom>
              <a:avLst/>
              <a:gdLst/>
              <a:ahLst/>
              <a:rect l="0" t="0" r="r" b="b"/>
              <a:pathLst>
                <a:path w="640" h="169">
                  <a:moveTo>
                    <a:pt x="616" y="0"/>
                  </a:moveTo>
                  <a:lnTo>
                    <a:pt x="640" y="25"/>
                  </a:lnTo>
                  <a:lnTo>
                    <a:pt x="0" y="169"/>
                  </a:lnTo>
                  <a:lnTo>
                    <a:pt x="0" y="134"/>
                  </a:lnTo>
                  <a:lnTo>
                    <a:pt x="616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42280" y="5127480"/>
              <a:ext cx="119520" cy="52920"/>
            </a:xfrm>
            <a:custGeom>
              <a:avLst/>
              <a:gdLst/>
              <a:ahLst/>
              <a:rect l="0" t="0" r="r" b="b"/>
              <a:pathLst>
                <a:path w="332" h="147">
                  <a:moveTo>
                    <a:pt x="332" y="0"/>
                  </a:moveTo>
                  <a:lnTo>
                    <a:pt x="304" y="51"/>
                  </a:lnTo>
                  <a:lnTo>
                    <a:pt x="332" y="91"/>
                  </a:lnTo>
                  <a:lnTo>
                    <a:pt x="0" y="147"/>
                  </a:lnTo>
                  <a:lnTo>
                    <a:pt x="0" y="41"/>
                  </a:lnTo>
                  <a:lnTo>
                    <a:pt x="332" y="0"/>
                  </a:ln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91520" y="5135400"/>
              <a:ext cx="232200" cy="41760"/>
            </a:xfrm>
            <a:custGeom>
              <a:avLst/>
              <a:gdLst/>
              <a:ahLst/>
              <a:rect l="0" t="0" r="r" b="b"/>
              <a:pathLst>
                <a:path w="645" h="116">
                  <a:moveTo>
                    <a:pt x="645" y="0"/>
                  </a:moveTo>
                  <a:lnTo>
                    <a:pt x="0" y="83"/>
                  </a:lnTo>
                  <a:lnTo>
                    <a:pt x="0" y="116"/>
                  </a:lnTo>
                  <a:lnTo>
                    <a:pt x="645" y="22"/>
                  </a:lnTo>
                  <a:lnTo>
                    <a:pt x="645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61440" y="5127480"/>
              <a:ext cx="1800" cy="30600"/>
            </a:xfrm>
            <a:custGeom>
              <a:avLst/>
              <a:gdLst/>
              <a:ahLst/>
              <a:rect l="0" t="0" r="r" b="b"/>
              <a:pathLst>
                <a:path w="5" h="85">
                  <a:moveTo>
                    <a:pt x="0" y="0"/>
                  </a:moveTo>
                  <a:lnTo>
                    <a:pt x="0" y="85"/>
                  </a:lnTo>
                  <a:lnTo>
                    <a:pt x="5" y="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d9484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97640" y="5137200"/>
              <a:ext cx="216360" cy="38520"/>
            </a:xfrm>
            <a:custGeom>
              <a:avLst/>
              <a:gdLst/>
              <a:ahLst/>
              <a:rect l="0" t="0" r="r" b="b"/>
              <a:pathLst>
                <a:path w="601" h="107">
                  <a:moveTo>
                    <a:pt x="601" y="0"/>
                  </a:moveTo>
                  <a:lnTo>
                    <a:pt x="0" y="88"/>
                  </a:lnTo>
                  <a:lnTo>
                    <a:pt x="0" y="107"/>
                  </a:lnTo>
                  <a:lnTo>
                    <a:pt x="601" y="9"/>
                  </a:lnTo>
                  <a:lnTo>
                    <a:pt x="601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236000" y="5889600"/>
              <a:ext cx="18000" cy="51120"/>
            </a:xfrm>
            <a:custGeom>
              <a:avLst/>
              <a:gdLst/>
              <a:ahLst/>
              <a:rect l="0" t="0" r="r" b="b"/>
              <a:pathLst>
                <a:path w="50" h="142">
                  <a:moveTo>
                    <a:pt x="50" y="106"/>
                  </a:moveTo>
                  <a:lnTo>
                    <a:pt x="0" y="142"/>
                  </a:lnTo>
                  <a:lnTo>
                    <a:pt x="50" y="0"/>
                  </a:lnTo>
                  <a:lnTo>
                    <a:pt x="50" y="106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191360" y="5864400"/>
              <a:ext cx="62280" cy="76680"/>
            </a:xfrm>
            <a:custGeom>
              <a:avLst/>
              <a:gdLst/>
              <a:ahLst/>
              <a:rect l="0" t="0" r="r" b="b"/>
              <a:pathLst>
                <a:path w="173" h="213">
                  <a:moveTo>
                    <a:pt x="173" y="55"/>
                  </a:moveTo>
                  <a:lnTo>
                    <a:pt x="105" y="213"/>
                  </a:lnTo>
                  <a:lnTo>
                    <a:pt x="0" y="142"/>
                  </a:lnTo>
                  <a:lnTo>
                    <a:pt x="63" y="0"/>
                  </a:lnTo>
                  <a:lnTo>
                    <a:pt x="173" y="55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102440" y="5821200"/>
              <a:ext cx="18000" cy="43200"/>
            </a:xfrm>
            <a:custGeom>
              <a:avLst/>
              <a:gdLst/>
              <a:ahLst/>
              <a:rect l="0" t="0" r="r" b="b"/>
              <a:pathLst>
                <a:path w="50" h="120">
                  <a:moveTo>
                    <a:pt x="50" y="88"/>
                  </a:moveTo>
                  <a:lnTo>
                    <a:pt x="0" y="120"/>
                  </a:lnTo>
                  <a:lnTo>
                    <a:pt x="50" y="0"/>
                  </a:lnTo>
                  <a:lnTo>
                    <a:pt x="50" y="8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67520" y="5802480"/>
              <a:ext cx="52920" cy="62280"/>
            </a:xfrm>
            <a:custGeom>
              <a:avLst/>
              <a:gdLst/>
              <a:ahLst/>
              <a:rect l="0" t="0" r="r" b="b"/>
              <a:pathLst>
                <a:path w="147" h="173">
                  <a:moveTo>
                    <a:pt x="147" y="40"/>
                  </a:moveTo>
                  <a:lnTo>
                    <a:pt x="81" y="173"/>
                  </a:lnTo>
                  <a:lnTo>
                    <a:pt x="0" y="112"/>
                  </a:lnTo>
                  <a:lnTo>
                    <a:pt x="61" y="0"/>
                  </a:lnTo>
                  <a:lnTo>
                    <a:pt x="147" y="4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362720" y="5699160"/>
              <a:ext cx="275040" cy="97200"/>
            </a:xfrm>
            <a:custGeom>
              <a:avLst/>
              <a:gdLst/>
              <a:ahLst/>
              <a:rect l="0" t="0" r="r" b="b"/>
              <a:pathLst>
                <a:path w="764" h="270">
                  <a:moveTo>
                    <a:pt x="764" y="44"/>
                  </a:moveTo>
                  <a:lnTo>
                    <a:pt x="12" y="270"/>
                  </a:lnTo>
                  <a:lnTo>
                    <a:pt x="0" y="214"/>
                  </a:lnTo>
                  <a:lnTo>
                    <a:pt x="752" y="0"/>
                  </a:lnTo>
                  <a:lnTo>
                    <a:pt x="764" y="44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62720" y="5678640"/>
              <a:ext cx="275040" cy="95760"/>
            </a:xfrm>
            <a:custGeom>
              <a:avLst/>
              <a:gdLst/>
              <a:ahLst/>
              <a:rect l="0" t="0" r="r" b="b"/>
              <a:pathLst>
                <a:path w="764" h="266">
                  <a:moveTo>
                    <a:pt x="752" y="49"/>
                  </a:moveTo>
                  <a:lnTo>
                    <a:pt x="0" y="266"/>
                  </a:lnTo>
                  <a:lnTo>
                    <a:pt x="12" y="216"/>
                  </a:lnTo>
                  <a:lnTo>
                    <a:pt x="764" y="0"/>
                  </a:lnTo>
                  <a:lnTo>
                    <a:pt x="752" y="4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362720" y="5738760"/>
              <a:ext cx="275040" cy="105120"/>
            </a:xfrm>
            <a:custGeom>
              <a:avLst/>
              <a:gdLst/>
              <a:ahLst/>
              <a:rect l="0" t="0" r="r" b="b"/>
              <a:pathLst>
                <a:path w="764" h="292">
                  <a:moveTo>
                    <a:pt x="764" y="55"/>
                  </a:moveTo>
                  <a:lnTo>
                    <a:pt x="12" y="292"/>
                  </a:lnTo>
                  <a:lnTo>
                    <a:pt x="0" y="224"/>
                  </a:lnTo>
                  <a:lnTo>
                    <a:pt x="752" y="0"/>
                  </a:lnTo>
                  <a:lnTo>
                    <a:pt x="764" y="55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362720" y="5719680"/>
              <a:ext cx="275040" cy="95760"/>
            </a:xfrm>
            <a:custGeom>
              <a:avLst/>
              <a:gdLst/>
              <a:ahLst/>
              <a:rect l="0" t="0" r="r" b="b"/>
              <a:pathLst>
                <a:path w="764" h="266">
                  <a:moveTo>
                    <a:pt x="752" y="40"/>
                  </a:moveTo>
                  <a:lnTo>
                    <a:pt x="0" y="266"/>
                  </a:lnTo>
                  <a:lnTo>
                    <a:pt x="12" y="209"/>
                  </a:lnTo>
                  <a:lnTo>
                    <a:pt x="764" y="0"/>
                  </a:lnTo>
                  <a:lnTo>
                    <a:pt x="752" y="4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362720" y="5786280"/>
              <a:ext cx="275040" cy="95760"/>
            </a:xfrm>
            <a:custGeom>
              <a:avLst/>
              <a:gdLst/>
              <a:ahLst/>
              <a:rect l="0" t="0" r="r" b="b"/>
              <a:pathLst>
                <a:path w="764" h="266">
                  <a:moveTo>
                    <a:pt x="764" y="38"/>
                  </a:moveTo>
                  <a:lnTo>
                    <a:pt x="12" y="266"/>
                  </a:lnTo>
                  <a:lnTo>
                    <a:pt x="0" y="211"/>
                  </a:lnTo>
                  <a:lnTo>
                    <a:pt x="752" y="0"/>
                  </a:lnTo>
                  <a:lnTo>
                    <a:pt x="764" y="38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362720" y="5759280"/>
              <a:ext cx="275040" cy="101880"/>
            </a:xfrm>
            <a:custGeom>
              <a:avLst/>
              <a:gdLst/>
              <a:ahLst/>
              <a:rect l="0" t="0" r="r" b="b"/>
              <a:pathLst>
                <a:path w="764" h="283">
                  <a:moveTo>
                    <a:pt x="752" y="55"/>
                  </a:moveTo>
                  <a:lnTo>
                    <a:pt x="0" y="283"/>
                  </a:lnTo>
                  <a:lnTo>
                    <a:pt x="12" y="227"/>
                  </a:lnTo>
                  <a:lnTo>
                    <a:pt x="764" y="0"/>
                  </a:lnTo>
                  <a:lnTo>
                    <a:pt x="752" y="5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362720" y="5827680"/>
              <a:ext cx="275040" cy="98640"/>
            </a:xfrm>
            <a:custGeom>
              <a:avLst/>
              <a:gdLst/>
              <a:ahLst/>
              <a:rect l="0" t="0" r="r" b="b"/>
              <a:pathLst>
                <a:path w="764" h="274">
                  <a:moveTo>
                    <a:pt x="764" y="43"/>
                  </a:moveTo>
                  <a:lnTo>
                    <a:pt x="12" y="274"/>
                  </a:lnTo>
                  <a:lnTo>
                    <a:pt x="0" y="214"/>
                  </a:lnTo>
                  <a:lnTo>
                    <a:pt x="752" y="0"/>
                  </a:lnTo>
                  <a:lnTo>
                    <a:pt x="764" y="43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362720" y="5803920"/>
              <a:ext cx="275040" cy="100440"/>
            </a:xfrm>
            <a:custGeom>
              <a:avLst/>
              <a:gdLst/>
              <a:ahLst/>
              <a:rect l="0" t="0" r="r" b="b"/>
              <a:pathLst>
                <a:path w="764" h="279">
                  <a:moveTo>
                    <a:pt x="752" y="44"/>
                  </a:moveTo>
                  <a:lnTo>
                    <a:pt x="0" y="279"/>
                  </a:lnTo>
                  <a:lnTo>
                    <a:pt x="12" y="224"/>
                  </a:lnTo>
                  <a:lnTo>
                    <a:pt x="764" y="0"/>
                  </a:lnTo>
                  <a:lnTo>
                    <a:pt x="752" y="4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412040" y="5222880"/>
              <a:ext cx="236880" cy="59040"/>
            </a:xfrm>
            <a:custGeom>
              <a:avLst/>
              <a:gdLst/>
              <a:ahLst/>
              <a:rect l="0" t="0" r="r" b="b"/>
              <a:pathLst>
                <a:path w="658" h="164">
                  <a:moveTo>
                    <a:pt x="621" y="0"/>
                  </a:moveTo>
                  <a:lnTo>
                    <a:pt x="658" y="63"/>
                  </a:lnTo>
                  <a:lnTo>
                    <a:pt x="30" y="164"/>
                  </a:lnTo>
                  <a:lnTo>
                    <a:pt x="0" y="95"/>
                  </a:lnTo>
                  <a:lnTo>
                    <a:pt x="621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412040" y="5256360"/>
              <a:ext cx="236880" cy="46440"/>
            </a:xfrm>
            <a:custGeom>
              <a:avLst/>
              <a:gdLst/>
              <a:ahLst/>
              <a:rect l="0" t="0" r="r" b="b"/>
              <a:pathLst>
                <a:path w="658" h="129">
                  <a:moveTo>
                    <a:pt x="658" y="0"/>
                  </a:moveTo>
                  <a:lnTo>
                    <a:pt x="621" y="38"/>
                  </a:lnTo>
                  <a:lnTo>
                    <a:pt x="0" y="129"/>
                  </a:lnTo>
                  <a:lnTo>
                    <a:pt x="30" y="86"/>
                  </a:lnTo>
                  <a:lnTo>
                    <a:pt x="658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10600" y="5264280"/>
              <a:ext cx="1800" cy="38520"/>
            </a:xfrm>
            <a:custGeom>
              <a:avLst/>
              <a:gdLst/>
              <a:ahLst/>
              <a:rect l="0" t="0" r="r" b="b"/>
              <a:pathLst>
                <a:path w="5" h="107">
                  <a:moveTo>
                    <a:pt x="5" y="0"/>
                  </a:moveTo>
                  <a:lnTo>
                    <a:pt x="0" y="58"/>
                  </a:lnTo>
                  <a:lnTo>
                    <a:pt x="5" y="10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737373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048440" y="5591160"/>
              <a:ext cx="601920" cy="174960"/>
            </a:xfrm>
            <a:custGeom>
              <a:avLst/>
              <a:gdLst/>
              <a:ahLst/>
              <a:rect l="0" t="0" r="r" b="b"/>
              <a:pathLst>
                <a:path fill="none" w="1672" h="486">
                  <a:moveTo>
                    <a:pt x="1672" y="239"/>
                  </a:moveTo>
                  <a:lnTo>
                    <a:pt x="877" y="486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737373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48440" y="5137200"/>
              <a:ext cx="601920" cy="141480"/>
            </a:xfrm>
            <a:custGeom>
              <a:avLst/>
              <a:gdLst/>
              <a:ahLst/>
              <a:rect l="0" t="0" r="r" b="b"/>
              <a:pathLst>
                <a:path fill="none" w="1672" h="393">
                  <a:moveTo>
                    <a:pt x="1672" y="237"/>
                  </a:moveTo>
                  <a:lnTo>
                    <a:pt x="884" y="39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737373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513560" y="5815080"/>
              <a:ext cx="1175040" cy="352800"/>
            </a:xfrm>
            <a:custGeom>
              <a:avLst/>
              <a:gdLst/>
              <a:ahLst/>
              <a:rect l="0" t="0" r="r" b="b"/>
              <a:pathLst>
                <a:path w="3264" h="980">
                  <a:moveTo>
                    <a:pt x="2880" y="0"/>
                  </a:moveTo>
                  <a:lnTo>
                    <a:pt x="0" y="188"/>
                  </a:lnTo>
                  <a:lnTo>
                    <a:pt x="226" y="980"/>
                  </a:lnTo>
                  <a:lnTo>
                    <a:pt x="3264" y="700"/>
                  </a:lnTo>
                  <a:lnTo>
                    <a:pt x="288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290080" y="6026040"/>
              <a:ext cx="79560" cy="28800"/>
            </a:xfrm>
            <a:custGeom>
              <a:avLst/>
              <a:gdLst/>
              <a:ahLst/>
              <a:rect l="0" t="0" r="r" b="b"/>
              <a:pathLst>
                <a:path w="221" h="80">
                  <a:moveTo>
                    <a:pt x="221" y="0"/>
                  </a:moveTo>
                  <a:lnTo>
                    <a:pt x="196" y="43"/>
                  </a:lnTo>
                  <a:lnTo>
                    <a:pt x="0" y="80"/>
                  </a:lnTo>
                  <a:lnTo>
                    <a:pt x="18" y="24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659720" y="5940360"/>
              <a:ext cx="709920" cy="181440"/>
            </a:xfrm>
            <a:custGeom>
              <a:avLst/>
              <a:gdLst/>
              <a:ahLst/>
              <a:rect l="0" t="0" r="r" b="b"/>
              <a:pathLst>
                <a:path w="1972" h="504">
                  <a:moveTo>
                    <a:pt x="1844" y="0"/>
                  </a:moveTo>
                  <a:lnTo>
                    <a:pt x="0" y="132"/>
                  </a:lnTo>
                  <a:lnTo>
                    <a:pt x="89" y="410"/>
                  </a:lnTo>
                  <a:lnTo>
                    <a:pt x="330" y="397"/>
                  </a:lnTo>
                  <a:lnTo>
                    <a:pt x="368" y="504"/>
                  </a:lnTo>
                  <a:lnTo>
                    <a:pt x="1832" y="365"/>
                  </a:lnTo>
                  <a:lnTo>
                    <a:pt x="1781" y="264"/>
                  </a:lnTo>
                  <a:lnTo>
                    <a:pt x="1972" y="239"/>
                  </a:lnTo>
                  <a:lnTo>
                    <a:pt x="1844" y="0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783560" y="6076800"/>
              <a:ext cx="535320" cy="57600"/>
            </a:xfrm>
            <a:custGeom>
              <a:avLst/>
              <a:gdLst/>
              <a:ahLst/>
              <a:rect l="0" t="0" r="r" b="b"/>
              <a:pathLst>
                <a:path w="1487" h="160">
                  <a:moveTo>
                    <a:pt x="1487" y="0"/>
                  </a:moveTo>
                  <a:lnTo>
                    <a:pt x="1461" y="42"/>
                  </a:lnTo>
                  <a:lnTo>
                    <a:pt x="0" y="160"/>
                  </a:lnTo>
                  <a:lnTo>
                    <a:pt x="25" y="118"/>
                  </a:lnTo>
                  <a:lnTo>
                    <a:pt x="1487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69160" y="6086520"/>
              <a:ext cx="24120" cy="47880"/>
            </a:xfrm>
            <a:custGeom>
              <a:avLst/>
              <a:gdLst/>
              <a:ahLst/>
              <a:rect l="0" t="0" r="r" b="b"/>
              <a:pathLst>
                <a:path w="67" h="133">
                  <a:moveTo>
                    <a:pt x="19" y="0"/>
                  </a:moveTo>
                  <a:lnTo>
                    <a:pt x="67" y="93"/>
                  </a:lnTo>
                  <a:lnTo>
                    <a:pt x="34" y="133"/>
                  </a:lnTo>
                  <a:lnTo>
                    <a:pt x="0" y="34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689960" y="6086520"/>
              <a:ext cx="89280" cy="19440"/>
            </a:xfrm>
            <a:custGeom>
              <a:avLst/>
              <a:gdLst/>
              <a:ahLst/>
              <a:rect l="0" t="0" r="r" b="b"/>
              <a:pathLst>
                <a:path w="248" h="54">
                  <a:moveTo>
                    <a:pt x="248" y="0"/>
                  </a:moveTo>
                  <a:lnTo>
                    <a:pt x="223" y="36"/>
                  </a:lnTo>
                  <a:lnTo>
                    <a:pt x="0" y="54"/>
                  </a:lnTo>
                  <a:lnTo>
                    <a:pt x="12" y="5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51800" y="5991120"/>
              <a:ext cx="41760" cy="114840"/>
            </a:xfrm>
            <a:custGeom>
              <a:avLst/>
              <a:gdLst/>
              <a:ahLst/>
              <a:rect l="0" t="0" r="r" b="b"/>
              <a:pathLst>
                <a:path w="116" h="319">
                  <a:moveTo>
                    <a:pt x="116" y="268"/>
                  </a:moveTo>
                  <a:lnTo>
                    <a:pt x="97" y="319"/>
                  </a:lnTo>
                  <a:lnTo>
                    <a:pt x="0" y="38"/>
                  </a:lnTo>
                  <a:lnTo>
                    <a:pt x="19" y="0"/>
                  </a:lnTo>
                  <a:lnTo>
                    <a:pt x="116" y="268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393040" y="5915160"/>
              <a:ext cx="278280" cy="151200"/>
            </a:xfrm>
            <a:custGeom>
              <a:avLst/>
              <a:gdLst/>
              <a:ahLst/>
              <a:rect l="0" t="0" r="r" b="b"/>
              <a:pathLst>
                <a:path w="773" h="420">
                  <a:moveTo>
                    <a:pt x="576" y="0"/>
                  </a:moveTo>
                  <a:lnTo>
                    <a:pt x="773" y="357"/>
                  </a:lnTo>
                  <a:lnTo>
                    <a:pt x="164" y="420"/>
                  </a:lnTo>
                  <a:lnTo>
                    <a:pt x="0" y="57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448840" y="6043680"/>
              <a:ext cx="222480" cy="33840"/>
            </a:xfrm>
            <a:custGeom>
              <a:avLst/>
              <a:gdLst/>
              <a:ahLst/>
              <a:rect l="0" t="0" r="r" b="b"/>
              <a:pathLst>
                <a:path w="618" h="94">
                  <a:moveTo>
                    <a:pt x="618" y="0"/>
                  </a:moveTo>
                  <a:lnTo>
                    <a:pt x="605" y="31"/>
                  </a:lnTo>
                  <a:lnTo>
                    <a:pt x="0" y="94"/>
                  </a:lnTo>
                  <a:lnTo>
                    <a:pt x="6" y="62"/>
                  </a:lnTo>
                  <a:lnTo>
                    <a:pt x="618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389800" y="5934240"/>
              <a:ext cx="62280" cy="143280"/>
            </a:xfrm>
            <a:custGeom>
              <a:avLst/>
              <a:gdLst/>
              <a:ahLst/>
              <a:rect l="0" t="0" r="r" b="b"/>
              <a:pathLst>
                <a:path w="173" h="398">
                  <a:moveTo>
                    <a:pt x="173" y="366"/>
                  </a:moveTo>
                  <a:lnTo>
                    <a:pt x="161" y="398"/>
                  </a:lnTo>
                  <a:lnTo>
                    <a:pt x="0" y="25"/>
                  </a:lnTo>
                  <a:lnTo>
                    <a:pt x="6" y="0"/>
                  </a:lnTo>
                  <a:lnTo>
                    <a:pt x="173" y="366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02480" y="6076800"/>
              <a:ext cx="1092600" cy="119520"/>
            </a:xfrm>
            <a:custGeom>
              <a:avLst/>
              <a:gdLst/>
              <a:ahLst/>
              <a:rect l="0" t="0" r="r" b="b"/>
              <a:pathLst>
                <a:path w="3035" h="332">
                  <a:moveTo>
                    <a:pt x="3035" y="0"/>
                  </a:moveTo>
                  <a:lnTo>
                    <a:pt x="3035" y="72"/>
                  </a:lnTo>
                  <a:lnTo>
                    <a:pt x="0" y="332"/>
                  </a:lnTo>
                  <a:lnTo>
                    <a:pt x="0" y="247"/>
                  </a:lnTo>
                  <a:lnTo>
                    <a:pt x="3035" y="0"/>
                  </a:lnTo>
                  <a:close/>
                </a:path>
              </a:pathLst>
            </a:custGeom>
            <a:solidFill>
              <a:srgbClr val="73737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524720" y="5884920"/>
              <a:ext cx="63720" cy="311400"/>
            </a:xfrm>
            <a:custGeom>
              <a:avLst/>
              <a:gdLst/>
              <a:ahLst/>
              <a:rect l="0" t="0" r="r" b="b"/>
              <a:pathLst>
                <a:path w="177" h="865">
                  <a:moveTo>
                    <a:pt x="0" y="0"/>
                  </a:moveTo>
                  <a:lnTo>
                    <a:pt x="0" y="235"/>
                  </a:lnTo>
                  <a:lnTo>
                    <a:pt x="177" y="865"/>
                  </a:lnTo>
                  <a:lnTo>
                    <a:pt x="177" y="7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421840" y="5932440"/>
              <a:ext cx="68040" cy="1256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462880" y="5925960"/>
              <a:ext cx="61920" cy="1288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497800" y="5923080"/>
              <a:ext cx="66600" cy="1285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537400" y="5919840"/>
              <a:ext cx="61920" cy="1270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572680" y="5915160"/>
              <a:ext cx="63360" cy="1285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8405640" y="5934240"/>
              <a:ext cx="209880" cy="205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8418600" y="5965920"/>
              <a:ext cx="207720" cy="219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8434440" y="5994360"/>
              <a:ext cx="209520" cy="158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8447040" y="6018120"/>
              <a:ext cx="208080" cy="255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359920" y="5843520"/>
              <a:ext cx="225720" cy="38520"/>
            </a:xfrm>
            <a:custGeom>
              <a:avLst/>
              <a:gdLst/>
              <a:ahLst/>
              <a:rect l="0" t="0" r="r" b="b"/>
              <a:pathLst>
                <a:path w="627" h="107">
                  <a:moveTo>
                    <a:pt x="588" y="0"/>
                  </a:moveTo>
                  <a:lnTo>
                    <a:pt x="627" y="60"/>
                  </a:lnTo>
                  <a:lnTo>
                    <a:pt x="38" y="107"/>
                  </a:lnTo>
                  <a:lnTo>
                    <a:pt x="0" y="40"/>
                  </a:lnTo>
                  <a:lnTo>
                    <a:pt x="588" y="0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358120" y="5861160"/>
              <a:ext cx="18000" cy="30600"/>
            </a:xfrm>
            <a:custGeom>
              <a:avLst/>
              <a:gdLst/>
              <a:ahLst/>
              <a:rect l="0" t="0" r="r" b="b"/>
              <a:pathLst>
                <a:path w="50" h="85">
                  <a:moveTo>
                    <a:pt x="50" y="54"/>
                  </a:moveTo>
                  <a:lnTo>
                    <a:pt x="6" y="0"/>
                  </a:lnTo>
                  <a:lnTo>
                    <a:pt x="0" y="30"/>
                  </a:lnTo>
                  <a:lnTo>
                    <a:pt x="28" y="85"/>
                  </a:lnTo>
                  <a:lnTo>
                    <a:pt x="50" y="54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69280" y="5864400"/>
              <a:ext cx="216360" cy="27360"/>
            </a:xfrm>
            <a:custGeom>
              <a:avLst/>
              <a:gdLst/>
              <a:ahLst/>
              <a:rect l="0" t="0" r="r" b="b"/>
              <a:pathLst>
                <a:path w="601" h="76">
                  <a:moveTo>
                    <a:pt x="601" y="0"/>
                  </a:moveTo>
                  <a:lnTo>
                    <a:pt x="12" y="38"/>
                  </a:lnTo>
                  <a:lnTo>
                    <a:pt x="0" y="76"/>
                  </a:lnTo>
                  <a:lnTo>
                    <a:pt x="588" y="32"/>
                  </a:lnTo>
                  <a:lnTo>
                    <a:pt x="601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396280" y="5859360"/>
              <a:ext cx="17640" cy="208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434440" y="5856120"/>
              <a:ext cx="9360" cy="241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467560" y="5856120"/>
              <a:ext cx="11160" cy="223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504280" y="5846760"/>
              <a:ext cx="11160" cy="316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537400" y="5846760"/>
              <a:ext cx="14400" cy="255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621560" y="5891040"/>
              <a:ext cx="222480" cy="43200"/>
            </a:xfrm>
            <a:custGeom>
              <a:avLst/>
              <a:gdLst/>
              <a:ahLst/>
              <a:rect l="0" t="0" r="r" b="b"/>
              <a:pathLst>
                <a:path w="618" h="120">
                  <a:moveTo>
                    <a:pt x="580" y="0"/>
                  </a:moveTo>
                  <a:lnTo>
                    <a:pt x="618" y="76"/>
                  </a:lnTo>
                  <a:lnTo>
                    <a:pt x="31" y="120"/>
                  </a:lnTo>
                  <a:lnTo>
                    <a:pt x="0" y="50"/>
                  </a:lnTo>
                  <a:lnTo>
                    <a:pt x="580" y="0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616880" y="5910120"/>
              <a:ext cx="16200" cy="36720"/>
            </a:xfrm>
            <a:custGeom>
              <a:avLst/>
              <a:gdLst/>
              <a:ahLst/>
              <a:rect l="0" t="0" r="r" b="b"/>
              <a:pathLst>
                <a:path w="45" h="102">
                  <a:moveTo>
                    <a:pt x="45" y="64"/>
                  </a:moveTo>
                  <a:lnTo>
                    <a:pt x="12" y="0"/>
                  </a:lnTo>
                  <a:lnTo>
                    <a:pt x="0" y="25"/>
                  </a:lnTo>
                  <a:lnTo>
                    <a:pt x="32" y="102"/>
                  </a:lnTo>
                  <a:lnTo>
                    <a:pt x="45" y="64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628040" y="5919840"/>
              <a:ext cx="216360" cy="27360"/>
            </a:xfrm>
            <a:custGeom>
              <a:avLst/>
              <a:gdLst/>
              <a:ahLst/>
              <a:rect l="0" t="0" r="r" b="b"/>
              <a:pathLst>
                <a:path w="601" h="76">
                  <a:moveTo>
                    <a:pt x="601" y="0"/>
                  </a:moveTo>
                  <a:lnTo>
                    <a:pt x="6" y="38"/>
                  </a:lnTo>
                  <a:lnTo>
                    <a:pt x="0" y="76"/>
                  </a:lnTo>
                  <a:lnTo>
                    <a:pt x="588" y="25"/>
                  </a:lnTo>
                  <a:lnTo>
                    <a:pt x="601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658280" y="5907240"/>
              <a:ext cx="9360" cy="252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920" bIns="-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691400" y="5907240"/>
              <a:ext cx="14400" cy="187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726320" y="5900760"/>
              <a:ext cx="9720" cy="252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920" bIns="-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65920" y="5900760"/>
              <a:ext cx="5040" cy="223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00840" y="5892840"/>
              <a:ext cx="7920" cy="270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4120" bIns="-24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0160" y="5861160"/>
              <a:ext cx="224280" cy="39960"/>
            </a:xfrm>
            <a:custGeom>
              <a:avLst/>
              <a:gdLst/>
              <a:ahLst/>
              <a:rect l="0" t="0" r="r" b="b"/>
              <a:pathLst>
                <a:path w="623" h="111">
                  <a:moveTo>
                    <a:pt x="585" y="0"/>
                  </a:moveTo>
                  <a:lnTo>
                    <a:pt x="623" y="68"/>
                  </a:lnTo>
                  <a:lnTo>
                    <a:pt x="31" y="111"/>
                  </a:lnTo>
                  <a:lnTo>
                    <a:pt x="0" y="42"/>
                  </a:lnTo>
                  <a:lnTo>
                    <a:pt x="585" y="0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12240" y="5878440"/>
              <a:ext cx="19440" cy="32040"/>
            </a:xfrm>
            <a:custGeom>
              <a:avLst/>
              <a:gdLst/>
              <a:ahLst/>
              <a:rect l="0" t="0" r="r" b="b"/>
              <a:pathLst>
                <a:path w="54" h="89">
                  <a:moveTo>
                    <a:pt x="54" y="48"/>
                  </a:moveTo>
                  <a:lnTo>
                    <a:pt x="20" y="0"/>
                  </a:lnTo>
                  <a:lnTo>
                    <a:pt x="0" y="23"/>
                  </a:lnTo>
                  <a:lnTo>
                    <a:pt x="34" y="89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126280" y="5884920"/>
              <a:ext cx="217800" cy="25920"/>
            </a:xfrm>
            <a:custGeom>
              <a:avLst/>
              <a:gdLst/>
              <a:ahLst/>
              <a:rect l="0" t="0" r="r" b="b"/>
              <a:pathLst>
                <a:path w="605" h="72">
                  <a:moveTo>
                    <a:pt x="605" y="0"/>
                  </a:moveTo>
                  <a:lnTo>
                    <a:pt x="12" y="26"/>
                  </a:lnTo>
                  <a:lnTo>
                    <a:pt x="0" y="72"/>
                  </a:lnTo>
                  <a:lnTo>
                    <a:pt x="586" y="20"/>
                  </a:lnTo>
                  <a:lnTo>
                    <a:pt x="605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55080" y="5878440"/>
              <a:ext cx="14040" cy="144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191440" y="5872320"/>
              <a:ext cx="12600" cy="187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23120" y="5864400"/>
              <a:ext cx="15840" cy="252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920" bIns="-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258040" y="5862600"/>
              <a:ext cx="9720" cy="270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4120" bIns="-24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98000" y="5861160"/>
              <a:ext cx="9360" cy="237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870680" y="5878440"/>
              <a:ext cx="222480" cy="36720"/>
            </a:xfrm>
            <a:custGeom>
              <a:avLst/>
              <a:gdLst/>
              <a:ahLst/>
              <a:rect l="0" t="0" r="r" b="b"/>
              <a:pathLst>
                <a:path w="618" h="102">
                  <a:moveTo>
                    <a:pt x="586" y="0"/>
                  </a:moveTo>
                  <a:lnTo>
                    <a:pt x="618" y="66"/>
                  </a:lnTo>
                  <a:lnTo>
                    <a:pt x="31" y="102"/>
                  </a:lnTo>
                  <a:lnTo>
                    <a:pt x="0" y="35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e6e6e6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862760" y="5891040"/>
              <a:ext cx="18000" cy="35280"/>
            </a:xfrm>
            <a:custGeom>
              <a:avLst/>
              <a:gdLst/>
              <a:ahLst/>
              <a:rect l="0" t="0" r="r" b="b"/>
              <a:pathLst>
                <a:path w="50" h="98">
                  <a:moveTo>
                    <a:pt x="50" y="61"/>
                  </a:moveTo>
                  <a:lnTo>
                    <a:pt x="17" y="0"/>
                  </a:lnTo>
                  <a:lnTo>
                    <a:pt x="0" y="30"/>
                  </a:lnTo>
                  <a:lnTo>
                    <a:pt x="33" y="98"/>
                  </a:lnTo>
                  <a:lnTo>
                    <a:pt x="50" y="61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878600" y="5900760"/>
              <a:ext cx="214560" cy="25920"/>
            </a:xfrm>
            <a:custGeom>
              <a:avLst/>
              <a:gdLst/>
              <a:ahLst/>
              <a:rect l="0" t="0" r="r" b="b"/>
              <a:pathLst>
                <a:path w="596" h="72">
                  <a:moveTo>
                    <a:pt x="596" y="0"/>
                  </a:moveTo>
                  <a:lnTo>
                    <a:pt x="6" y="36"/>
                  </a:lnTo>
                  <a:lnTo>
                    <a:pt x="0" y="72"/>
                  </a:lnTo>
                  <a:lnTo>
                    <a:pt x="583" y="24"/>
                  </a:lnTo>
                  <a:lnTo>
                    <a:pt x="596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4d4d4d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899480" y="5889600"/>
              <a:ext cx="15840" cy="255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940520" y="5884920"/>
              <a:ext cx="11160" cy="252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920" bIns="-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974000" y="5884920"/>
              <a:ext cx="12600" cy="223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008920" y="5881680"/>
              <a:ext cx="15840" cy="255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045280" y="5880240"/>
              <a:ext cx="14400" cy="237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 flipV="1">
              <a:off x="7696080" y="5991120"/>
              <a:ext cx="38160" cy="954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4280" bIns="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 flipV="1">
              <a:off x="7778880" y="5981760"/>
              <a:ext cx="50760" cy="1350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flipV="1">
              <a:off x="7818480" y="5981760"/>
              <a:ext cx="47520" cy="1332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7854840" y="5973840"/>
              <a:ext cx="44640" cy="1411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flipV="1">
              <a:off x="7888320" y="5973840"/>
              <a:ext cx="52200" cy="1317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flipV="1">
              <a:off x="7924680" y="5969160"/>
              <a:ext cx="58680" cy="1364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 flipV="1">
              <a:off x="7956720" y="5967360"/>
              <a:ext cx="60120" cy="1303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 flipV="1">
              <a:off x="8001000" y="5967360"/>
              <a:ext cx="57240" cy="1303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flipV="1">
              <a:off x="8034480" y="5965920"/>
              <a:ext cx="58680" cy="1270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 flipV="1">
              <a:off x="8067600" y="5959440"/>
              <a:ext cx="63720" cy="1335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 flipV="1">
              <a:off x="8102520" y="5959440"/>
              <a:ext cx="66600" cy="1270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 flipV="1">
              <a:off x="8143920" y="5954760"/>
              <a:ext cx="63360" cy="1299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8180280" y="5951520"/>
              <a:ext cx="61920" cy="1270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 flipV="1">
              <a:off x="8213760" y="5948280"/>
              <a:ext cx="66600" cy="1303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 flipV="1">
              <a:off x="8290080" y="5948280"/>
              <a:ext cx="42840" cy="8280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 flipV="1">
              <a:off x="7742160" y="5983200"/>
              <a:ext cx="50760" cy="1382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 flipV="1">
              <a:off x="8250120" y="5946840"/>
              <a:ext cx="68400" cy="12384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7674120" y="5967360"/>
              <a:ext cx="663480" cy="5076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7682040" y="5996160"/>
              <a:ext cx="671400" cy="5868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7778880" y="6037200"/>
              <a:ext cx="522000" cy="49320"/>
            </a:xfrm>
            <a:prstGeom prst="line">
              <a:avLst/>
            </a:prstGeom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0" name=""/>
          <p:cNvSpPr txBox="1"/>
          <p:nvPr/>
        </p:nvSpPr>
        <p:spPr>
          <a:xfrm>
            <a:off x="6402240" y="1738440"/>
            <a:ext cx="1139760" cy="88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S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B2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5556240" y="1743120"/>
            <a:ext cx="876240" cy="16444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 txBox="1"/>
          <p:nvPr/>
        </p:nvSpPr>
        <p:spPr>
          <a:xfrm>
            <a:off x="6483240" y="3917880"/>
            <a:ext cx="1347840" cy="6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-In-1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5705640" y="3645000"/>
            <a:ext cx="863640" cy="122076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 txBox="1"/>
          <p:nvPr/>
        </p:nvSpPr>
        <p:spPr>
          <a:xfrm>
            <a:off x="5688000" y="4311720"/>
            <a:ext cx="89856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M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®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2286000" y="2536920"/>
            <a:ext cx="274464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ac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Licen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Secu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Distributed 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193680" y="3138480"/>
            <a:ext cx="1562040" cy="13032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 txBox="1"/>
          <p:nvPr/>
        </p:nvSpPr>
        <p:spPr>
          <a:xfrm>
            <a:off x="9360" y="4462560"/>
            <a:ext cx="214308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fami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257480" y="6048360"/>
            <a:ext cx="499428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cess to heterogeneous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922480" y="2017800"/>
            <a:ext cx="14256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Application Class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0720" y="1739880"/>
            <a:ext cx="824400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vity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28800" indent="-37476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st behave appropriately in networked enviro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28800" indent="-37476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s:  word processors, spreadsheets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group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28800" indent="-37476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kes advantage of network services when pres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28800" indent="-37476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s:  group calendar, multiuser edit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-server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28800" indent="-37476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ies on the network for fundamental fun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28800" indent="-37476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s:  SQL Server applications, Lotus Notes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6480" y="266760"/>
            <a:ext cx="9131400" cy="6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indows “</a:t>
            </a:r>
            <a:r>
              <a:rPr b="1" i="1" lang="en-US" sz="3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Chicago</a:t>
            </a:r>
            <a:r>
              <a:rPr b="1" lang="en-US" sz="3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” Network Architecture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84320" y="133200"/>
            <a:ext cx="89298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752560" y="2959200"/>
            <a:ext cx="2166840" cy="655560"/>
          </a:xfrm>
          <a:prstGeom prst="rect">
            <a:avLst/>
          </a:prstGeom>
          <a:gradFill rotWithShape="0">
            <a:gsLst>
              <a:gs pos="0">
                <a:srgbClr val="1c766c"/>
              </a:gs>
              <a:gs pos="100000">
                <a:srgbClr val="29a99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etworking (SMB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5048280" y="2959200"/>
            <a:ext cx="2185920" cy="655560"/>
          </a:xfrm>
          <a:prstGeom prst="rect">
            <a:avLst/>
          </a:prstGeom>
          <a:gradFill rotWithShape="0">
            <a:gsLst>
              <a:gs pos="0">
                <a:srgbClr val="1c766c"/>
              </a:gs>
              <a:gs pos="100000">
                <a:srgbClr val="29a99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-compatible (NC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790720" y="4545000"/>
            <a:ext cx="1300320" cy="1090440"/>
          </a:xfrm>
          <a:prstGeom prst="rect">
            <a:avLst/>
          </a:prstGeom>
          <a:gradFill rotWithShape="0">
            <a:gsLst>
              <a:gs pos="0">
                <a:srgbClr val="29a99b"/>
              </a:gs>
              <a:gs pos="100000">
                <a:srgbClr val="1c766c"/>
              </a:gs>
            </a:gsLst>
            <a:lin ang="81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E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771640" y="6276960"/>
            <a:ext cx="1338120" cy="304920"/>
          </a:xfrm>
          <a:prstGeom prst="rect">
            <a:avLst/>
          </a:prstGeom>
          <a:gradFill rotWithShape="0">
            <a:gsLst>
              <a:gs pos="0">
                <a:srgbClr val="1c766c"/>
              </a:gs>
              <a:gs pos="100000">
                <a:srgbClr val="29a99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DIS 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448160" y="4545000"/>
            <a:ext cx="1200240" cy="1093680"/>
          </a:xfrm>
          <a:prstGeom prst="rect">
            <a:avLst/>
          </a:prstGeom>
          <a:gradFill rotWithShape="0">
            <a:gsLst>
              <a:gs pos="0">
                <a:srgbClr val="29a99b"/>
              </a:gs>
              <a:gs pos="100000">
                <a:srgbClr val="1c766c"/>
              </a:gs>
            </a:gsLst>
            <a:lin ang="81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X/SP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2752560" y="3816360"/>
            <a:ext cx="2567160" cy="295200"/>
          </a:xfrm>
          <a:prstGeom prst="rect">
            <a:avLst/>
          </a:prstGeom>
          <a:gradFill rotWithShape="0">
            <a:gsLst>
              <a:gs pos="0">
                <a:srgbClr val="993554"/>
              </a:gs>
              <a:gs pos="100000">
                <a:srgbClr val="db4c7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029280" y="4545000"/>
            <a:ext cx="1147680" cy="1093680"/>
          </a:xfrm>
          <a:prstGeom prst="rect">
            <a:avLst/>
          </a:prstGeom>
          <a:gradFill rotWithShape="0">
            <a:gsLst>
              <a:gs pos="0">
                <a:srgbClr val="29a99b"/>
              </a:gs>
              <a:gs pos="100000">
                <a:srgbClr val="1c766c"/>
              </a:gs>
            </a:gsLst>
            <a:lin ang="81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752560" y="1027080"/>
            <a:ext cx="2746440" cy="361800"/>
          </a:xfrm>
          <a:prstGeom prst="rect">
            <a:avLst/>
          </a:prstGeom>
          <a:gradFill rotWithShape="0">
            <a:gsLst>
              <a:gs pos="0">
                <a:srgbClr val="993554"/>
              </a:gs>
              <a:gs pos="100000">
                <a:srgbClr val="db4c7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Windows network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254240" y="1081080"/>
            <a:ext cx="1327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254240" y="2928960"/>
            <a:ext cx="1327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irect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038240" y="3710160"/>
            <a:ext cx="154296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m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393920" y="4967280"/>
            <a:ext cx="1187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oc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046160" y="5772240"/>
            <a:ext cx="1504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ce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2752560" y="1528920"/>
            <a:ext cx="2166840" cy="371520"/>
          </a:xfrm>
          <a:prstGeom prst="rect">
            <a:avLst/>
          </a:prstGeom>
          <a:gradFill rotWithShape="0">
            <a:gsLst>
              <a:gs pos="0">
                <a:srgbClr val="1c766c"/>
              </a:gs>
              <a:gs pos="100000">
                <a:srgbClr val="29a99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etwork 16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672000" y="1854360"/>
            <a:ext cx="1800360" cy="371520"/>
          </a:xfrm>
          <a:prstGeom prst="rect">
            <a:avLst/>
          </a:prstGeom>
          <a:gradFill rotWithShape="0">
            <a:gsLst>
              <a:gs pos="0">
                <a:srgbClr val="1c766c"/>
              </a:gs>
              <a:gs pos="100000">
                <a:srgbClr val="29a99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</a:t>
            </a:r>
            <a:r>
              <a:rPr b="1" lang="en-US" sz="1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P/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386320" y="2073240"/>
            <a:ext cx="1862280" cy="352440"/>
          </a:xfrm>
          <a:prstGeom prst="rect">
            <a:avLst/>
          </a:prstGeom>
          <a:gradFill rotWithShape="0">
            <a:gsLst>
              <a:gs pos="0">
                <a:srgbClr val="1c766c"/>
              </a:gs>
              <a:gs pos="100000">
                <a:srgbClr val="29a99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P/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2752560" y="5772240"/>
            <a:ext cx="4519440" cy="438120"/>
          </a:xfrm>
          <a:prstGeom prst="rect">
            <a:avLst/>
          </a:prstGeom>
          <a:gradFill rotWithShape="0">
            <a:gsLst>
              <a:gs pos="0">
                <a:srgbClr val="993554"/>
              </a:gs>
              <a:gs pos="100000">
                <a:srgbClr val="db4c7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DIS 3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172040" y="6276960"/>
            <a:ext cx="1338120" cy="304920"/>
          </a:xfrm>
          <a:prstGeom prst="rect">
            <a:avLst/>
          </a:prstGeom>
          <a:gradFill rotWithShape="0">
            <a:gsLst>
              <a:gs pos="0">
                <a:srgbClr val="1c766c"/>
              </a:gs>
              <a:gs pos="100000">
                <a:srgbClr val="29a99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457280" y="1805040"/>
            <a:ext cx="1123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752560" y="2533680"/>
            <a:ext cx="4498920" cy="318960"/>
          </a:xfrm>
          <a:prstGeom prst="rect">
            <a:avLst/>
          </a:prstGeom>
          <a:gradFill rotWithShape="0">
            <a:gsLst>
              <a:gs pos="0">
                <a:srgbClr val="993554"/>
              </a:gs>
              <a:gs pos="100000">
                <a:srgbClr val="db4c7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S 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443480" y="4083120"/>
            <a:ext cx="2719440" cy="295200"/>
          </a:xfrm>
          <a:prstGeom prst="rect">
            <a:avLst/>
          </a:prstGeom>
          <a:gradFill rotWithShape="0">
            <a:gsLst>
              <a:gs pos="0">
                <a:srgbClr val="993554"/>
              </a:gs>
              <a:gs pos="100000">
                <a:srgbClr val="db4c7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533920" y="1027080"/>
            <a:ext cx="1717560" cy="361800"/>
          </a:xfrm>
          <a:prstGeom prst="rect">
            <a:avLst/>
          </a:prstGeom>
          <a:gradFill rotWithShape="0">
            <a:gsLst>
              <a:gs pos="0">
                <a:srgbClr val="993554"/>
              </a:gs>
              <a:gs pos="100000">
                <a:srgbClr val="db4c7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print AP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85640" y="2682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Part I:  Basic Network Awarenes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519200" y="1919160"/>
            <a:ext cx="610560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Goal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sure compatibility with different network platfo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sure adequate performance across different med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e cost of network setup and administ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85640" y="2682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Storing And Parsing Filename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298520" y="1947960"/>
            <a:ext cx="6546960" cy="436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0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C” names will frequently be passed to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 not use filenames or path to set current director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oid parsing filenames except to extract last compon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WNetAddConnection3 to automate connection to 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mpts for passw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tores remote conne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85640" y="2682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Storing And Parsing Filenam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07960" y="2057400"/>
            <a:ext cx="812952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 not assume drive letter is nee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t the file systems validate names for y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ring names requires careful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File Lock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85640" y="1739880"/>
            <a:ext cx="8174160" cy="354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files in appropriate sharing mode t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able better handling of multiuser scena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able significant network performance optimizatio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range-locking for concurrent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lude good error-handling and prompting for locking conflic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Print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876240" y="1739880"/>
            <a:ext cx="7391520" cy="25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I provides one interface fo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mitting and cancelling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umerating prin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e API for local, server attached, or net attached prin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Messag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14520" y="1739880"/>
            <a:ext cx="7815240" cy="43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able your application for simple messaging (send documen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PI is included in Windows platfo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MAPI in Windows for Workgroups, Windows 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PI 1.0 in “Chicago” and future Windows NT rele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PI drivers enable messaging over broad variety of mail back-end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Using The Common Dialog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901800" y="1246320"/>
            <a:ext cx="73422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on dialogs available for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Op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Save 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Set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 compu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oose users and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common dialogs provide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browsing, password promp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c dialing for remote re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ctionality on all supported netwo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priate name valid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Over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190520" y="1739880"/>
            <a:ext cx="676260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development issues to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ic network aware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networking concep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Slow-Link Awarenes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857160" y="1739880"/>
            <a:ext cx="7429680" cy="36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network link can be “fast” (LAN) or “slow” (remot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 link type through WNet 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rdinal rules of slow link awarenes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just behavior based on link t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 feedback on length of oper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 user to abort/resume oper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Efficiency On Slow Link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18960" y="1739880"/>
            <a:ext cx="8505720" cy="26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e the amount of data to be transfer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c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zy transfers (transfer only when you mus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-server protoc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link idle-time where 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Passwords And Securit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28760" y="1739880"/>
            <a:ext cx="828684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 Cache facility is key-based storage like Profiles, but encrypted and secured per-us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mits per-user securing of documents, screen savers, etc. without extra promp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connecting to back end with separate password, offer check box option to save passw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Network Setup Issu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892080" y="1739880"/>
            <a:ext cx="7359480" cy="40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an install-to-network o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a run-from-network o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parate read-only from read/write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der a “laptop” hybrid o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 to network can be performed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e 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mit administrators to predefine appropriate user op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Registry And Profile API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922320" y="1739880"/>
            <a:ext cx="7300800" cy="354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K to use Profile APIs when porting 16-bit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y APIs are prefer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 aware of HKEY_CURRENT_USER and HKEY_LOCAL_MACH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ables “per-user Profile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ver read/write directly to .INI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Performance Tip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598320" y="1739880"/>
            <a:ext cx="7948440" cy="36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measure both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ual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ceived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erform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/write data in largest blocks 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block user on data transf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ploy threa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progress indic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 cancel capab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85640" y="2682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Part II:  Advanced </a:t>
            </a:r>
            <a:br>
              <a:rPr sz="4800"/>
            </a:b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Networking Concep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2090880" y="1994040"/>
            <a:ext cx="4962600" cy="31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Goal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loit the network fo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labo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ing pow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Enumerating And Browsing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982800" y="1425600"/>
            <a:ext cx="717876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Windows network interfaces provide “generic” network brow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programming model, reveals typing of objec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NetOpenEnum() returns handle to an enumeration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NetEnumResource() enumerates the contents of an open contai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stent structure usage for simple recur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NetCloseEnum() when you’re d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Enumerating User List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31800" y="1739880"/>
            <a:ext cx="78804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PI 1.0 provides simple container model for enume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rs for common electronic-mail systems, NetWare bindery, Windows NT security database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be used not only for messaging but also for security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Print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022400" y="1739880"/>
            <a:ext cx="7101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I provides full printer and job control locally and remot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s to submit jobs, cancel, pause, mov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s to enumerate queues,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s to manipulate que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providers enforce appropriate 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85640" y="2682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Network Environments Are Key To Growth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170000" y="2201760"/>
            <a:ext cx="680544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-50% of new hardware/software is sold into network sett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h higher share in some software catego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tion of “connected” has broadened - ISDN, remote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692360" y="5546880"/>
            <a:ext cx="3306960" cy="641880"/>
          </a:xfrm>
          <a:custGeom>
            <a:avLst/>
            <a:gdLst/>
            <a:ahLst/>
            <a:rect l="0" t="0" r="r" b="b"/>
            <a:pathLst>
              <a:path fill="none" w="9186" h="1783">
                <a:moveTo>
                  <a:pt x="9186" y="0"/>
                </a:moveTo>
                <a:lnTo>
                  <a:pt x="7872" y="0"/>
                </a:lnTo>
                <a:lnTo>
                  <a:pt x="7872" y="1783"/>
                </a:lnTo>
                <a:lnTo>
                  <a:pt x="0" y="17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3216240" y="4694400"/>
            <a:ext cx="0" cy="639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3200400" y="362736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066680" y="3170160"/>
            <a:ext cx="1706760" cy="2408760"/>
          </a:xfrm>
          <a:custGeom>
            <a:avLst/>
            <a:gdLst/>
            <a:ahLst/>
            <a:rect l="0" t="0" r="r" b="b"/>
            <a:pathLst>
              <a:path fill="none" w="4741" h="6691">
                <a:moveTo>
                  <a:pt x="4741" y="0"/>
                </a:moveTo>
                <a:lnTo>
                  <a:pt x="4741" y="0"/>
                </a:lnTo>
                <a:cubicBezTo>
                  <a:pt x="3909" y="0"/>
                  <a:pt x="3091" y="309"/>
                  <a:pt x="2370" y="896"/>
                </a:cubicBezTo>
                <a:cubicBezTo>
                  <a:pt x="1650" y="1484"/>
                  <a:pt x="1051" y="2328"/>
                  <a:pt x="635" y="3346"/>
                </a:cubicBezTo>
                <a:cubicBezTo>
                  <a:pt x="219" y="4363"/>
                  <a:pt x="0" y="5516"/>
                  <a:pt x="0" y="6691"/>
                </a:cubicBez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3855960" y="5273640"/>
            <a:ext cx="1203480" cy="2588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530680" y="5548320"/>
            <a:ext cx="1800" cy="531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516640" y="3946680"/>
            <a:ext cx="0" cy="1052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775480" y="2590920"/>
            <a:ext cx="0" cy="8078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718080" y="3230640"/>
            <a:ext cx="1509480" cy="487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514600" y="1554120"/>
            <a:ext cx="0" cy="579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8320" y="1279440"/>
            <a:ext cx="1143000" cy="7779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924280" y="1371600"/>
            <a:ext cx="61092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355760" y="1387440"/>
            <a:ext cx="56520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in32 Printing Proces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74680" y="1052640"/>
            <a:ext cx="1219320" cy="6714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919160" y="1052640"/>
            <a:ext cx="1219320" cy="6714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2622600" y="5168880"/>
            <a:ext cx="1219320" cy="6714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maph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535200" y="1052640"/>
            <a:ext cx="1219320" cy="6714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 3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6978600" y="1052640"/>
            <a:ext cx="1219320" cy="6714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oo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919160" y="2133720"/>
            <a:ext cx="1219320" cy="6714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2622600" y="2925720"/>
            <a:ext cx="1219320" cy="6714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2622600" y="4008600"/>
            <a:ext cx="1219320" cy="6714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t thr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5226120" y="2057400"/>
            <a:ext cx="1219320" cy="6714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5226120" y="3397320"/>
            <a:ext cx="1219320" cy="6714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6134040" y="4998960"/>
            <a:ext cx="1390680" cy="6714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 pr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7711920" y="4998960"/>
            <a:ext cx="1219320" cy="6714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800600" y="4998960"/>
            <a:ext cx="1219320" cy="6714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 pr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800600" y="6081840"/>
            <a:ext cx="1219320" cy="67140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65040" y="5578560"/>
            <a:ext cx="1311120" cy="1112760"/>
          </a:xfrm>
          <a:prstGeom prst="rect">
            <a:avLst/>
          </a:prstGeom>
          <a:gradFill rotWithShape="0">
            <a:gsLst>
              <a:gs pos="0">
                <a:srgbClr val="5b47e1"/>
              </a:gs>
              <a:gs pos="100000">
                <a:srgbClr val="3f319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516640" y="4403880"/>
            <a:ext cx="1295640" cy="579960"/>
          </a:xfrm>
          <a:custGeom>
            <a:avLst/>
            <a:gdLst/>
            <a:ahLst/>
            <a:rect l="0" t="0" r="r" b="b"/>
            <a:pathLst>
              <a:path fill="none" w="3599" h="1611">
                <a:moveTo>
                  <a:pt x="0" y="0"/>
                </a:moveTo>
                <a:lnTo>
                  <a:pt x="3599" y="0"/>
                </a:lnTo>
                <a:lnTo>
                  <a:pt x="3599" y="1611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11920" y="4403880"/>
            <a:ext cx="1464120" cy="579960"/>
          </a:xfrm>
          <a:custGeom>
            <a:avLst/>
            <a:gdLst/>
            <a:ahLst/>
            <a:rect l="0" t="0" r="r" b="b"/>
            <a:pathLst>
              <a:path fill="none" w="4067" h="1611">
                <a:moveTo>
                  <a:pt x="0" y="0"/>
                </a:moveTo>
                <a:lnTo>
                  <a:pt x="0" y="0"/>
                </a:lnTo>
                <a:lnTo>
                  <a:pt x="4067" y="0"/>
                </a:lnTo>
                <a:lnTo>
                  <a:pt x="4067" y="1611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139920" y="5181480"/>
            <a:ext cx="18288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indows Socke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1047600" y="1739880"/>
            <a:ext cx="7048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keley sockets API for Windows specified by open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ed for protocol independ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, write, open, close primi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es packets in native protocol  (unlike NetBIO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ailable for TCP/IP (Win32 and Win16) and IPX/SPX (Win16 onl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485640" y="2682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Remote Procedure Calls (RPC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38040" y="1739880"/>
            <a:ext cx="846936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and server run times in Windows NT, “Chicago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-bit run times in Win32 SDK for  Windows 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F DCE compatible and interoperable - communicates with other RPCs such a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P</a:t>
            </a:r>
            <a:r>
              <a:rPr b="1" lang="en-US" sz="3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IBM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IX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y to run existing code in distributed 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arency (platform, transport, local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485640" y="2682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Traditional Programming Mode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571760" y="1728720"/>
            <a:ext cx="6000840" cy="4476600"/>
          </a:xfrm>
          <a:prstGeom prst="rect">
            <a:avLst/>
          </a:prstGeom>
          <a:gradFill rotWithShape="0">
            <a:gsLst>
              <a:gs pos="0">
                <a:srgbClr val="919191"/>
              </a:gs>
              <a:gs pos="50000">
                <a:srgbClr val="656565"/>
              </a:gs>
              <a:gs pos="100000">
                <a:srgbClr val="919191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857680" y="4871880"/>
            <a:ext cx="3314520" cy="0"/>
          </a:xfrm>
          <a:prstGeom prst="line">
            <a:avLst/>
          </a:prstGeom>
          <a:ln w="38160">
            <a:solidFill>
              <a:srgbClr val="f4d337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843280" y="5557680"/>
            <a:ext cx="2328840" cy="0"/>
          </a:xfrm>
          <a:prstGeom prst="line">
            <a:avLst/>
          </a:prstGeom>
          <a:ln w="38160">
            <a:solidFill>
              <a:srgbClr val="f4d337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828880" y="4338720"/>
            <a:ext cx="1666800" cy="0"/>
          </a:xfrm>
          <a:prstGeom prst="line">
            <a:avLst/>
          </a:prstGeom>
          <a:ln w="38160">
            <a:solidFill>
              <a:srgbClr val="f4d337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843280" y="2357280"/>
            <a:ext cx="2386080" cy="0"/>
          </a:xfrm>
          <a:prstGeom prst="line">
            <a:avLst/>
          </a:prstGeom>
          <a:ln w="38160">
            <a:solidFill>
              <a:srgbClr val="f4d337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843280" y="3057480"/>
            <a:ext cx="3343320" cy="0"/>
          </a:xfrm>
          <a:prstGeom prst="line">
            <a:avLst/>
          </a:prstGeom>
          <a:ln w="38160">
            <a:solidFill>
              <a:srgbClr val="f4d337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3714840"/>
            <a:ext cx="2328840" cy="0"/>
          </a:xfrm>
          <a:prstGeom prst="line">
            <a:avLst/>
          </a:prstGeom>
          <a:ln w="38160">
            <a:solidFill>
              <a:srgbClr val="f4d337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200640" y="4338720"/>
            <a:ext cx="1143000" cy="762120"/>
          </a:xfrm>
          <a:prstGeom prst="rect">
            <a:avLst/>
          </a:prstGeom>
          <a:gradFill rotWithShape="0">
            <a:gsLst>
              <a:gs pos="0">
                <a:srgbClr val="7c609c"/>
              </a:gs>
              <a:gs pos="100000">
                <a:srgbClr val="b28ae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-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5210280" y="5176800"/>
            <a:ext cx="1143000" cy="762120"/>
          </a:xfrm>
          <a:prstGeom prst="rect">
            <a:avLst/>
          </a:prstGeom>
          <a:gradFill rotWithShape="0">
            <a:gsLst>
              <a:gs pos="0">
                <a:srgbClr val="7c609c"/>
              </a:gs>
              <a:gs pos="100000">
                <a:srgbClr val="b28ae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-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5210280" y="3381480"/>
            <a:ext cx="1143000" cy="762120"/>
          </a:xfrm>
          <a:prstGeom prst="rect">
            <a:avLst/>
          </a:prstGeom>
          <a:gradFill rotWithShape="0">
            <a:gsLst>
              <a:gs pos="0">
                <a:srgbClr val="7c609c"/>
              </a:gs>
              <a:gs pos="100000">
                <a:srgbClr val="b28ae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-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009880" y="1785960"/>
            <a:ext cx="838080" cy="4114800"/>
          </a:xfrm>
          <a:prstGeom prst="rect">
            <a:avLst/>
          </a:prstGeom>
          <a:gradFill rotWithShape="0">
            <a:gsLst>
              <a:gs pos="0">
                <a:srgbClr val="009688"/>
              </a:gs>
              <a:gs pos="50000">
                <a:srgbClr val="00695f"/>
              </a:gs>
              <a:gs pos="100000">
                <a:srgbClr val="009688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2193840" y="2151000"/>
            <a:ext cx="471600" cy="33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148360" y="2023920"/>
            <a:ext cx="1143000" cy="762120"/>
          </a:xfrm>
          <a:prstGeom prst="rect">
            <a:avLst/>
          </a:prstGeom>
          <a:gradFill rotWithShape="0">
            <a:gsLst>
              <a:gs pos="0">
                <a:srgbClr val="7c609c"/>
              </a:gs>
              <a:gs pos="100000">
                <a:srgbClr val="b28ae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-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24480" y="4033800"/>
            <a:ext cx="1143000" cy="762120"/>
          </a:xfrm>
          <a:prstGeom prst="rect">
            <a:avLst/>
          </a:prstGeom>
          <a:gradFill rotWithShape="0">
            <a:gsLst>
              <a:gs pos="0">
                <a:srgbClr val="7c609c"/>
              </a:gs>
              <a:gs pos="100000">
                <a:srgbClr val="b28ae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-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6210360" y="2724120"/>
            <a:ext cx="1143000" cy="762120"/>
          </a:xfrm>
          <a:prstGeom prst="rect">
            <a:avLst/>
          </a:prstGeom>
          <a:gradFill rotWithShape="0">
            <a:gsLst>
              <a:gs pos="0">
                <a:srgbClr val="7c609c"/>
              </a:gs>
              <a:gs pos="100000">
                <a:srgbClr val="b28ae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-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RPC Programming Mode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71680" y="1405080"/>
            <a:ext cx="1943280" cy="4876920"/>
          </a:xfrm>
          <a:prstGeom prst="rect">
            <a:avLst/>
          </a:prstGeom>
          <a:solidFill>
            <a:srgbClr val="cecece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295960" y="1328760"/>
            <a:ext cx="3276720" cy="4876920"/>
          </a:xfrm>
          <a:prstGeom prst="rect">
            <a:avLst/>
          </a:prstGeom>
          <a:gradFill rotWithShape="0">
            <a:gsLst>
              <a:gs pos="0">
                <a:srgbClr val="919191"/>
              </a:gs>
              <a:gs pos="50000">
                <a:srgbClr val="656565"/>
              </a:gs>
              <a:gs pos="100000">
                <a:srgbClr val="919191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238560" y="3309840"/>
            <a:ext cx="1981080" cy="11430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516640" y="3919680"/>
            <a:ext cx="1143000" cy="762120"/>
          </a:xfrm>
          <a:prstGeom prst="rect">
            <a:avLst/>
          </a:prstGeom>
          <a:gradFill rotWithShape="0">
            <a:gsLst>
              <a:gs pos="0">
                <a:srgbClr val="7c609c"/>
              </a:gs>
              <a:gs pos="100000">
                <a:srgbClr val="b28ae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124760" y="2624040"/>
            <a:ext cx="1143000" cy="762120"/>
          </a:xfrm>
          <a:prstGeom prst="rect">
            <a:avLst/>
          </a:prstGeom>
          <a:gradFill rotWithShape="0">
            <a:gsLst>
              <a:gs pos="0">
                <a:srgbClr val="7c609c"/>
              </a:gs>
              <a:gs pos="100000">
                <a:srgbClr val="b28ae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201080" y="4224240"/>
            <a:ext cx="1143000" cy="762120"/>
          </a:xfrm>
          <a:prstGeom prst="rect">
            <a:avLst/>
          </a:prstGeom>
          <a:gradFill rotWithShape="0">
            <a:gsLst>
              <a:gs pos="0">
                <a:srgbClr val="7c609c"/>
              </a:gs>
              <a:gs pos="100000">
                <a:srgbClr val="b28ae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210360" y="5062680"/>
            <a:ext cx="1143000" cy="762120"/>
          </a:xfrm>
          <a:prstGeom prst="rect">
            <a:avLst/>
          </a:prstGeom>
          <a:gradFill rotWithShape="0">
            <a:gsLst>
              <a:gs pos="0">
                <a:srgbClr val="7c609c"/>
              </a:gs>
              <a:gs pos="100000">
                <a:srgbClr val="b28ae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210360" y="3309840"/>
            <a:ext cx="1143000" cy="762120"/>
          </a:xfrm>
          <a:prstGeom prst="rect">
            <a:avLst/>
          </a:prstGeom>
          <a:gradFill rotWithShape="0">
            <a:gsLst>
              <a:gs pos="0">
                <a:srgbClr val="7c609c"/>
              </a:gs>
              <a:gs pos="100000">
                <a:srgbClr val="b28ae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134040" y="1862280"/>
            <a:ext cx="1143000" cy="762120"/>
          </a:xfrm>
          <a:prstGeom prst="rect">
            <a:avLst/>
          </a:prstGeom>
          <a:gradFill rotWithShape="0">
            <a:gsLst>
              <a:gs pos="0">
                <a:srgbClr val="7c609c"/>
              </a:gs>
              <a:gs pos="100000">
                <a:srgbClr val="b28ae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5600520" y="3949560"/>
            <a:ext cx="9748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-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7209000" y="2654280"/>
            <a:ext cx="9748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-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7284960" y="4254480"/>
            <a:ext cx="9748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-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6294600" y="5092560"/>
            <a:ext cx="9748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-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6294600" y="3340080"/>
            <a:ext cx="9748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-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218280" y="1892160"/>
            <a:ext cx="9748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-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009960" y="3309840"/>
            <a:ext cx="304920" cy="1143000"/>
          </a:xfrm>
          <a:prstGeom prst="ellipse">
            <a:avLst/>
          </a:prstGeom>
          <a:gradFill rotWithShape="0">
            <a:gsLst>
              <a:gs pos="0">
                <a:srgbClr val="474747"/>
              </a:gs>
              <a:gs pos="100000">
                <a:srgbClr val="6b6b6b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991040" y="3309840"/>
            <a:ext cx="304920" cy="114300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666666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1104840" y="3919680"/>
            <a:ext cx="2133720" cy="380880"/>
          </a:xfrm>
          <a:prstGeom prst="line">
            <a:avLst/>
          </a:prstGeom>
          <a:ln w="38160">
            <a:solidFill>
              <a:srgbClr val="f4d337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562040" y="2090880"/>
            <a:ext cx="1676520" cy="1523880"/>
          </a:xfrm>
          <a:prstGeom prst="line">
            <a:avLst/>
          </a:prstGeom>
          <a:ln w="38160">
            <a:solidFill>
              <a:srgbClr val="f4d337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371600" y="2928960"/>
            <a:ext cx="1866960" cy="838080"/>
          </a:xfrm>
          <a:prstGeom prst="line">
            <a:avLst/>
          </a:prstGeom>
          <a:ln w="38160">
            <a:solidFill>
              <a:srgbClr val="f4d337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3614760"/>
            <a:ext cx="1714680" cy="152280"/>
          </a:xfrm>
          <a:prstGeom prst="line">
            <a:avLst/>
          </a:prstGeom>
          <a:ln w="38160">
            <a:solidFill>
              <a:srgbClr val="f4d337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1285920" y="4071960"/>
            <a:ext cx="1952640" cy="685800"/>
          </a:xfrm>
          <a:prstGeom prst="line">
            <a:avLst/>
          </a:prstGeom>
          <a:ln w="38160">
            <a:solidFill>
              <a:srgbClr val="f4d337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1371600" y="4300560"/>
            <a:ext cx="1714680" cy="1143000"/>
          </a:xfrm>
          <a:prstGeom prst="line">
            <a:avLst/>
          </a:prstGeom>
          <a:ln w="38160">
            <a:solidFill>
              <a:srgbClr val="f4d337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5143680" y="2166840"/>
            <a:ext cx="990360" cy="1447920"/>
          </a:xfrm>
          <a:prstGeom prst="line">
            <a:avLst/>
          </a:prstGeom>
          <a:ln w="38160">
            <a:solidFill>
              <a:srgbClr val="f4d337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5219640" y="2928960"/>
            <a:ext cx="1905120" cy="914400"/>
          </a:xfrm>
          <a:prstGeom prst="line">
            <a:avLst/>
          </a:prstGeom>
          <a:ln w="38160">
            <a:solidFill>
              <a:srgbClr val="f4d337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5219640" y="3691080"/>
            <a:ext cx="990720" cy="304560"/>
          </a:xfrm>
          <a:prstGeom prst="line">
            <a:avLst/>
          </a:prstGeom>
          <a:ln w="38160">
            <a:solidFill>
              <a:srgbClr val="f4d337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172120" y="4148280"/>
            <a:ext cx="423720" cy="0"/>
          </a:xfrm>
          <a:prstGeom prst="line">
            <a:avLst/>
          </a:prstGeom>
          <a:ln w="38160">
            <a:solidFill>
              <a:srgbClr val="f4d337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143680" y="4300560"/>
            <a:ext cx="2057400" cy="380880"/>
          </a:xfrm>
          <a:prstGeom prst="line">
            <a:avLst/>
          </a:prstGeom>
          <a:ln w="38160">
            <a:solidFill>
              <a:srgbClr val="f4d337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143680" y="4376880"/>
            <a:ext cx="1066680" cy="1066680"/>
          </a:xfrm>
          <a:prstGeom prst="line">
            <a:avLst/>
          </a:prstGeom>
          <a:ln w="38160">
            <a:solidFill>
              <a:srgbClr val="f4d337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104840" y="1805040"/>
            <a:ext cx="838080" cy="4114800"/>
          </a:xfrm>
          <a:prstGeom prst="rect">
            <a:avLst/>
          </a:prstGeom>
          <a:gradFill rotWithShape="0">
            <a:gsLst>
              <a:gs pos="0">
                <a:srgbClr val="009688"/>
              </a:gs>
              <a:gs pos="50000">
                <a:srgbClr val="00695f"/>
              </a:gs>
              <a:gs pos="100000">
                <a:srgbClr val="009688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289160" y="2170080"/>
            <a:ext cx="471600" cy="33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1076400" y="268200"/>
            <a:ext cx="69912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RPC Glues It Togeth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596880" y="971640"/>
            <a:ext cx="7951680" cy="5602320"/>
            <a:chOff x="596880" y="971640"/>
            <a:chExt cx="7951680" cy="5602320"/>
          </a:xfrm>
        </p:grpSpPr>
        <p:grpSp>
          <p:nvGrpSpPr>
            <p:cNvPr id="346" name=""/>
            <p:cNvGrpSpPr/>
            <p:nvPr/>
          </p:nvGrpSpPr>
          <p:grpSpPr>
            <a:xfrm>
              <a:off x="3767040" y="3162240"/>
              <a:ext cx="565200" cy="1130400"/>
              <a:chOff x="3767040" y="3162240"/>
              <a:chExt cx="565200" cy="1130400"/>
            </a:xfrm>
          </p:grpSpPr>
          <p:sp>
            <p:nvSpPr>
              <p:cNvPr id="347" name=""/>
              <p:cNvSpPr/>
              <p:nvPr/>
            </p:nvSpPr>
            <p:spPr>
              <a:xfrm flipH="1">
                <a:off x="3878280" y="3162240"/>
                <a:ext cx="453960" cy="679680"/>
              </a:xfrm>
              <a:prstGeom prst="line">
                <a:avLst/>
              </a:prstGeom>
              <a:ln w="255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878280" y="3841920"/>
                <a:ext cx="227160" cy="0"/>
              </a:xfrm>
              <a:prstGeom prst="line">
                <a:avLst/>
              </a:prstGeom>
              <a:ln w="255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>
                <a:off x="3767040" y="3841920"/>
                <a:ext cx="338400" cy="450720"/>
              </a:xfrm>
              <a:prstGeom prst="line">
                <a:avLst/>
              </a:prstGeom>
              <a:ln w="255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0" name=""/>
            <p:cNvSpPr/>
            <p:nvPr/>
          </p:nvSpPr>
          <p:spPr>
            <a:xfrm>
              <a:off x="2103480" y="3646440"/>
              <a:ext cx="6108480" cy="0"/>
            </a:xfrm>
            <a:prstGeom prst="line">
              <a:avLst/>
            </a:prstGeom>
            <a:ln w="7632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-83160" bIns="-83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738520" y="1003320"/>
              <a:ext cx="4761000" cy="22701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246720" y="4170240"/>
              <a:ext cx="2301840" cy="238428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301760" y="4203720"/>
              <a:ext cx="4214880" cy="229248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" name=""/>
            <p:cNvGrpSpPr/>
            <p:nvPr/>
          </p:nvGrpSpPr>
          <p:grpSpPr>
            <a:xfrm>
              <a:off x="1998720" y="5230800"/>
              <a:ext cx="906840" cy="905400"/>
              <a:chOff x="1998720" y="5230800"/>
              <a:chExt cx="906840" cy="905400"/>
            </a:xfrm>
          </p:grpSpPr>
          <p:sp>
            <p:nvSpPr>
              <p:cNvPr id="355" name=""/>
              <p:cNvSpPr/>
              <p:nvPr/>
            </p:nvSpPr>
            <p:spPr>
              <a:xfrm>
                <a:off x="1998720" y="5230800"/>
                <a:ext cx="906840" cy="905400"/>
              </a:xfrm>
              <a:custGeom>
                <a:avLst/>
                <a:gdLst/>
                <a:ahLst/>
                <a:rect l="0" t="0" r="r" b="b"/>
                <a:pathLst>
                  <a:path w="2519" h="2515">
                    <a:moveTo>
                      <a:pt x="0" y="2515"/>
                    </a:moveTo>
                    <a:lnTo>
                      <a:pt x="0" y="0"/>
                    </a:lnTo>
                    <a:lnTo>
                      <a:pt x="315" y="0"/>
                    </a:lnTo>
                    <a:lnTo>
                      <a:pt x="315" y="625"/>
                    </a:lnTo>
                    <a:lnTo>
                      <a:pt x="947" y="625"/>
                    </a:lnTo>
                    <a:lnTo>
                      <a:pt x="947" y="0"/>
                    </a:lnTo>
                    <a:lnTo>
                      <a:pt x="1257" y="0"/>
                    </a:lnTo>
                    <a:lnTo>
                      <a:pt x="1257" y="625"/>
                    </a:lnTo>
                    <a:lnTo>
                      <a:pt x="2204" y="625"/>
                    </a:lnTo>
                    <a:lnTo>
                      <a:pt x="2204" y="0"/>
                    </a:lnTo>
                    <a:lnTo>
                      <a:pt x="2519" y="0"/>
                    </a:lnTo>
                    <a:lnTo>
                      <a:pt x="2519" y="2515"/>
                    </a:lnTo>
                    <a:lnTo>
                      <a:pt x="0" y="2515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 txBox="1"/>
              <p:nvPr/>
            </p:nvSpPr>
            <p:spPr>
              <a:xfrm>
                <a:off x="2146320" y="5641920"/>
                <a:ext cx="698400" cy="390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ib1</a:t>
                </a:r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3992400" y="5210280"/>
              <a:ext cx="905400" cy="905400"/>
              <a:chOff x="3992400" y="5210280"/>
              <a:chExt cx="905400" cy="905400"/>
            </a:xfrm>
          </p:grpSpPr>
          <p:sp>
            <p:nvSpPr>
              <p:cNvPr id="358" name=""/>
              <p:cNvSpPr/>
              <p:nvPr/>
            </p:nvSpPr>
            <p:spPr>
              <a:xfrm>
                <a:off x="3992400" y="5210280"/>
                <a:ext cx="905400" cy="905400"/>
              </a:xfrm>
              <a:custGeom>
                <a:avLst/>
                <a:gdLst/>
                <a:ahLst/>
                <a:rect l="0" t="0" r="r" b="b"/>
                <a:pathLst>
                  <a:path w="2515" h="2515">
                    <a:moveTo>
                      <a:pt x="0" y="2515"/>
                    </a:moveTo>
                    <a:lnTo>
                      <a:pt x="0" y="0"/>
                    </a:lnTo>
                    <a:lnTo>
                      <a:pt x="315" y="0"/>
                    </a:lnTo>
                    <a:lnTo>
                      <a:pt x="315" y="625"/>
                    </a:lnTo>
                    <a:lnTo>
                      <a:pt x="631" y="625"/>
                    </a:lnTo>
                    <a:lnTo>
                      <a:pt x="631" y="0"/>
                    </a:lnTo>
                    <a:lnTo>
                      <a:pt x="1257" y="0"/>
                    </a:lnTo>
                    <a:lnTo>
                      <a:pt x="1573" y="625"/>
                    </a:lnTo>
                    <a:lnTo>
                      <a:pt x="1889" y="0"/>
                    </a:lnTo>
                    <a:lnTo>
                      <a:pt x="2515" y="0"/>
                    </a:lnTo>
                    <a:lnTo>
                      <a:pt x="2515" y="2515"/>
                    </a:lnTo>
                    <a:lnTo>
                      <a:pt x="0" y="2515"/>
                    </a:lnTo>
                    <a:close/>
                  </a:path>
                </a:pathLst>
              </a:custGeom>
              <a:solidFill>
                <a:srgbClr val="00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 txBox="1"/>
              <p:nvPr/>
            </p:nvSpPr>
            <p:spPr>
              <a:xfrm>
                <a:off x="4097160" y="5619600"/>
                <a:ext cx="698400" cy="390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ib2</a:t>
                </a:r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6854760" y="5230800"/>
              <a:ext cx="905400" cy="905400"/>
              <a:chOff x="6854760" y="5230800"/>
              <a:chExt cx="905400" cy="905400"/>
            </a:xfrm>
          </p:grpSpPr>
          <p:sp>
            <p:nvSpPr>
              <p:cNvPr id="361" name=""/>
              <p:cNvSpPr/>
              <p:nvPr/>
            </p:nvSpPr>
            <p:spPr>
              <a:xfrm>
                <a:off x="6854760" y="5230800"/>
                <a:ext cx="905400" cy="905400"/>
              </a:xfrm>
              <a:custGeom>
                <a:avLst/>
                <a:gdLst/>
                <a:ahLst/>
                <a:rect l="0" t="0" r="r" b="b"/>
                <a:pathLst>
                  <a:path w="2515" h="2515">
                    <a:moveTo>
                      <a:pt x="0" y="2515"/>
                    </a:moveTo>
                    <a:lnTo>
                      <a:pt x="0" y="0"/>
                    </a:lnTo>
                    <a:lnTo>
                      <a:pt x="315" y="0"/>
                    </a:lnTo>
                    <a:lnTo>
                      <a:pt x="315" y="625"/>
                    </a:lnTo>
                    <a:lnTo>
                      <a:pt x="625" y="625"/>
                    </a:lnTo>
                    <a:lnTo>
                      <a:pt x="625" y="0"/>
                    </a:lnTo>
                    <a:lnTo>
                      <a:pt x="1257" y="0"/>
                    </a:lnTo>
                    <a:lnTo>
                      <a:pt x="1257" y="625"/>
                    </a:lnTo>
                    <a:lnTo>
                      <a:pt x="2200" y="625"/>
                    </a:lnTo>
                    <a:lnTo>
                      <a:pt x="2200" y="0"/>
                    </a:lnTo>
                    <a:lnTo>
                      <a:pt x="2515" y="0"/>
                    </a:lnTo>
                    <a:lnTo>
                      <a:pt x="2515" y="2515"/>
                    </a:lnTo>
                    <a:lnTo>
                      <a:pt x="0" y="2515"/>
                    </a:lnTo>
                    <a:close/>
                  </a:path>
                </a:pathLst>
              </a:custGeom>
              <a:solidFill>
                <a:srgbClr val="008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 txBox="1"/>
              <p:nvPr/>
            </p:nvSpPr>
            <p:spPr>
              <a:xfrm>
                <a:off x="7000920" y="5641920"/>
                <a:ext cx="698400" cy="390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ib3</a:t>
                </a:r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3" name=""/>
            <p:cNvSpPr/>
            <p:nvPr/>
          </p:nvSpPr>
          <p:spPr>
            <a:xfrm>
              <a:off x="6513480" y="3162240"/>
              <a:ext cx="536760" cy="902160"/>
            </a:xfrm>
            <a:custGeom>
              <a:avLst/>
              <a:gdLst/>
              <a:ahLst/>
              <a:rect l="0" t="0" r="r" b="b"/>
              <a:pathLst>
                <a:path w="1491" h="2506">
                  <a:moveTo>
                    <a:pt x="1491" y="2506"/>
                  </a:moveTo>
                  <a:lnTo>
                    <a:pt x="592" y="1250"/>
                  </a:lnTo>
                  <a:lnTo>
                    <a:pt x="1190" y="1250"/>
                  </a:lnTo>
                  <a:lnTo>
                    <a:pt x="0" y="0"/>
                  </a:lnTo>
                  <a:lnTo>
                    <a:pt x="1190" y="1250"/>
                  </a:lnTo>
                  <a:lnTo>
                    <a:pt x="592" y="1250"/>
                  </a:lnTo>
                  <a:lnTo>
                    <a:pt x="1491" y="2506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afd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 txBox="1"/>
            <p:nvPr/>
          </p:nvSpPr>
          <p:spPr>
            <a:xfrm>
              <a:off x="596880" y="3463920"/>
              <a:ext cx="115560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1" lang="en-US" sz="1900" spc="-1" strike="noStrike">
                  <a:solidFill>
                    <a:srgbClr val="fafd00"/>
                  </a:solidFill>
                  <a:latin typeface="Arial"/>
                  <a:ea typeface="Arial"/>
                </a:rPr>
                <a:t>Network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 txBox="1"/>
            <p:nvPr/>
          </p:nvSpPr>
          <p:spPr>
            <a:xfrm>
              <a:off x="2881440" y="6094440"/>
              <a:ext cx="115560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er 1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 txBox="1"/>
            <p:nvPr/>
          </p:nvSpPr>
          <p:spPr>
            <a:xfrm>
              <a:off x="6730920" y="6183360"/>
              <a:ext cx="115560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er 2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 txBox="1"/>
            <p:nvPr/>
          </p:nvSpPr>
          <p:spPr>
            <a:xfrm>
              <a:off x="4687920" y="971640"/>
              <a:ext cx="87300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ent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484440" y="1317600"/>
              <a:ext cx="3279960" cy="946440"/>
            </a:xfrm>
            <a:custGeom>
              <a:avLst/>
              <a:gdLst/>
              <a:ahLst/>
              <a:rect l="0" t="0" r="r" b="b"/>
              <a:pathLst>
                <a:path w="9111" h="2629">
                  <a:moveTo>
                    <a:pt x="0" y="0"/>
                  </a:moveTo>
                  <a:lnTo>
                    <a:pt x="9111" y="0"/>
                  </a:lnTo>
                  <a:lnTo>
                    <a:pt x="9111" y="2032"/>
                  </a:lnTo>
                  <a:lnTo>
                    <a:pt x="8801" y="2032"/>
                  </a:lnTo>
                  <a:lnTo>
                    <a:pt x="8801" y="2629"/>
                  </a:lnTo>
                  <a:lnTo>
                    <a:pt x="7855" y="2629"/>
                  </a:lnTo>
                  <a:lnTo>
                    <a:pt x="7855" y="2032"/>
                  </a:lnTo>
                  <a:lnTo>
                    <a:pt x="7229" y="2032"/>
                  </a:lnTo>
                  <a:lnTo>
                    <a:pt x="7229" y="2629"/>
                  </a:lnTo>
                  <a:lnTo>
                    <a:pt x="6913" y="2629"/>
                  </a:lnTo>
                  <a:lnTo>
                    <a:pt x="6913" y="2032"/>
                  </a:lnTo>
                  <a:lnTo>
                    <a:pt x="5342" y="2032"/>
                  </a:lnTo>
                  <a:lnTo>
                    <a:pt x="5026" y="2629"/>
                  </a:lnTo>
                  <a:lnTo>
                    <a:pt x="4711" y="2032"/>
                  </a:lnTo>
                  <a:lnTo>
                    <a:pt x="4084" y="2032"/>
                  </a:lnTo>
                  <a:lnTo>
                    <a:pt x="4084" y="2629"/>
                  </a:lnTo>
                  <a:lnTo>
                    <a:pt x="3769" y="2629"/>
                  </a:lnTo>
                  <a:lnTo>
                    <a:pt x="3769" y="2032"/>
                  </a:lnTo>
                  <a:lnTo>
                    <a:pt x="2197" y="2032"/>
                  </a:lnTo>
                  <a:lnTo>
                    <a:pt x="2197" y="2338"/>
                  </a:lnTo>
                  <a:lnTo>
                    <a:pt x="2197" y="2629"/>
                  </a:lnTo>
                  <a:lnTo>
                    <a:pt x="1256" y="2629"/>
                  </a:lnTo>
                  <a:lnTo>
                    <a:pt x="1256" y="2032"/>
                  </a:lnTo>
                  <a:lnTo>
                    <a:pt x="941" y="2032"/>
                  </a:lnTo>
                  <a:lnTo>
                    <a:pt x="941" y="2629"/>
                  </a:lnTo>
                  <a:lnTo>
                    <a:pt x="310" y="2629"/>
                  </a:lnTo>
                  <a:lnTo>
                    <a:pt x="310" y="2032"/>
                  </a:lnTo>
                  <a:lnTo>
                    <a:pt x="0" y="20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 txBox="1"/>
            <p:nvPr/>
          </p:nvSpPr>
          <p:spPr>
            <a:xfrm>
              <a:off x="4124160" y="1468440"/>
              <a:ext cx="2000160" cy="49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40120" y="2043000"/>
              <a:ext cx="905400" cy="565560"/>
            </a:xfrm>
            <a:custGeom>
              <a:avLst/>
              <a:gdLst/>
              <a:ahLst/>
              <a:rect l="0" t="0" r="r" b="b"/>
              <a:pathLst>
                <a:path w="2515" h="1571">
                  <a:moveTo>
                    <a:pt x="0" y="1571"/>
                  </a:moveTo>
                  <a:lnTo>
                    <a:pt x="0" y="0"/>
                  </a:lnTo>
                  <a:lnTo>
                    <a:pt x="315" y="0"/>
                  </a:lnTo>
                  <a:lnTo>
                    <a:pt x="315" y="630"/>
                  </a:lnTo>
                  <a:lnTo>
                    <a:pt x="631" y="630"/>
                  </a:lnTo>
                  <a:lnTo>
                    <a:pt x="631" y="0"/>
                  </a:lnTo>
                  <a:lnTo>
                    <a:pt x="1257" y="0"/>
                  </a:lnTo>
                  <a:lnTo>
                    <a:pt x="1573" y="630"/>
                  </a:lnTo>
                  <a:lnTo>
                    <a:pt x="1889" y="0"/>
                  </a:lnTo>
                  <a:lnTo>
                    <a:pt x="2515" y="0"/>
                  </a:lnTo>
                  <a:lnTo>
                    <a:pt x="2515" y="1571"/>
                  </a:lnTo>
                  <a:lnTo>
                    <a:pt x="0" y="1571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 txBox="1"/>
            <p:nvPr/>
          </p:nvSpPr>
          <p:spPr>
            <a:xfrm>
              <a:off x="4670280" y="2238480"/>
              <a:ext cx="104760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CStub2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484440" y="2043000"/>
              <a:ext cx="905400" cy="565560"/>
            </a:xfrm>
            <a:custGeom>
              <a:avLst/>
              <a:gdLst/>
              <a:ahLst/>
              <a:rect l="0" t="0" r="r" b="b"/>
              <a:pathLst>
                <a:path w="2515" h="1571">
                  <a:moveTo>
                    <a:pt x="0" y="1571"/>
                  </a:moveTo>
                  <a:lnTo>
                    <a:pt x="0" y="0"/>
                  </a:lnTo>
                  <a:lnTo>
                    <a:pt x="310" y="0"/>
                  </a:lnTo>
                  <a:lnTo>
                    <a:pt x="310" y="630"/>
                  </a:lnTo>
                  <a:lnTo>
                    <a:pt x="942" y="630"/>
                  </a:lnTo>
                  <a:lnTo>
                    <a:pt x="942" y="0"/>
                  </a:lnTo>
                  <a:lnTo>
                    <a:pt x="1257" y="0"/>
                  </a:lnTo>
                  <a:lnTo>
                    <a:pt x="1257" y="630"/>
                  </a:lnTo>
                  <a:lnTo>
                    <a:pt x="2200" y="630"/>
                  </a:lnTo>
                  <a:lnTo>
                    <a:pt x="2200" y="0"/>
                  </a:lnTo>
                  <a:lnTo>
                    <a:pt x="2515" y="0"/>
                  </a:lnTo>
                  <a:lnTo>
                    <a:pt x="2515" y="1571"/>
                  </a:lnTo>
                  <a:lnTo>
                    <a:pt x="0" y="1571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 txBox="1"/>
            <p:nvPr/>
          </p:nvSpPr>
          <p:spPr>
            <a:xfrm>
              <a:off x="3413160" y="2225520"/>
              <a:ext cx="104760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CStub1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859360" y="2043000"/>
              <a:ext cx="905400" cy="565560"/>
            </a:xfrm>
            <a:custGeom>
              <a:avLst/>
              <a:gdLst/>
              <a:ahLst/>
              <a:rect l="0" t="0" r="r" b="b"/>
              <a:pathLst>
                <a:path w="2515" h="1571">
                  <a:moveTo>
                    <a:pt x="0" y="1571"/>
                  </a:moveTo>
                  <a:lnTo>
                    <a:pt x="0" y="0"/>
                  </a:lnTo>
                  <a:lnTo>
                    <a:pt x="315" y="0"/>
                  </a:lnTo>
                  <a:lnTo>
                    <a:pt x="315" y="630"/>
                  </a:lnTo>
                  <a:lnTo>
                    <a:pt x="631" y="630"/>
                  </a:lnTo>
                  <a:lnTo>
                    <a:pt x="631" y="0"/>
                  </a:lnTo>
                  <a:lnTo>
                    <a:pt x="1257" y="0"/>
                  </a:lnTo>
                  <a:lnTo>
                    <a:pt x="1257" y="630"/>
                  </a:lnTo>
                  <a:lnTo>
                    <a:pt x="2204" y="630"/>
                  </a:lnTo>
                  <a:lnTo>
                    <a:pt x="2204" y="0"/>
                  </a:lnTo>
                  <a:lnTo>
                    <a:pt x="2515" y="0"/>
                  </a:lnTo>
                  <a:lnTo>
                    <a:pt x="2515" y="1571"/>
                  </a:lnTo>
                  <a:lnTo>
                    <a:pt x="0" y="1571"/>
                  </a:lnTo>
                  <a:close/>
                </a:path>
              </a:pathLst>
            </a:custGeom>
            <a:solidFill>
              <a:srgbClr val="00808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 txBox="1"/>
            <p:nvPr/>
          </p:nvSpPr>
          <p:spPr>
            <a:xfrm>
              <a:off x="5832360" y="2225520"/>
              <a:ext cx="104760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CStub3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191040" y="2700360"/>
              <a:ext cx="3855960" cy="425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 txBox="1"/>
            <p:nvPr/>
          </p:nvSpPr>
          <p:spPr>
            <a:xfrm>
              <a:off x="3984480" y="2735280"/>
              <a:ext cx="216072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MS RPC run time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495440" y="4284720"/>
              <a:ext cx="3854520" cy="423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 txBox="1"/>
            <p:nvPr/>
          </p:nvSpPr>
          <p:spPr>
            <a:xfrm>
              <a:off x="2289240" y="4316400"/>
              <a:ext cx="216072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MS RPC run time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21600" y="4284720"/>
              <a:ext cx="2147760" cy="477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 txBox="1"/>
            <p:nvPr/>
          </p:nvSpPr>
          <p:spPr>
            <a:xfrm>
              <a:off x="6330960" y="4332240"/>
              <a:ext cx="216072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MS RPC run time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001960" y="4902120"/>
              <a:ext cx="905400" cy="567000"/>
            </a:xfrm>
            <a:custGeom>
              <a:avLst/>
              <a:gdLst/>
              <a:ahLst/>
              <a:rect l="0" t="0" r="r" b="b"/>
              <a:pathLst>
                <a:path w="2515" h="1575">
                  <a:moveTo>
                    <a:pt x="0" y="948"/>
                  </a:moveTo>
                  <a:lnTo>
                    <a:pt x="310" y="948"/>
                  </a:lnTo>
                  <a:lnTo>
                    <a:pt x="310" y="1575"/>
                  </a:lnTo>
                  <a:lnTo>
                    <a:pt x="942" y="1575"/>
                  </a:lnTo>
                  <a:lnTo>
                    <a:pt x="942" y="948"/>
                  </a:lnTo>
                  <a:lnTo>
                    <a:pt x="1257" y="948"/>
                  </a:lnTo>
                  <a:lnTo>
                    <a:pt x="1257" y="1575"/>
                  </a:lnTo>
                  <a:lnTo>
                    <a:pt x="2200" y="1575"/>
                  </a:lnTo>
                  <a:lnTo>
                    <a:pt x="2200" y="948"/>
                  </a:lnTo>
                  <a:lnTo>
                    <a:pt x="2515" y="948"/>
                  </a:lnTo>
                  <a:lnTo>
                    <a:pt x="2515" y="0"/>
                  </a:lnTo>
                  <a:lnTo>
                    <a:pt x="0" y="0"/>
                  </a:lnTo>
                  <a:lnTo>
                    <a:pt x="0" y="948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992400" y="4881600"/>
              <a:ext cx="905400" cy="567000"/>
            </a:xfrm>
            <a:custGeom>
              <a:avLst/>
              <a:gdLst/>
              <a:ahLst/>
              <a:rect l="0" t="0" r="r" b="b"/>
              <a:pathLst>
                <a:path w="2515" h="1575">
                  <a:moveTo>
                    <a:pt x="0" y="948"/>
                  </a:moveTo>
                  <a:lnTo>
                    <a:pt x="315" y="948"/>
                  </a:lnTo>
                  <a:lnTo>
                    <a:pt x="315" y="1575"/>
                  </a:lnTo>
                  <a:lnTo>
                    <a:pt x="631" y="1575"/>
                  </a:lnTo>
                  <a:lnTo>
                    <a:pt x="631" y="948"/>
                  </a:lnTo>
                  <a:lnTo>
                    <a:pt x="1257" y="948"/>
                  </a:lnTo>
                  <a:lnTo>
                    <a:pt x="1573" y="1575"/>
                  </a:lnTo>
                  <a:lnTo>
                    <a:pt x="1889" y="948"/>
                  </a:lnTo>
                  <a:lnTo>
                    <a:pt x="2515" y="948"/>
                  </a:lnTo>
                  <a:lnTo>
                    <a:pt x="2515" y="0"/>
                  </a:lnTo>
                  <a:lnTo>
                    <a:pt x="0" y="0"/>
                  </a:lnTo>
                  <a:lnTo>
                    <a:pt x="0" y="948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856560" y="4865760"/>
              <a:ext cx="903600" cy="590760"/>
            </a:xfrm>
            <a:custGeom>
              <a:avLst/>
              <a:gdLst/>
              <a:ahLst/>
              <a:rect l="0" t="0" r="r" b="b"/>
              <a:pathLst>
                <a:path w="2510" h="1641">
                  <a:moveTo>
                    <a:pt x="0" y="995"/>
                  </a:moveTo>
                  <a:lnTo>
                    <a:pt x="300" y="995"/>
                  </a:lnTo>
                  <a:lnTo>
                    <a:pt x="300" y="1641"/>
                  </a:lnTo>
                  <a:lnTo>
                    <a:pt x="621" y="1641"/>
                  </a:lnTo>
                  <a:lnTo>
                    <a:pt x="621" y="1010"/>
                  </a:lnTo>
                  <a:lnTo>
                    <a:pt x="1232" y="1010"/>
                  </a:lnTo>
                  <a:lnTo>
                    <a:pt x="1232" y="1641"/>
                  </a:lnTo>
                  <a:lnTo>
                    <a:pt x="2184" y="1641"/>
                  </a:lnTo>
                  <a:lnTo>
                    <a:pt x="2184" y="1015"/>
                  </a:lnTo>
                  <a:lnTo>
                    <a:pt x="2510" y="1015"/>
                  </a:lnTo>
                  <a:lnTo>
                    <a:pt x="2510" y="4"/>
                  </a:lnTo>
                  <a:lnTo>
                    <a:pt x="0" y="0"/>
                  </a:lnTo>
                  <a:lnTo>
                    <a:pt x="0" y="995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 txBox="1"/>
            <p:nvPr/>
          </p:nvSpPr>
          <p:spPr>
            <a:xfrm>
              <a:off x="1949400" y="4827600"/>
              <a:ext cx="103500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SStub1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 txBox="1"/>
            <p:nvPr/>
          </p:nvSpPr>
          <p:spPr>
            <a:xfrm>
              <a:off x="3929040" y="4827600"/>
              <a:ext cx="103500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SStub2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 txBox="1"/>
            <p:nvPr/>
          </p:nvSpPr>
          <p:spPr>
            <a:xfrm>
              <a:off x="6813720" y="4842000"/>
              <a:ext cx="1035000" cy="39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SStub3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in32 Networking Summ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1127160" y="1728720"/>
            <a:ext cx="689148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ndor-independent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versal API for client-side application develo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ic facilities for improved operation in network environ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facilities for exploiting network capabil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hat Should I Do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728640" y="1528920"/>
            <a:ext cx="7686720" cy="50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5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 applications to Win32 API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a minimum, ensure proper behavior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00000" indent="-345960">
              <a:lnSpc>
                <a:spcPct val="85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ation on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0000" indent="-345960">
              <a:lnSpc>
                <a:spcPct val="85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ing files with UNC paths, multiple us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0000" indent="-345960">
              <a:lnSpc>
                <a:spcPct val="85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 to network prin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0000" indent="-345960">
              <a:lnSpc>
                <a:spcPct val="85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ic messaging (File-&gt;Sen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0000" indent="-345960">
              <a:lnSpc>
                <a:spcPct val="85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common dialo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0000" indent="-345960">
              <a:lnSpc>
                <a:spcPct val="85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st on slow lin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0000" indent="-345960">
              <a:lnSpc>
                <a:spcPct val="85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read from/write to .INI files direct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more services to gain competitive edge selling to networked custom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479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st on both “Chicago” and Windows 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85640" y="2682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Windows</a:t>
            </a:r>
            <a:r>
              <a:rPr b="1" lang="en-US" sz="4800" spc="-1" strike="noStrike" baseline="30000">
                <a:solidFill>
                  <a:srgbClr val="f4d337"/>
                </a:solidFill>
                <a:latin typeface="Times New Roman"/>
                <a:ea typeface="Times New Roman"/>
              </a:rPr>
              <a:t>™</a:t>
            </a: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 Is Aimed At Network Us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776160" y="2071800"/>
            <a:ext cx="759132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or Work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sell 6-7 million copies in FY ’9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ef Windows SKU for hardware O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Windows NT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dvanced Server are network-rea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line network client capabilities in every copy of “Chicago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85640" y="2682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Development Today In A Network Environ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219320" y="2049480"/>
            <a:ext cx="6705720" cy="37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interfaces are not part of the operating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s provide minimal assistance for locking, seri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s are too low-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orly documented interf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ossible to have one binary for multiple network environ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85640" y="2682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Easing Network Application Develop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682720" y="2305080"/>
            <a:ext cx="378000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2c265"/>
                </a:solidFill>
                <a:latin typeface="Times New Roman"/>
                <a:ea typeface="Times New Roman"/>
              </a:rPr>
              <a:t>Three approach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priet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oss-plat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“WOSA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85640" y="2682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Easing Net Application Develop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41520" y="2081160"/>
            <a:ext cx="7862760" cy="283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istics of proprietary approach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s change rapid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s intimate knowledge of protocols, archite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de and concepts not portable to other network platforms - limits target mark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85640" y="2682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Easing Net Application Development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80880" y="2017800"/>
            <a:ext cx="8381880" cy="33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istics of cross-platform approach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s complete code rewrite to new frame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ults in least common denominator functionality across network platfo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crifices ef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ces choice of language,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508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85640" y="2682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4d337"/>
                </a:solidFill>
                <a:latin typeface="Times New Roman"/>
                <a:ea typeface="Times New Roman"/>
              </a:rPr>
              <a:t>Easing Net Application Develop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789120" y="2065320"/>
            <a:ext cx="7567560" cy="37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istics of Win32 “WOSA” approach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s are native part of 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vendors provide specific implemen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s can advertise their capab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4d337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can still use “sideband” APIs for vendor-specific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vid Beaver</dc:creator>
  <dc:description/>
  <dc:language>en-US</dc:language>
  <cp:lastModifiedBy>shannon wheeler</cp:lastModifiedBy>
  <cp:revision>0</cp:revision>
  <dc:subject>SD94</dc:subject>
  <dc:title>Writing Win32 Apps for a network environment</dc:title>
</cp:coreProperties>
</file>