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5AB3-B0FC-4026-9BAC-C94A7A303A2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screen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screen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3C91-12EE-4037-9C22-09BB0BC7C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DA21-DDE7-48E5-98C7-BD96910B3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7644-9B61-4C3B-862C-CF4A1736F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AC1A-4699-46E4-9016-ECE243188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14A2-8FEF-4880-B46B-CE46D0E00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88D4-BEE1-4C2E-9961-E6C4C1BEF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F491-52AC-4256-BD4C-2D2BC2C63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3019-9156-492D-86EC-7C1FEFEDF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83BF-FF8E-45AB-902A-34F2E546D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CA30-BE1E-4D12-8B9D-0BEEEE5F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BB9E-5A74-44BA-9D71-A80B2FF8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6640-BEA2-46F6-872E-B5ADC182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7262E-5CB2-4058-B224-17B2413B3B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477720" y="571680"/>
          <a:ext cx="819000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720" y="571680"/>
                    <a:ext cx="8190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68360" y="576360"/>
          <a:ext cx="8209080" cy="570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576360"/>
                    <a:ext cx="8209080" cy="57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1T14:58:50Z</dcterms:created>
  <dc:creator>Ing. Industrial</dc:creator>
  <dc:description/>
  <dc:language>en-US</dc:language>
  <cp:lastModifiedBy>Ing. Industrial</cp:lastModifiedBy>
  <dcterms:modified xsi:type="dcterms:W3CDTF">2003-12-01T15:37:20Z</dcterms:modified>
  <cp:revision>2</cp:revision>
  <dc:subject/>
  <dc:title>Presentación de PowerPoint</dc:title>
</cp:coreProperties>
</file>