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5472-1C78-4E80-9286-A619F6EC0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2561-117D-44F2-A6EE-BE5FF4A03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4708-0FBC-4999-A867-66E74464F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C6C4-7587-406A-9F56-B33EAE161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694C-3359-4B59-B645-8041203E1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2D54-5633-4500-857C-A632D57AE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3444-F9B2-4A13-B5AC-7530730C2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D6E8-88C2-4901-ACEE-63F699BFE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6B66-1114-4FF4-B0A6-0667F98A5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0EEC-C2F0-4B5D-9870-D78981353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6149-0683-41F8-86FE-4E5107F64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147E-ABBD-425E-9E54-4F9CB457B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11A40-4FD4-4171-B1D4-DD4055DB71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gmr1" descr=""/>
          <p:cNvPicPr/>
          <p:nvPr/>
        </p:nvPicPr>
        <p:blipFill>
          <a:blip r:embed="rId1"/>
          <a:stretch/>
        </p:blipFill>
        <p:spPr>
          <a:xfrm>
            <a:off x="1731960" y="2095560"/>
            <a:ext cx="5680080" cy="2666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286000" y="5105520"/>
            <a:ext cx="4343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er Board Bottom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.92” x 6.21” full si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743200" y="5029200"/>
            <a:ext cx="4191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r Logic Board Top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.37” x 5.9” full si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logic" descr=""/>
          <p:cNvPicPr/>
          <p:nvPr/>
        </p:nvPicPr>
        <p:blipFill>
          <a:blip r:embed="rId1"/>
          <a:stretch/>
        </p:blipFill>
        <p:spPr>
          <a:xfrm>
            <a:off x="1828800" y="2286000"/>
            <a:ext cx="5396040" cy="2163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rcvr" descr=""/>
          <p:cNvPicPr/>
          <p:nvPr/>
        </p:nvPicPr>
        <p:blipFill>
          <a:blip r:embed="rId1"/>
          <a:srcRect l="0" t="20671" r="0" b="0"/>
          <a:stretch/>
        </p:blipFill>
        <p:spPr>
          <a:xfrm>
            <a:off x="1828800" y="1494000"/>
            <a:ext cx="5551560" cy="2806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2590920" y="4800600"/>
            <a:ext cx="3886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r Board Bottom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.07” x 6.07” full si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5T17:09:49Z</dcterms:created>
  <dc:creator>Tom Duncan</dc:creator>
  <dc:description/>
  <dc:language>en-US</dc:language>
  <cp:lastModifiedBy>R. J. (Bob) Schetgen, KU7G</cp:lastModifiedBy>
  <cp:lastPrinted>1999-10-06T20:20:56Z</cp:lastPrinted>
  <dcterms:modified xsi:type="dcterms:W3CDTF">1999-12-20T22:08:20Z</dcterms:modified>
  <cp:revision>5</cp:revision>
  <dc:subject/>
  <dc:title>No Slide Title</dc:title>
</cp:coreProperties>
</file>