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35BC06-1D1F-4C9A-AD03-77D073E7F2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01156A-D9BF-4ADE-B31F-C6F55A5FE3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EF050C-4751-4DF7-B09C-AA2D38A2B4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DF16B6-6ADB-4BC2-9EA7-B1F2E91D28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1C480DE-7551-4B28-A68B-48EBC946094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3E7196-2E73-4086-86A9-C3DBB817EF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9BD1BD-7889-4A8F-B971-F368AE11ED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8AACAF-B88B-40CF-B995-E55EEAD0CC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DD5A53-55B5-4859-9160-F329A19060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3A46F1-12A3-4EC5-897C-41897307B6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899CDB-272D-4D23-B38C-E5B2A5C2FD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11B76D-D426-4CD1-BDCA-90D8E3D220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C133BF-CE37-47E1-843D-35DA830F95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A71033-545B-46C4-A87C-E1DB2B9B94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01BF29-DC3F-4725-85C9-D9E34BACE4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6CE2E44-AD8C-4BAE-970B-B606FF7D9D0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C8EEAC0-068E-4425-9762-71E43D3FFA0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A353F0-C061-49E6-BC0B-62511DCC73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256A71-AFCD-4FFC-9DEF-4DCBAA7D58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7B429F-B076-4354-9648-417F511C80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82F573-A563-47C1-9133-411806B447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C634C4-F455-4CB0-8918-575372905D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4362DC-6163-46B2-AD88-C95810E100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95CB4A-83AF-43EA-88D5-9B668F9254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6B642D-C502-47EA-A339-52C22B78E23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A2E3E0-CDE8-4EB3-948D-FCDECA6090E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6349A49-D7DE-4F5A-894C-6361C30C59F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8FA9BBA-BDB4-45C1-9FA3-2C785EF81F4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5093C6-93D2-4ED0-9651-011B1E93BF3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7DB1AF-0052-4914-8E4A-D60F307FCC1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84E4C1-C798-4844-9326-3315CFC4E98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71B702-C0B8-4718-8263-E29C23A8A1D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F0CAA3-B08E-476E-B4BC-25D20972CCCD}"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65EEB2-2E3E-4ED7-A07B-2C81F049E162}"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0FD5FD-3152-4779-BC67-D225E530F075}"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C86C8F-F659-4FBE-BA10-06BD002963E2}"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CE0E6B-04A0-4F12-95A7-1D4F1CF6C22A}"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E95A7D-9B9E-4D97-9A21-856BEB349369}"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06770B-5A37-46D7-8F6E-5F47EB895ABE}"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4902B5-F4A7-4A59-AF73-A7A09D5544C7}"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1E6DC0-0263-43D0-BA45-D650850EF247}"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78B40F-6AC9-4C93-9F41-BA78FF8C29B6}"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826453-996A-4006-A2BF-2911A19ECC95}"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632D3B-D7AC-47E6-9A43-766BF3C6F9CD}"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531031-5D02-44BE-8039-0F69B176B2BE}"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E1D450-2841-4474-8DFE-53F18F837A42}"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F14946-B0B2-45FC-A1D5-8E315E51EC9E}"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B8A9D0-54B8-47AF-863A-E49C2B8009F5}"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2D90D8-B51D-4FB4-8624-424AD083D812}"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641971-450F-4CF6-A265-E114E0DB5CE5}"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1F561A-58E0-4092-829F-55B114DCA980}"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54D358-CD3D-47B5-B36E-D9151A0521D9}"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F78DC9-CD21-4927-8340-7256B6D41909}"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B45607E-264A-45ED-9413-027C6AAFE570}"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519128-E0F6-4605-9553-9A2375A3F47A}"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8EB7A4-24C7-4DE1-8093-EABBEE3C6A3F}"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689176-A3FD-414A-8261-03ADD25217C1}"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726E52-527D-4E38-8655-2BAE03183054}"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543239-A4AD-416A-A14F-7C0A8488145F}"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C59F3C-2831-467C-8088-8CD637B05070}"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6D11AB-C291-4B33-BF96-37CAD7DF822F}"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B1D361-1A2C-455F-A30A-215F418132E2}"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ACA40F-90AC-4CA5-9EA0-0BD49DBD877E}"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7A1A33-1B1A-421C-9BAC-69EF5A65551E}"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9DB214-525B-48C0-B60B-E7699C94BE4A}"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FA9837-8A39-429D-A105-57C69E48CC14}"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92A44F-1896-4367-B6E3-E40EC0FA0D9A}"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2D3321-88C5-4CAE-922C-46810314AAA1}"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9BD572-32C3-4167-BDE3-12CF83CD49C2}"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56C445-ABDF-42E2-8E6E-4C181CB3A738}"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DD8A09-FBE6-4986-BB67-1C8B24B30718}"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92113C-0778-4B78-8477-6FF6632E9CDD}"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39ED3B-BF9A-47B8-BE50-4906270442C9}"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27500C-82F8-4CC3-B5DF-50DEA34D3917}"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4696D0B-06A7-4971-9D00-1863AB7BB131}"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34B3C5-D910-4D61-8068-AA1DB764A264}"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978FDE-804E-4A80-9631-AA5AED3FDA85}"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3330DA3-6A05-43BE-92CF-11A62F9145A4}"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669732-BA39-4B3E-AB46-232C12F02497}"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D398C9-48EA-43C0-9D68-7508B671BB4E}"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44FC26-F0EF-4439-B0A4-D3AE34FAF7F7}"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4B14A5-447E-42CA-BF1C-055985850E3E}"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8C0894-978D-46A9-A9E5-C734214FFAFE}"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635B5C-10B9-4F05-A6B4-5006F2E1F95B}"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9A3D2C-A1DF-4663-8D5D-CFF598C3CA80}"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A1581B4-6A86-4D51-A30C-D9DC846682BB}"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29825D-EA85-4D63-A55A-ED3B949D6F82}"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154B10-8DEF-435D-B0E8-5D8D7BCEC8BC}"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0A2A79-7FA7-44AD-9E4E-0BF9FD6169FC}"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85D919-2EB2-4151-BBFC-F3E2695C8A85}"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81264D-AD0D-475F-8824-A30CA76C8010}"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D860D8F-9EB8-4BBD-BC8E-7BEB884AF0D0}"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2E212C-F5AB-4BD2-9EC0-5533A4CEEE22}"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57A88E-4014-4848-9E41-806699453425}"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11E097-D019-4925-9ACC-B606A7E984F0}"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4562C3-BE69-48BC-8023-384BB9D071D0}"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8CEB802-9315-475C-903F-B762F41AC5CB}"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D7EDA1-2938-44A5-A442-A10C4816CD8D}"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EBBA88-446C-4B55-B1C7-7E6FE05ED84B}"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965CC9-37F8-492C-9A99-80B9FC30F697}"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036400-FBDA-474D-AD41-CB8E716A3549}"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A282E7-AECB-4553-9EA1-2FA7ED5DA644}"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F27455-2B34-4D61-A328-BC84F5BBF1BA}"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E5ECF91-9557-4952-BCBA-587DAF019508}"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DBFD7C-1BC2-48D0-AFFE-E14995126490}"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17A7AD-99FB-4F81-AF0E-66C129CBE8E9}"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CC820B-4218-4D1A-80D6-B3FE9FAE9987}"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E3F9A8A-17EF-4376-9D7A-95733651E2E8}"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CD9C01-948F-4A59-B593-7B1A67068519}"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01BF3C6-4208-435B-BDA2-4772F6C4ED60}"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4D2324-3633-47ED-B43E-32868875A5C6}"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F35521-5BAF-4066-95E6-4FC608E5AD17}"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328A5F-5AC0-479E-B64C-952C4395E85A}"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B8674F-3FA8-4975-9295-39E9BF9B773C}"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246DBA-7AED-4F62-80E1-829BCBE8B207}"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233CD4-7C0C-4A2A-A340-5C573BCC3D78}"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3FA3B5-6A56-478E-AD91-9BFE5923ADA4}"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DCC018-BDC8-4C44-8138-C2D34FB1F295}"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37DF02-4F80-4310-98C0-1BF22AEA2003}"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64A497-1F08-477F-8F72-B7F9D3954801}"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5D8A8A-3469-4E6C-8AC6-E13361473954}"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3C8768-74B7-4B5A-83C9-A0947872F0BC}"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923B5C-1C59-4D1E-BD8D-E13C99E30980}"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F67A88-C0F1-419F-B702-1CDC69A0180A}"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8536EF-CB63-4B4F-A53D-1EAEF74082C7}"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8CF957A-F846-47AA-9301-9B97CA1B0346}"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10ED3A-B451-4F57-8213-FBC9B4C943BB}"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5EAEFC-D94A-4ECA-ABE8-753B395927B0}"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401D7A-805E-4463-8136-147A41DA9D4E}"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EC36B2-A390-45DD-847E-ACF97FBF7D73}"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2D1E83-5743-4A1C-97C2-21A670C6EE2D}"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7DFD52-A65B-4121-A72F-6BF717BD935B}"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69E69B-4D75-4421-9D1C-F7C674746B8A}"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3C9745-FA62-4252-B5DC-326827DB7297}"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B78637-614D-4AB0-9293-7FE8019BADF5}"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FA2F22-4C57-4180-BDCD-1B282C3B1D45}"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83FAC8-02A0-4755-AA13-307603D09110}"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8D018C-666F-4395-95A2-933A1D79D8D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113862-7F72-4D98-99BE-5E246C8D40E5}"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9FC592-185B-4E7B-9FC3-E182E66AFA51}"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00290B-3A14-4B3E-8CAC-A4B4507167F6}"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497C45-4EF0-4316-81EB-81CC2640E39F}"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121A69-D4A0-42EE-B987-D5C919B06348}"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AD302C-6C52-4961-81FB-0D692C02B746}"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66CC1F-5A5D-4F64-8467-A4C857FB553A}"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99C099-504F-4FCA-9322-26769EC33BC5}"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F90E6D-7D28-4C02-8CB7-2D5639876F7D}"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D2A43E-6808-4081-A189-A04CEB3E4915}"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C7E071-1E7D-49BB-9586-6EFACE328F3E}"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C13D83-CE59-4787-88B0-F4DAD4F5CA06}"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751094-1848-4370-971B-00F4BE382BD7}"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122725-7CC1-4275-991F-A9DE53E86A72}"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B5BB62-6158-41B6-BA20-D56FC917DE95}"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73CE524-0C11-4651-9524-178759EEE09E}"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9525A3-F9D6-4A3A-908C-62F7DB128D2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CAAD20-0521-4ECD-B3E4-DFCE94C5BE5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E2B1B7-D439-44D0-B934-3FA3F6D72B9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19EB7C-C29C-404E-9FF5-C45FB80C217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F689E2-BFE0-40CC-A835-F62B5442F6D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366320-437C-40B1-ACCF-31DFF4B4C35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799CCEF-102D-4A1C-AF0A-939A783662B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C74F82-12A1-4DD3-ACB1-2CE2BBAAEAE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55D6FA-3269-4350-BEE5-E873FBED11A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A9ED84-0B0E-4557-B8D2-6D283E8F179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D23232-5033-40CA-8734-43B0A0FFD35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B60453-DDDC-403C-A78B-0DD8857BBED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C00BDD-DE7C-4F9F-AD69-B37540B72F7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84D8EE-65DC-4810-AE3B-95C9DC2EF1A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165999-5F4E-4D1C-A46F-9A9A6432BEF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4B1DA5-5114-4CBB-8504-EF019BB5863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6F58A1-4A37-4645-B35A-A9BC437B557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57A1DB-8936-4ADF-B612-736A4B9D61F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022517-55FB-4C0F-8C4A-367AB0FF620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347431-1AE8-4174-B160-ACA189F3865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CD57BD-7113-4098-8458-9E11BAD33FB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E6E8BB-5362-454A-A921-16D5A429731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09541C-BF74-4CF2-8494-92D0EA2FDCB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B0BCCE-312B-4086-B016-C477296CF0E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EC857E-9029-4346-BB62-DA52634C6E69}"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887E92-8BE6-4C65-9565-33E023CD440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7C323C-167A-408A-8F23-614EDA5E99B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E33642-B196-43A5-BCC1-059B94D7E2D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900127-52AE-42D6-8B20-61269A30494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E726E6-75CB-43C6-9DB6-202C28DD56B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0C8DE5-9E07-4FA9-9755-536C71B3E52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E6E5DF-785F-4762-90E0-FDA44A0B4D7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99A416-C3D4-42DF-825A-B423031B45B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BC428A-8423-4EB2-A39F-E4898360F5E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5CAC70-54CA-48EA-93C1-F3D7F024193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5467A3-CAC3-48B9-995C-51DA2A2324B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145A46-D0A0-483A-AFBB-7DA1997D54A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EC7AB6-CAE1-4F0A-B755-0328A6680DC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F565A0-4E09-4DF0-855B-95DC683FFB9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3A4D99-C5F4-4349-8406-600A2C0CFB4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196015-E904-47CB-8007-51CC8EA5CCC7}"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6F1F89-45B9-4C32-B790-5C366CEF0DF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8458F3-1312-4493-B7DC-F38B1C545D6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0C2DE5-B948-453E-8CB8-CE08300B3B01}"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50CC44-5362-4790-8878-7737A0963F2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702A0F-A1C0-4AF1-81EF-A83532BBB2D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3724C8-2E23-468C-BE76-0FD28C7235C4}"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ADC8C27-2BD6-45DC-A7EE-17670B22D205}"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193E5C-6F8B-47B2-95E6-AF3DA957BA7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C90AF6-684E-4564-8D24-C0473C0E9DDC}"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32AFE2-2632-46F9-88EF-DEE3CFE9C38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6009B8-3D92-44CB-830D-0FEEA95A726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96D37E-FF02-4625-8CFD-4BF79F6565BB}"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09170E-509F-40ED-9789-779F0723702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5AB7DC-CDEF-46EF-98DE-BEEA9E2CBDE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032883-29B9-4340-B924-555B93ED942D}"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65685B9-C6B6-47C4-AB85-22DA140B638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291383-CE01-4EDD-82D8-804FC8B92BD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B8F2E3-E408-408B-A968-D1D7112A35B2}"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EFE94E-8D53-4E3A-BD8C-06806735B399}"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33BC28-873C-4749-9A73-5C78ABD6BEA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C31560-00FE-47F2-B29A-856F1A837F4D}"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FB9EF9-C79B-423F-A8EB-180F3512B420}"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369B58-A165-4CF7-9EFE-F67162C4780D}"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F64DEE-9493-4A5C-9634-7FC2186C75CD}"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A5648A-9015-4E59-823A-6AA57B16D31F}"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0BA857-90D4-4A1C-8EAB-0E40979056AD}"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39E4E7-0F13-4B39-B367-3CFC6A94FA40}"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F95ADA-4C2F-41E3-B870-7E1081861AA9}"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C180D9-B4B7-47A1-9FBD-A694339CC36A}"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1896C2-16FF-4F5A-A8A4-6E3C9E95F4F6}"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B664A23-34C6-414F-B9F1-905D23533F16}"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1EDAA1-1EC9-4C20-9E1D-FD8608C08074}"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62CEF5-3B76-4BC0-9E21-4DEF43BB007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8DAFED-A1A8-439B-A4E5-1692BE054881}"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220F53-3CEB-4C2B-9675-F336103F860B}"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629126-DBD2-48C2-B1C7-81D619364426}"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879AE7-44C7-4292-8294-84FE9E02C2A2}"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23131E-2026-4734-9C32-B68F2353FBAB}"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1682CD-7BEF-414C-B2A9-6764DBD47B65}"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976167-D957-4B26-B6B4-4FF83358E066}"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16423D-FDEB-41AC-B0C7-7ED02B84B7FD}"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0841B7-AD83-45AE-9A58-FDD417C8CFBE}"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450121-5043-436B-870B-95601861F606}"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0B4285-1131-4100-B9FE-6DF9F2E960D0}"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