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VP: The largest part of this talk will focus on RSVP and discuss what it is and how i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network protocols:  In addition, I will briefly discuss other new network technologies such as IPV6, IP security, and Mobile 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Extensible Gateway: I’ll also talk a bit about the open extensible gateway and the issues involved in implementing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bed Network: Last, I am going to describe the network testbed that we are creating. We will use this network to run experiments with RSVP and gate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380520"/>
            <a:ext cx="8991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7320" y="644832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0EB8-56B9-4EA2-9923-B3E390D1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1320" y="6448320"/>
            <a:ext cx="158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Times New Roman"/>
              </a:rPr>
              <a:t>Differentiated Services</a:t>
            </a:r>
            <a:endParaRPr b="1" i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64240" y="236232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9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52760" y="3186000"/>
            <a:ext cx="58384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rdon 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Multimed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California,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chaffee@bmrc.berkeley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: http://bmrc.berkeley.edu/people/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onfiguration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static allocations ini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customers and IS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IS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ent based (e.g. bandwidth broke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prece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: across all packe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: restricted to packets belonging to an application, host, etc. (as in old IPv6 Class semantic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raffic Behavior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percentage of traffic should be dedicated to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explicit per link resource managem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 links along popular pathways might be unable to meet their traffic guarante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congestion occurs, more people likely to ask for premium servi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ayment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ays for serv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er or receive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ent on activity (e.g. 800 numbers for web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 with multica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ayment sche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cope of Service Clas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priorities limited to an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nd with bilateral ISP agree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cope of priority be exten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is unidire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4876920"/>
            <a:ext cx="2057400" cy="9856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5181480"/>
            <a:ext cx="38124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43000" y="5638680"/>
            <a:ext cx="304920" cy="304560"/>
            <a:chOff x="1143000" y="5638680"/>
            <a:chExt cx="304920" cy="304560"/>
          </a:xfrm>
        </p:grpSpPr>
        <p:sp>
          <p:nvSpPr>
            <p:cNvPr id="200" name=""/>
            <p:cNvSpPr/>
            <p:nvPr/>
          </p:nvSpPr>
          <p:spPr>
            <a:xfrm>
              <a:off x="1219320" y="565848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587232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218960" y="587232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25712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5760" y="587232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29528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77200" y="589608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69280" y="59230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7720" y="563868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133720" y="5181480"/>
            <a:ext cx="38088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23880" y="4876920"/>
            <a:ext cx="304920" cy="304200"/>
            <a:chOff x="1523880" y="4876920"/>
            <a:chExt cx="304920" cy="304200"/>
          </a:xfrm>
        </p:grpSpPr>
        <p:sp>
          <p:nvSpPr>
            <p:cNvPr id="213" name=""/>
            <p:cNvSpPr/>
            <p:nvPr/>
          </p:nvSpPr>
          <p:spPr>
            <a:xfrm>
              <a:off x="1600200" y="48967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3880" y="51102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599840" y="51102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3800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56204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36640" y="51102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7616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5248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58080" y="51339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50160" y="5160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78600" y="48769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9480" y="5105520"/>
            <a:ext cx="304920" cy="304200"/>
            <a:chOff x="609480" y="5105520"/>
            <a:chExt cx="304920" cy="304200"/>
          </a:xfrm>
        </p:grpSpPr>
        <p:sp>
          <p:nvSpPr>
            <p:cNvPr id="225" name=""/>
            <p:cNvSpPr/>
            <p:nvPr/>
          </p:nvSpPr>
          <p:spPr>
            <a:xfrm>
              <a:off x="685800" y="51253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480" y="53388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85440" y="53388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2360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4764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2240" y="53388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6176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3680" y="53625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760" y="5389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4200" y="51055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3623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4952880"/>
            <a:ext cx="533520" cy="22860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257800"/>
            <a:ext cx="144792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371600" y="5334120"/>
            <a:ext cx="914400" cy="38088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043520"/>
            <a:ext cx="15238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marked for priority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572000"/>
            <a:ext cx="22860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043520"/>
            <a:ext cx="15400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policed for profile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24080" y="4572000"/>
            <a:ext cx="53352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77120" y="5105520"/>
            <a:ext cx="304560" cy="380880"/>
            <a:chOff x="6477120" y="5105520"/>
            <a:chExt cx="304560" cy="380880"/>
          </a:xfrm>
        </p:grpSpPr>
        <p:sp>
          <p:nvSpPr>
            <p:cNvPr id="246" name=""/>
            <p:cNvSpPr/>
            <p:nvPr/>
          </p:nvSpPr>
          <p:spPr>
            <a:xfrm>
              <a:off x="6477120" y="5176800"/>
              <a:ext cx="114120" cy="30960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7120" y="539100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53434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7120" y="529596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7120" y="52480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91240" y="5153040"/>
              <a:ext cx="190080" cy="33336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7120" y="5105520"/>
              <a:ext cx="30456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858000" y="5410080"/>
            <a:ext cx="304920" cy="381240"/>
            <a:chOff x="6858000" y="5410080"/>
            <a:chExt cx="304920" cy="381240"/>
          </a:xfrm>
        </p:grpSpPr>
        <p:sp>
          <p:nvSpPr>
            <p:cNvPr id="254" name=""/>
            <p:cNvSpPr/>
            <p:nvPr/>
          </p:nvSpPr>
          <p:spPr>
            <a:xfrm>
              <a:off x="6858000" y="5481360"/>
              <a:ext cx="114480" cy="30996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0" y="569592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0" y="56484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0" y="560088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55530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2480" y="5457600"/>
              <a:ext cx="190440" cy="33372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5410080"/>
              <a:ext cx="30492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3809880" y="4952520"/>
            <a:ext cx="533520" cy="30492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019920" y="5410080"/>
            <a:ext cx="457200" cy="763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019920" y="556236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5257800"/>
            <a:ext cx="1067040" cy="763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53341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791320" y="5257800"/>
            <a:ext cx="685800" cy="76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5334120"/>
            <a:ext cx="1066680" cy="30456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028840" y="5486040"/>
            <a:ext cx="971640" cy="3348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09520" y="5486400"/>
            <a:ext cx="1143000" cy="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464832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09880" y="5029200"/>
            <a:ext cx="609840" cy="380880"/>
          </a:xfrm>
          <a:prstGeom prst="line">
            <a:avLst/>
          </a:prstGeom>
          <a:ln w="1908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040" y="5486400"/>
            <a:ext cx="60948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37920" y="548640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371600" y="5486400"/>
            <a:ext cx="990720" cy="3808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914400" y="5333760"/>
            <a:ext cx="144792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782720" y="5047920"/>
            <a:ext cx="579600" cy="4381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6177240"/>
            <a:ext cx="137160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No marking of returning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472428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24280" y="4876920"/>
            <a:ext cx="45720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495252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1008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curity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S byte not covered by IPSEC authentication head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ft-of-service attack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ed strong authentication for service authorization/configuration, policing at network boundar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diffserv increase the potential for mis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rvice Propos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usage of Type of Service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d Service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um Service 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bit Differenti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Dave Clark (MIT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provis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expected capacity usage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ffic is “unlikely” to be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 of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ets get best-effort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better best-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419720"/>
            <a:ext cx="32004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416556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439416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50292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9280" y="509076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re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47242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47242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52880" y="4240080"/>
            <a:ext cx="218880" cy="1684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4560" y="414972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19640" y="4227480"/>
            <a:ext cx="176040" cy="19224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16556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50532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7120" y="429588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6360" y="3511080"/>
            <a:ext cx="16362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if 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352320" y="3886200"/>
            <a:ext cx="22860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615840" y="3886200"/>
            <a:ext cx="11772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88620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3886200"/>
            <a:ext cx="15228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502920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48520" y="40384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01880" y="47700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2240" y="434304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44792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1676520"/>
            <a:ext cx="1600200" cy="1137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286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2286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2286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2286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080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419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Van Jacobson (LBL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 allocation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peak capacity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d at boundaries to remove bur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profile packets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virtual leased line: fixed maximum bandwidth, but available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52960" y="4545000"/>
            <a:ext cx="218880" cy="16812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37000" y="446400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2080" y="4548240"/>
            <a:ext cx="163440" cy="17316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460044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4724280"/>
            <a:ext cx="3200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37160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67652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38880" y="1600200"/>
            <a:ext cx="1600200" cy="113832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449568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46990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2209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209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5334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4724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29160" y="53956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xe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69080" y="47242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50292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2209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8120" y="3815640"/>
            <a:ext cx="121248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al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52400" y="4191120"/>
            <a:ext cx="22860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716280" y="4191120"/>
            <a:ext cx="11736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2240" y="419112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90840" y="4191120"/>
            <a:ext cx="15264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and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ng to an end-to-e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Differentiated Servic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Assured and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and Premium services use similar implementation mechanis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mium service sets P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service sets A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 building blocks to create a variet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Border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152388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96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82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0240" y="242316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220968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it for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590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65600" y="19731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23623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0200" y="25909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7524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15238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70000" y="28803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37800" y="2437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228600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2590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11480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0240" y="501372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480060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 if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65600" y="456408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181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43434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41148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7800" y="502812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487692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4486320"/>
            <a:ext cx="1855800" cy="544320"/>
          </a:xfrm>
          <a:custGeom>
            <a:avLst/>
            <a:gdLst/>
            <a:ahLst/>
            <a:rect l="l" t="t" r="r" b="b"/>
            <a:pathLst>
              <a:path w="1169" h="343">
                <a:moveTo>
                  <a:pt x="0" y="246"/>
                </a:moveTo>
                <a:lnTo>
                  <a:pt x="420" y="0"/>
                </a:lnTo>
                <a:lnTo>
                  <a:pt x="713" y="0"/>
                </a:lnTo>
                <a:lnTo>
                  <a:pt x="1169" y="3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006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292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8769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54090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61080" y="5160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49600" y="42519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2720" y="489312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120" y="1452960"/>
            <a:ext cx="194256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mium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480" y="3891600"/>
            <a:ext cx="184500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ssur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44648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40374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Internal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2145960"/>
            <a:ext cx="1530360" cy="104004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bit se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560" y="2361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26668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65680" y="2514600"/>
            <a:ext cx="15228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2438280"/>
            <a:ext cx="650880" cy="53352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251460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65680" y="38098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3733920"/>
            <a:ext cx="11844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26480" y="342792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49080" y="213264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9920" y="373932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2930400"/>
            <a:ext cx="457200" cy="10321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0"/>
                </a:moveTo>
                <a:lnTo>
                  <a:pt x="0" y="624"/>
                </a:lnTo>
                <a:lnTo>
                  <a:pt x="19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8840" y="2894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21320" y="2437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73760" y="2666880"/>
            <a:ext cx="2112840" cy="685800"/>
          </a:xfrm>
          <a:custGeom>
            <a:avLst/>
            <a:gdLst/>
            <a:ahLst/>
            <a:rect l="l" t="t" r="r" b="b"/>
            <a:pathLst>
              <a:path w="1344" h="432">
                <a:moveTo>
                  <a:pt x="0" y="0"/>
                </a:moveTo>
                <a:lnTo>
                  <a:pt x="672" y="0"/>
                </a:lnTo>
                <a:lnTo>
                  <a:pt x="1344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73760" y="3429000"/>
            <a:ext cx="211284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336"/>
                </a:moveTo>
                <a:lnTo>
                  <a:pt x="672" y="336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7040" y="5034240"/>
            <a:ext cx="162540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 In/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191120"/>
            <a:ext cx="533160" cy="106668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lnTo>
                  <a:pt x="0" y="480"/>
                </a:lnTo>
                <a:lnTo>
                  <a:pt x="336" y="48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71720" y="427248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762120" cy="53352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0"/>
                </a:moveTo>
                <a:lnTo>
                  <a:pt x="480" y="144"/>
                </a:lnTo>
                <a:lnTo>
                  <a:pt x="0" y="144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343400" y="4266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560" y="319932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uilding Block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 hop router, at edges of networ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-pattern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s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ing token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ng token bu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End-to-End Resource Allocat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ed services in backbo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SVP in smaller network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bro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ralized control of bandwidth allocation within a doma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gotiate with other neighboring bandwidth brok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llocations at first, but evolving toward dynamic allocations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asic Idea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provide a way to specify the relative priority of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ata is more important than 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pay for better service ge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257800"/>
            <a:ext cx="1447920" cy="101772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181480"/>
            <a:ext cx="1600200" cy="10940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562720"/>
            <a:ext cx="221004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0680" y="5014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240" y="4938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of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533160" cy="41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0640" y="583956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09680" y="5638680"/>
            <a:ext cx="4191120" cy="487800"/>
            <a:chOff x="2209680" y="5638680"/>
            <a:chExt cx="4191120" cy="487800"/>
          </a:xfrm>
        </p:grpSpPr>
        <p:grpSp>
          <p:nvGrpSpPr>
            <p:cNvPr id="59" name=""/>
            <p:cNvGrpSpPr/>
            <p:nvPr/>
          </p:nvGrpSpPr>
          <p:grpSpPr>
            <a:xfrm>
              <a:off x="2478600" y="5712840"/>
              <a:ext cx="3355200" cy="413640"/>
              <a:chOff x="2478600" y="5712840"/>
              <a:chExt cx="3355200" cy="413640"/>
            </a:xfrm>
          </p:grpSpPr>
          <p:sp>
            <p:nvSpPr>
              <p:cNvPr id="60" name=""/>
              <p:cNvSpPr/>
              <p:nvPr/>
            </p:nvSpPr>
            <p:spPr>
              <a:xfrm>
                <a:off x="3124080" y="5714640"/>
                <a:ext cx="221004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597400">
                <a:off x="2475000" y="5809680"/>
                <a:ext cx="68580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995600">
                <a:off x="5243040" y="5887800"/>
                <a:ext cx="621000" cy="745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209680" y="5638680"/>
              <a:ext cx="4191120" cy="75960"/>
              <a:chOff x="2209680" y="5638680"/>
              <a:chExt cx="4191120" cy="75960"/>
            </a:xfrm>
          </p:grpSpPr>
          <p:sp>
            <p:nvSpPr>
              <p:cNvPr id="64" name=""/>
              <p:cNvSpPr/>
              <p:nvPr/>
            </p:nvSpPr>
            <p:spPr>
              <a:xfrm>
                <a:off x="3124080" y="5638680"/>
                <a:ext cx="2210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34120" y="5638680"/>
                <a:ext cx="106668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09680" y="5638680"/>
                <a:ext cx="1067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2430000" y="5589360"/>
            <a:ext cx="3447720" cy="518040"/>
            <a:chOff x="2430000" y="5589360"/>
            <a:chExt cx="3447720" cy="518040"/>
          </a:xfrm>
        </p:grpSpPr>
        <p:sp>
          <p:nvSpPr>
            <p:cNvPr id="68" name=""/>
            <p:cNvSpPr/>
            <p:nvPr/>
          </p:nvSpPr>
          <p:spPr>
            <a:xfrm rot="20597400">
              <a:off x="2447640" y="5685840"/>
              <a:ext cx="706680" cy="2282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82680" y="5600880"/>
              <a:ext cx="2278440" cy="23148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95600">
              <a:off x="5236920" y="5752800"/>
              <a:ext cx="639720" cy="19476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09680" y="5791320"/>
            <a:ext cx="381240" cy="380880"/>
            <a:chOff x="2209680" y="5791320"/>
            <a:chExt cx="381240" cy="380880"/>
          </a:xfrm>
        </p:grpSpPr>
        <p:sp>
          <p:nvSpPr>
            <p:cNvPr id="72" name=""/>
            <p:cNvSpPr/>
            <p:nvPr/>
          </p:nvSpPr>
          <p:spPr>
            <a:xfrm>
              <a:off x="2305080" y="5816160"/>
              <a:ext cx="19044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6083280"/>
              <a:ext cx="38124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304720" y="608328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3526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2572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5720" y="60832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4001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55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52160" y="61128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2440" y="61462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78080" y="579132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715000" y="5943600"/>
            <a:ext cx="380880" cy="380880"/>
            <a:chOff x="5715000" y="5943600"/>
            <a:chExt cx="380880" cy="380880"/>
          </a:xfrm>
        </p:grpSpPr>
        <p:sp>
          <p:nvSpPr>
            <p:cNvPr id="84" name=""/>
            <p:cNvSpPr/>
            <p:nvPr/>
          </p:nvSpPr>
          <p:spPr>
            <a:xfrm>
              <a:off x="5810040" y="5968440"/>
              <a:ext cx="19008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15000" y="6235560"/>
              <a:ext cx="38088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809680" y="623556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85756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76252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80680" y="62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90544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0048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7480" y="626508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7760" y="6298560"/>
              <a:ext cx="33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83400" y="594360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56600" y="1224360"/>
            <a:ext cx="7072200" cy="1008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al question is to choose which packets shall be dropped. 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definition of differential service is something like "not mi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Christian Hui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Go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charge differently for differ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weight, scalable service discrimination suitable for network backb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per flow state or per flow signa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 incrementally, then ev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ild simple system at first, expand if needed in fu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ervice separate from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79f"/>
                </a:solidFill>
                <a:latin typeface="Times New Roman"/>
              </a:rPr>
              <a:t>Comparison to Integrated Services</a:t>
            </a:r>
            <a:endParaRPr b="1" i="1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impler than Integr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 flow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gnaling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 traffic into priorit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dividual link resource a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agreements are relatively st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licy decisions made at network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undary routers implement policy decisions by tagging packets with appropriate priority ta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ffic policing at network boundari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olicy decisions with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ters within network forward packets according to their priority tag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 Diagram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245916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8769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712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40080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6386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3868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819520"/>
            <a:ext cx="245880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8006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0040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124080" y="449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2670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6386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4191120"/>
            <a:ext cx="76500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5680" y="1238400"/>
            <a:ext cx="7612200" cy="1199880"/>
          </a:xfrm>
          <a:custGeom>
            <a:avLst/>
            <a:gdLst/>
            <a:ahLst/>
            <a:rect l="l" t="t" r="r" b="b"/>
            <a:pathLst>
              <a:path w="4795" h="659">
                <a:moveTo>
                  <a:pt x="0" y="15"/>
                </a:moveTo>
                <a:cubicBezTo>
                  <a:pt x="21" y="47"/>
                  <a:pt x="0" y="97"/>
                  <a:pt x="46" y="148"/>
                </a:cubicBezTo>
                <a:cubicBezTo>
                  <a:pt x="61" y="184"/>
                  <a:pt x="80" y="211"/>
                  <a:pt x="102" y="225"/>
                </a:cubicBezTo>
                <a:cubicBezTo>
                  <a:pt x="135" y="246"/>
                  <a:pt x="181" y="273"/>
                  <a:pt x="215" y="292"/>
                </a:cubicBezTo>
                <a:cubicBezTo>
                  <a:pt x="314" y="348"/>
                  <a:pt x="408" y="405"/>
                  <a:pt x="517" y="435"/>
                </a:cubicBezTo>
                <a:cubicBezTo>
                  <a:pt x="859" y="530"/>
                  <a:pt x="963" y="520"/>
                  <a:pt x="1318" y="533"/>
                </a:cubicBezTo>
                <a:cubicBezTo>
                  <a:pt x="1410" y="531"/>
                  <a:pt x="1718" y="502"/>
                  <a:pt x="1810" y="497"/>
                </a:cubicBezTo>
                <a:cubicBezTo>
                  <a:pt x="1816" y="497"/>
                  <a:pt x="1959" y="438"/>
                  <a:pt x="1964" y="435"/>
                </a:cubicBezTo>
                <a:cubicBezTo>
                  <a:pt x="2010" y="444"/>
                  <a:pt x="2043" y="535"/>
                  <a:pt x="2200" y="564"/>
                </a:cubicBezTo>
                <a:cubicBezTo>
                  <a:pt x="2432" y="605"/>
                  <a:pt x="2672" y="604"/>
                  <a:pt x="2907" y="610"/>
                </a:cubicBezTo>
                <a:cubicBezTo>
                  <a:pt x="3191" y="606"/>
                  <a:pt x="3484" y="659"/>
                  <a:pt x="3759" y="589"/>
                </a:cubicBezTo>
                <a:cubicBezTo>
                  <a:pt x="3827" y="572"/>
                  <a:pt x="3891" y="446"/>
                  <a:pt x="3938" y="430"/>
                </a:cubicBezTo>
                <a:cubicBezTo>
                  <a:pt x="3982" y="415"/>
                  <a:pt x="4031" y="423"/>
                  <a:pt x="4077" y="420"/>
                </a:cubicBezTo>
                <a:cubicBezTo>
                  <a:pt x="4176" y="413"/>
                  <a:pt x="4275" y="406"/>
                  <a:pt x="4374" y="400"/>
                </a:cubicBezTo>
                <a:cubicBezTo>
                  <a:pt x="4414" y="392"/>
                  <a:pt x="4449" y="381"/>
                  <a:pt x="4482" y="353"/>
                </a:cubicBezTo>
                <a:cubicBezTo>
                  <a:pt x="4502" y="336"/>
                  <a:pt x="4518" y="311"/>
                  <a:pt x="4543" y="302"/>
                </a:cubicBezTo>
                <a:cubicBezTo>
                  <a:pt x="4567" y="293"/>
                  <a:pt x="4591" y="285"/>
                  <a:pt x="4615" y="276"/>
                </a:cubicBezTo>
                <a:cubicBezTo>
                  <a:pt x="4661" y="239"/>
                  <a:pt x="4637" y="260"/>
                  <a:pt x="4687" y="210"/>
                </a:cubicBezTo>
                <a:cubicBezTo>
                  <a:pt x="4701" y="196"/>
                  <a:pt x="4728" y="169"/>
                  <a:pt x="4728" y="169"/>
                </a:cubicBezTo>
                <a:cubicBezTo>
                  <a:pt x="4750" y="124"/>
                  <a:pt x="4778" y="52"/>
                  <a:pt x="4795" y="5"/>
                </a:cubicBezTo>
                <a:cubicBezTo>
                  <a:pt x="4712" y="0"/>
                  <a:pt x="4713" y="5"/>
                  <a:pt x="4584" y="5"/>
                </a:cubicBezTo>
                <a:cubicBezTo>
                  <a:pt x="4364" y="5"/>
                  <a:pt x="4261" y="5"/>
                  <a:pt x="4056" y="5"/>
                </a:cubicBezTo>
                <a:cubicBezTo>
                  <a:pt x="3482" y="5"/>
                  <a:pt x="2964" y="5"/>
                  <a:pt x="2466" y="5"/>
                </a:cubicBezTo>
                <a:cubicBezTo>
                  <a:pt x="2194" y="5"/>
                  <a:pt x="2112" y="5"/>
                  <a:pt x="1902" y="5"/>
                </a:cubicBezTo>
                <a:cubicBezTo>
                  <a:pt x="1723" y="5"/>
                  <a:pt x="1758" y="0"/>
                  <a:pt x="1594" y="5"/>
                </a:cubicBezTo>
                <a:cubicBezTo>
                  <a:pt x="1102" y="10"/>
                  <a:pt x="1533" y="5"/>
                  <a:pt x="1071" y="5"/>
                </a:cubicBezTo>
                <a:cubicBezTo>
                  <a:pt x="895" y="3"/>
                  <a:pt x="796" y="13"/>
                  <a:pt x="620" y="10"/>
                </a:cubicBezTo>
                <a:cubicBezTo>
                  <a:pt x="559" y="9"/>
                  <a:pt x="426" y="10"/>
                  <a:pt x="328" y="10"/>
                </a:cubicBezTo>
                <a:cubicBezTo>
                  <a:pt x="236" y="15"/>
                  <a:pt x="179" y="0"/>
                  <a:pt x="128" y="10"/>
                </a:cubicBezTo>
                <a:cubicBezTo>
                  <a:pt x="84" y="16"/>
                  <a:pt x="24" y="15"/>
                  <a:pt x="0" y="15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810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2096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38680" y="2514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62320" y="1828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04760" y="16765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63868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3080" y="30186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3640" y="29710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40680" y="12949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6386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55627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3560" y="486144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9200" y="60948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33840" y="60948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7200" y="61711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617112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160" y="479952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P Prior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work with IPv4 and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4 has Type of Service (TOS)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has Class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e usage of the 8 b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 congestion notification (1 or 2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ous priority encoding schemes (1 - 3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ve some bits for future us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servic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8T02:57:00Z</dcterms:created>
  <dc:creator>Gordon Chaffee</dc:creator>
  <dc:description/>
  <dc:language>en-US</dc:language>
  <cp:lastModifiedBy>Gordon Chaffee</cp:lastModifiedBy>
  <cp:lastPrinted>1997-03-11T10:59:34Z</cp:lastPrinted>
  <dcterms:modified xsi:type="dcterms:W3CDTF">1998-03-18T23:03:32Z</dcterms:modified>
  <cp:revision>75</cp:revision>
  <dc:subject/>
  <dc:title>End-to-End CM Delivery Research</dc:title>
</cp:coreProperties>
</file>