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VP: The largest part of this talk will focus on RSVP and discuss what it is and how i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 network protocols:  In addition, I will briefly discuss other new network technologies such as IPV6, IP security, and Mobile 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Extensible Gateway: I’ll also talk a bit about the open extensible gateway and the issues involved in implementing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bed Network: Last, I am going to describe the network testbed that we are creating. We will use this network to run experiments with RSVP and gate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34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320" y="380520"/>
            <a:ext cx="8991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897320" y="644832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B4B5-AD18-4A5B-88A3-633158FCE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1320" y="6448320"/>
            <a:ext cx="1580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ifferentiat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79f"/>
                </a:solidFill>
                <a:latin typeface="Times New Roman"/>
              </a:rPr>
              <a:t>Differentiated Services</a:t>
            </a:r>
            <a:endParaRPr b="1" i="1" lang="en-US" sz="3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64240" y="236232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h 19,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52760" y="3186000"/>
            <a:ext cx="58384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rdon Cha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 Multimedia Research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California, Berke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: chaffee@bmrc.berkeley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L: http://bmrc.berkeley.edu/people/cha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Configuration Discuss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ly static allocations ini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ic agreements between customers and IS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ic agreements between IS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ent based (e.g. bandwidth broker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e of preced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lobal: across all packet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cal: restricted to packets belonging to an application, host, etc. (as in old IPv6 Class semantic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Traffic Behavior Discuss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percentage of traffic should be dedicated to premium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explicit per link resource managemen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e links along popular pathways might be unable to meet their traffic guarante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congestion occurs, more people likely to ask for premium servi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Payment Discuss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pays for serv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der or receiver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endent on activity (e.g. 800 numbers for web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blem with multicas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payment schem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Scope of Service Clas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 priorities limited to an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tend with bilateral ISP agreemen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scope of priority be exten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ted services is unidirec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4876920"/>
            <a:ext cx="2057400" cy="98568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5181480"/>
            <a:ext cx="381240" cy="38124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5029200"/>
            <a:ext cx="1600200" cy="83340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5029200"/>
            <a:ext cx="1600200" cy="83340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143000" y="5638680"/>
            <a:ext cx="304920" cy="304560"/>
            <a:chOff x="1143000" y="5638680"/>
            <a:chExt cx="304920" cy="304560"/>
          </a:xfrm>
        </p:grpSpPr>
        <p:sp>
          <p:nvSpPr>
            <p:cNvPr id="200" name=""/>
            <p:cNvSpPr/>
            <p:nvPr/>
          </p:nvSpPr>
          <p:spPr>
            <a:xfrm>
              <a:off x="1219320" y="5658480"/>
              <a:ext cx="152280" cy="1778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43000" y="5872320"/>
              <a:ext cx="304920" cy="70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218960" y="5872320"/>
              <a:ext cx="3780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1257120" y="587232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181160" y="587232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55760" y="5872320"/>
              <a:ext cx="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295280" y="587232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71600" y="587232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77200" y="5896080"/>
              <a:ext cx="23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69280" y="59230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97720" y="5638680"/>
              <a:ext cx="193680" cy="212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2133720" y="5181480"/>
            <a:ext cx="380880" cy="38124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523880" y="4876920"/>
            <a:ext cx="304920" cy="304200"/>
            <a:chOff x="1523880" y="4876920"/>
            <a:chExt cx="304920" cy="304200"/>
          </a:xfrm>
        </p:grpSpPr>
        <p:sp>
          <p:nvSpPr>
            <p:cNvPr id="213" name=""/>
            <p:cNvSpPr/>
            <p:nvPr/>
          </p:nvSpPr>
          <p:spPr>
            <a:xfrm>
              <a:off x="1600200" y="4896720"/>
              <a:ext cx="152280" cy="1778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23880" y="5110200"/>
              <a:ext cx="304920" cy="70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599840" y="5110200"/>
              <a:ext cx="3780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638000" y="51102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562040" y="51102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36640" y="5110200"/>
              <a:ext cx="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676160" y="51102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52480" y="51102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58080" y="5133960"/>
              <a:ext cx="23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50160" y="5160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78600" y="4876920"/>
              <a:ext cx="193680" cy="212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09480" y="5105520"/>
            <a:ext cx="304920" cy="304200"/>
            <a:chOff x="609480" y="5105520"/>
            <a:chExt cx="304920" cy="304200"/>
          </a:xfrm>
        </p:grpSpPr>
        <p:sp>
          <p:nvSpPr>
            <p:cNvPr id="225" name=""/>
            <p:cNvSpPr/>
            <p:nvPr/>
          </p:nvSpPr>
          <p:spPr>
            <a:xfrm>
              <a:off x="685800" y="5125320"/>
              <a:ext cx="152280" cy="1778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9480" y="5338800"/>
              <a:ext cx="304920" cy="70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85440" y="5338800"/>
              <a:ext cx="3780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23600" y="53388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47640" y="53388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2240" y="5338800"/>
              <a:ext cx="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61760" y="53388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080" y="53388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3680" y="5362560"/>
              <a:ext cx="23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5760" y="53895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4200" y="5105520"/>
              <a:ext cx="193680" cy="212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2362320" y="5257800"/>
            <a:ext cx="533160" cy="0"/>
          </a:xfrm>
          <a:prstGeom prst="line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2480" y="4952880"/>
            <a:ext cx="533520" cy="22860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5257800"/>
            <a:ext cx="1447920" cy="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371600" y="5334120"/>
            <a:ext cx="914400" cy="38088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043520"/>
            <a:ext cx="1523880" cy="5202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Traffic marked for priority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4572000"/>
            <a:ext cx="228600" cy="533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4043520"/>
            <a:ext cx="1540080" cy="5202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Traffic policed for profile vio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124080" y="4572000"/>
            <a:ext cx="533520" cy="533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5257800"/>
            <a:ext cx="533160" cy="0"/>
          </a:xfrm>
          <a:prstGeom prst="line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477120" y="5105520"/>
            <a:ext cx="304560" cy="380880"/>
            <a:chOff x="6477120" y="5105520"/>
            <a:chExt cx="304560" cy="380880"/>
          </a:xfrm>
        </p:grpSpPr>
        <p:sp>
          <p:nvSpPr>
            <p:cNvPr id="246" name=""/>
            <p:cNvSpPr/>
            <p:nvPr/>
          </p:nvSpPr>
          <p:spPr>
            <a:xfrm>
              <a:off x="6477120" y="5176800"/>
              <a:ext cx="114120" cy="309600"/>
            </a:xfrm>
            <a:custGeom>
              <a:avLst/>
              <a:gdLst/>
              <a:ahLst/>
              <a:rect l="l" t="t" r="r" b="b"/>
              <a:pathLst>
                <a:path w="288" h="624">
                  <a:moveTo>
                    <a:pt x="0" y="0"/>
                  </a:moveTo>
                  <a:lnTo>
                    <a:pt x="0" y="528"/>
                  </a:lnTo>
                  <a:lnTo>
                    <a:pt x="288" y="624"/>
                  </a:lnTo>
                  <a:lnTo>
                    <a:pt x="288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77120" y="5391000"/>
              <a:ext cx="114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7120" y="5343480"/>
              <a:ext cx="114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77120" y="5295960"/>
              <a:ext cx="114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77120" y="5248080"/>
              <a:ext cx="114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91240" y="5153040"/>
              <a:ext cx="190080" cy="33336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0" y="672"/>
                  </a:moveTo>
                  <a:lnTo>
                    <a:pt x="480" y="528"/>
                  </a:lnTo>
                  <a:lnTo>
                    <a:pt x="480" y="0"/>
                  </a:lnTo>
                  <a:lnTo>
                    <a:pt x="0" y="144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77120" y="5105520"/>
              <a:ext cx="304560" cy="11916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288" y="240"/>
                  </a:moveTo>
                  <a:lnTo>
                    <a:pt x="0" y="144"/>
                  </a:lnTo>
                  <a:lnTo>
                    <a:pt x="528" y="0"/>
                  </a:lnTo>
                  <a:lnTo>
                    <a:pt x="768" y="96"/>
                  </a:lnTo>
                  <a:lnTo>
                    <a:pt x="288" y="24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858000" y="5410080"/>
            <a:ext cx="304920" cy="381240"/>
            <a:chOff x="6858000" y="5410080"/>
            <a:chExt cx="304920" cy="381240"/>
          </a:xfrm>
        </p:grpSpPr>
        <p:sp>
          <p:nvSpPr>
            <p:cNvPr id="254" name=""/>
            <p:cNvSpPr/>
            <p:nvPr/>
          </p:nvSpPr>
          <p:spPr>
            <a:xfrm>
              <a:off x="6858000" y="5481360"/>
              <a:ext cx="114480" cy="309960"/>
            </a:xfrm>
            <a:custGeom>
              <a:avLst/>
              <a:gdLst/>
              <a:ahLst/>
              <a:rect l="l" t="t" r="r" b="b"/>
              <a:pathLst>
                <a:path w="288" h="624">
                  <a:moveTo>
                    <a:pt x="0" y="0"/>
                  </a:moveTo>
                  <a:lnTo>
                    <a:pt x="0" y="528"/>
                  </a:lnTo>
                  <a:lnTo>
                    <a:pt x="288" y="624"/>
                  </a:lnTo>
                  <a:lnTo>
                    <a:pt x="288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58000" y="5695920"/>
              <a:ext cx="1144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58000" y="5648400"/>
              <a:ext cx="1144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58000" y="5600880"/>
              <a:ext cx="1144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0" y="5553000"/>
              <a:ext cx="1144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72480" y="5457600"/>
              <a:ext cx="190440" cy="33372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0" y="672"/>
                  </a:moveTo>
                  <a:lnTo>
                    <a:pt x="480" y="528"/>
                  </a:lnTo>
                  <a:lnTo>
                    <a:pt x="480" y="0"/>
                  </a:lnTo>
                  <a:lnTo>
                    <a:pt x="0" y="144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5410080"/>
              <a:ext cx="304920" cy="11916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288" y="240"/>
                  </a:moveTo>
                  <a:lnTo>
                    <a:pt x="0" y="144"/>
                  </a:lnTo>
                  <a:lnTo>
                    <a:pt x="528" y="0"/>
                  </a:lnTo>
                  <a:lnTo>
                    <a:pt x="768" y="96"/>
                  </a:lnTo>
                  <a:lnTo>
                    <a:pt x="288" y="24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 flipV="1">
            <a:off x="3809880" y="4952520"/>
            <a:ext cx="533520" cy="30492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15000" y="5257800"/>
            <a:ext cx="380880" cy="38088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019920" y="5410080"/>
            <a:ext cx="457200" cy="7632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6019920" y="5562360"/>
            <a:ext cx="838080" cy="15228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5257800"/>
            <a:ext cx="1067040" cy="763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5334120"/>
            <a:ext cx="83844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791320" y="5257800"/>
            <a:ext cx="685800" cy="7632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1320" y="5334120"/>
            <a:ext cx="1066680" cy="30456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5028840" y="5486040"/>
            <a:ext cx="971640" cy="33480"/>
          </a:xfrm>
          <a:prstGeom prst="line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809520" y="5486400"/>
            <a:ext cx="1143000" cy="0"/>
          </a:xfrm>
          <a:prstGeom prst="line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4648320"/>
            <a:ext cx="380880" cy="38088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809880" y="5029200"/>
            <a:ext cx="609840" cy="380880"/>
          </a:xfrm>
          <a:prstGeom prst="line">
            <a:avLst/>
          </a:prstGeom>
          <a:ln w="1908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200040" y="5486400"/>
            <a:ext cx="609480" cy="0"/>
          </a:xfrm>
          <a:prstGeom prst="line">
            <a:avLst/>
          </a:prstGeom>
          <a:ln w="5724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437920" y="5486400"/>
            <a:ext cx="685800" cy="0"/>
          </a:xfrm>
          <a:prstGeom prst="line">
            <a:avLst/>
          </a:prstGeom>
          <a:ln w="5724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371600" y="5486400"/>
            <a:ext cx="990720" cy="38088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914400" y="5333760"/>
            <a:ext cx="1447920" cy="15228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1782720" y="5047920"/>
            <a:ext cx="579600" cy="43812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24280" y="6177240"/>
            <a:ext cx="1371600" cy="5202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No marking of returning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24280" y="4724280"/>
            <a:ext cx="457200" cy="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724280" y="4876920"/>
            <a:ext cx="457200" cy="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4952520" y="5715000"/>
            <a:ext cx="30492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410080" y="5715000"/>
            <a:ext cx="30492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Security Discuss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S byte not covered by IPSEC authentication header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ft-of-service attack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ed strong authentication for service authorization/configuration, policing at network boundar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diffserv increase the potential for mis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Service Proposal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usage of Type of Service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d Service (1 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ium Service  (1 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bit Differentiate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Assured Service</a:t>
            </a:r>
            <a:br>
              <a:rPr sz="4400"/>
            </a:b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Dave Clark (MIT)</a:t>
            </a:r>
            <a:endParaRPr b="1" i="1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ly provisio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sioned according to expected capacity usage prof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pro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ffic is “unlikely” to be dro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ut of pro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ets get best-effort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fines a better best-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Assured Service Exampl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4419720"/>
            <a:ext cx="320040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8120" y="4165560"/>
            <a:ext cx="2222280" cy="871560"/>
          </a:xfrm>
          <a:custGeom>
            <a:avLst/>
            <a:gdLst/>
            <a:ahLst/>
            <a:rect l="l" t="t" r="r" b="b"/>
            <a:pathLst>
              <a:path w="1400" h="549">
                <a:moveTo>
                  <a:pt x="0" y="549"/>
                </a:moveTo>
                <a:cubicBezTo>
                  <a:pt x="24" y="442"/>
                  <a:pt x="2" y="167"/>
                  <a:pt x="142" y="71"/>
                </a:cubicBezTo>
                <a:cubicBezTo>
                  <a:pt x="193" y="88"/>
                  <a:pt x="166" y="69"/>
                  <a:pt x="185" y="129"/>
                </a:cubicBezTo>
                <a:cubicBezTo>
                  <a:pt x="188" y="140"/>
                  <a:pt x="195" y="161"/>
                  <a:pt x="195" y="161"/>
                </a:cubicBezTo>
                <a:cubicBezTo>
                  <a:pt x="197" y="182"/>
                  <a:pt x="191" y="206"/>
                  <a:pt x="200" y="225"/>
                </a:cubicBezTo>
                <a:cubicBezTo>
                  <a:pt x="207" y="241"/>
                  <a:pt x="229" y="215"/>
                  <a:pt x="238" y="199"/>
                </a:cubicBezTo>
                <a:cubicBezTo>
                  <a:pt x="269" y="148"/>
                  <a:pt x="290" y="33"/>
                  <a:pt x="343" y="0"/>
                </a:cubicBezTo>
                <a:cubicBezTo>
                  <a:pt x="371" y="7"/>
                  <a:pt x="370" y="56"/>
                  <a:pt x="386" y="79"/>
                </a:cubicBezTo>
                <a:cubicBezTo>
                  <a:pt x="397" y="113"/>
                  <a:pt x="396" y="149"/>
                  <a:pt x="408" y="183"/>
                </a:cubicBezTo>
                <a:cubicBezTo>
                  <a:pt x="414" y="200"/>
                  <a:pt x="434" y="230"/>
                  <a:pt x="434" y="230"/>
                </a:cubicBezTo>
                <a:cubicBezTo>
                  <a:pt x="447" y="271"/>
                  <a:pt x="483" y="235"/>
                  <a:pt x="498" y="214"/>
                </a:cubicBezTo>
                <a:cubicBezTo>
                  <a:pt x="505" y="185"/>
                  <a:pt x="518" y="154"/>
                  <a:pt x="535" y="129"/>
                </a:cubicBezTo>
                <a:cubicBezTo>
                  <a:pt x="542" y="108"/>
                  <a:pt x="549" y="99"/>
                  <a:pt x="567" y="87"/>
                </a:cubicBezTo>
                <a:cubicBezTo>
                  <a:pt x="578" y="89"/>
                  <a:pt x="590" y="86"/>
                  <a:pt x="599" y="92"/>
                </a:cubicBezTo>
                <a:cubicBezTo>
                  <a:pt x="603" y="95"/>
                  <a:pt x="613" y="145"/>
                  <a:pt x="615" y="151"/>
                </a:cubicBezTo>
                <a:cubicBezTo>
                  <a:pt x="617" y="202"/>
                  <a:pt x="618" y="254"/>
                  <a:pt x="620" y="305"/>
                </a:cubicBezTo>
                <a:cubicBezTo>
                  <a:pt x="622" y="347"/>
                  <a:pt x="621" y="493"/>
                  <a:pt x="673" y="512"/>
                </a:cubicBezTo>
                <a:cubicBezTo>
                  <a:pt x="690" y="505"/>
                  <a:pt x="705" y="501"/>
                  <a:pt x="721" y="491"/>
                </a:cubicBezTo>
                <a:cubicBezTo>
                  <a:pt x="743" y="456"/>
                  <a:pt x="746" y="409"/>
                  <a:pt x="753" y="368"/>
                </a:cubicBezTo>
                <a:cubicBezTo>
                  <a:pt x="764" y="306"/>
                  <a:pt x="784" y="245"/>
                  <a:pt x="795" y="183"/>
                </a:cubicBezTo>
                <a:cubicBezTo>
                  <a:pt x="802" y="145"/>
                  <a:pt x="815" y="110"/>
                  <a:pt x="832" y="76"/>
                </a:cubicBezTo>
                <a:cubicBezTo>
                  <a:pt x="839" y="61"/>
                  <a:pt x="848" y="29"/>
                  <a:pt x="848" y="29"/>
                </a:cubicBezTo>
                <a:cubicBezTo>
                  <a:pt x="855" y="31"/>
                  <a:pt x="863" y="30"/>
                  <a:pt x="869" y="34"/>
                </a:cubicBezTo>
                <a:cubicBezTo>
                  <a:pt x="876" y="40"/>
                  <a:pt x="885" y="82"/>
                  <a:pt x="896" y="98"/>
                </a:cubicBezTo>
                <a:cubicBezTo>
                  <a:pt x="912" y="149"/>
                  <a:pt x="925" y="200"/>
                  <a:pt x="939" y="252"/>
                </a:cubicBezTo>
                <a:cubicBezTo>
                  <a:pt x="940" y="273"/>
                  <a:pt x="931" y="395"/>
                  <a:pt x="965" y="421"/>
                </a:cubicBezTo>
                <a:cubicBezTo>
                  <a:pt x="968" y="423"/>
                  <a:pt x="994" y="431"/>
                  <a:pt x="997" y="432"/>
                </a:cubicBezTo>
                <a:cubicBezTo>
                  <a:pt x="1034" y="422"/>
                  <a:pt x="1050" y="421"/>
                  <a:pt x="1071" y="390"/>
                </a:cubicBezTo>
                <a:cubicBezTo>
                  <a:pt x="1080" y="377"/>
                  <a:pt x="1098" y="352"/>
                  <a:pt x="1098" y="352"/>
                </a:cubicBezTo>
                <a:cubicBezTo>
                  <a:pt x="1115" y="301"/>
                  <a:pt x="1140" y="280"/>
                  <a:pt x="1188" y="262"/>
                </a:cubicBezTo>
                <a:cubicBezTo>
                  <a:pt x="1235" y="248"/>
                  <a:pt x="1312" y="219"/>
                  <a:pt x="1347" y="265"/>
                </a:cubicBezTo>
                <a:cubicBezTo>
                  <a:pt x="1382" y="311"/>
                  <a:pt x="1389" y="484"/>
                  <a:pt x="1400" y="541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8120" y="4394160"/>
            <a:ext cx="2222280" cy="631800"/>
          </a:xfrm>
          <a:custGeom>
            <a:avLst/>
            <a:gdLst/>
            <a:ahLst/>
            <a:rect l="l" t="t" r="r" b="b"/>
            <a:pathLst>
              <a:path w="1400" h="398">
                <a:moveTo>
                  <a:pt x="0" y="398"/>
                </a:moveTo>
                <a:cubicBezTo>
                  <a:pt x="24" y="295"/>
                  <a:pt x="7" y="133"/>
                  <a:pt x="81" y="11"/>
                </a:cubicBezTo>
                <a:cubicBezTo>
                  <a:pt x="132" y="28"/>
                  <a:pt x="113" y="5"/>
                  <a:pt x="198" y="11"/>
                </a:cubicBezTo>
                <a:cubicBezTo>
                  <a:pt x="218" y="24"/>
                  <a:pt x="193" y="77"/>
                  <a:pt x="200" y="86"/>
                </a:cubicBezTo>
                <a:cubicBezTo>
                  <a:pt x="207" y="102"/>
                  <a:pt x="229" y="77"/>
                  <a:pt x="238" y="61"/>
                </a:cubicBezTo>
                <a:cubicBezTo>
                  <a:pt x="269" y="12"/>
                  <a:pt x="219" y="37"/>
                  <a:pt x="272" y="5"/>
                </a:cubicBezTo>
                <a:cubicBezTo>
                  <a:pt x="300" y="12"/>
                  <a:pt x="405" y="0"/>
                  <a:pt x="410" y="16"/>
                </a:cubicBezTo>
                <a:cubicBezTo>
                  <a:pt x="421" y="49"/>
                  <a:pt x="396" y="13"/>
                  <a:pt x="408" y="46"/>
                </a:cubicBezTo>
                <a:cubicBezTo>
                  <a:pt x="414" y="62"/>
                  <a:pt x="434" y="91"/>
                  <a:pt x="434" y="91"/>
                </a:cubicBezTo>
                <a:cubicBezTo>
                  <a:pt x="447" y="131"/>
                  <a:pt x="483" y="96"/>
                  <a:pt x="498" y="76"/>
                </a:cubicBezTo>
                <a:cubicBezTo>
                  <a:pt x="505" y="48"/>
                  <a:pt x="494" y="40"/>
                  <a:pt x="511" y="16"/>
                </a:cubicBezTo>
                <a:cubicBezTo>
                  <a:pt x="528" y="5"/>
                  <a:pt x="580" y="11"/>
                  <a:pt x="607" y="11"/>
                </a:cubicBezTo>
                <a:cubicBezTo>
                  <a:pt x="625" y="36"/>
                  <a:pt x="608" y="105"/>
                  <a:pt x="620" y="163"/>
                </a:cubicBezTo>
                <a:cubicBezTo>
                  <a:pt x="622" y="204"/>
                  <a:pt x="621" y="344"/>
                  <a:pt x="673" y="362"/>
                </a:cubicBezTo>
                <a:cubicBezTo>
                  <a:pt x="690" y="356"/>
                  <a:pt x="705" y="352"/>
                  <a:pt x="721" y="342"/>
                </a:cubicBezTo>
                <a:cubicBezTo>
                  <a:pt x="743" y="309"/>
                  <a:pt x="746" y="263"/>
                  <a:pt x="753" y="224"/>
                </a:cubicBezTo>
                <a:cubicBezTo>
                  <a:pt x="764" y="164"/>
                  <a:pt x="784" y="106"/>
                  <a:pt x="795" y="46"/>
                </a:cubicBezTo>
                <a:cubicBezTo>
                  <a:pt x="802" y="9"/>
                  <a:pt x="791" y="54"/>
                  <a:pt x="808" y="21"/>
                </a:cubicBezTo>
                <a:cubicBezTo>
                  <a:pt x="825" y="7"/>
                  <a:pt x="885" y="12"/>
                  <a:pt x="911" y="18"/>
                </a:cubicBezTo>
                <a:cubicBezTo>
                  <a:pt x="927" y="67"/>
                  <a:pt x="925" y="62"/>
                  <a:pt x="939" y="112"/>
                </a:cubicBezTo>
                <a:cubicBezTo>
                  <a:pt x="940" y="133"/>
                  <a:pt x="931" y="250"/>
                  <a:pt x="965" y="275"/>
                </a:cubicBezTo>
                <a:cubicBezTo>
                  <a:pt x="968" y="277"/>
                  <a:pt x="994" y="285"/>
                  <a:pt x="997" y="285"/>
                </a:cubicBezTo>
                <a:cubicBezTo>
                  <a:pt x="1034" y="276"/>
                  <a:pt x="1050" y="275"/>
                  <a:pt x="1071" y="245"/>
                </a:cubicBezTo>
                <a:cubicBezTo>
                  <a:pt x="1080" y="233"/>
                  <a:pt x="1098" y="209"/>
                  <a:pt x="1098" y="209"/>
                </a:cubicBezTo>
                <a:cubicBezTo>
                  <a:pt x="1115" y="159"/>
                  <a:pt x="1140" y="139"/>
                  <a:pt x="1188" y="122"/>
                </a:cubicBezTo>
                <a:cubicBezTo>
                  <a:pt x="1235" y="109"/>
                  <a:pt x="1312" y="81"/>
                  <a:pt x="1347" y="125"/>
                </a:cubicBezTo>
                <a:cubicBezTo>
                  <a:pt x="1382" y="169"/>
                  <a:pt x="1389" y="335"/>
                  <a:pt x="1400" y="390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50292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99280" y="509076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ured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4600" y="472428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4724280"/>
            <a:ext cx="457200" cy="609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52880" y="4240080"/>
            <a:ext cx="218880" cy="168480"/>
          </a:xfrm>
          <a:custGeom>
            <a:avLst/>
            <a:gdLst/>
            <a:ahLst/>
            <a:rect l="l" t="t" r="r" b="b"/>
            <a:pathLst>
              <a:path w="138" h="106">
                <a:moveTo>
                  <a:pt x="0" y="106"/>
                </a:moveTo>
                <a:cubicBezTo>
                  <a:pt x="3" y="95"/>
                  <a:pt x="23" y="59"/>
                  <a:pt x="31" y="42"/>
                </a:cubicBezTo>
                <a:cubicBezTo>
                  <a:pt x="39" y="24"/>
                  <a:pt x="63" y="1"/>
                  <a:pt x="63" y="1"/>
                </a:cubicBezTo>
                <a:cubicBezTo>
                  <a:pt x="73" y="0"/>
                  <a:pt x="104" y="15"/>
                  <a:pt x="116" y="32"/>
                </a:cubicBezTo>
                <a:cubicBezTo>
                  <a:pt x="128" y="49"/>
                  <a:pt x="133" y="91"/>
                  <a:pt x="138" y="106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54560" y="4149720"/>
            <a:ext cx="228600" cy="252360"/>
          </a:xfrm>
          <a:custGeom>
            <a:avLst/>
            <a:gdLst/>
            <a:ahLst/>
            <a:rect l="l" t="t" r="r" b="b"/>
            <a:pathLst>
              <a:path w="144" h="159">
                <a:moveTo>
                  <a:pt x="0" y="159"/>
                </a:moveTo>
                <a:cubicBezTo>
                  <a:pt x="3" y="144"/>
                  <a:pt x="23" y="93"/>
                  <a:pt x="31" y="69"/>
                </a:cubicBezTo>
                <a:cubicBezTo>
                  <a:pt x="39" y="44"/>
                  <a:pt x="63" y="11"/>
                  <a:pt x="63" y="11"/>
                </a:cubicBezTo>
                <a:cubicBezTo>
                  <a:pt x="73" y="10"/>
                  <a:pt x="111" y="0"/>
                  <a:pt x="123" y="25"/>
                </a:cubicBezTo>
                <a:cubicBezTo>
                  <a:pt x="136" y="49"/>
                  <a:pt x="140" y="126"/>
                  <a:pt x="144" y="153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19640" y="4227480"/>
            <a:ext cx="176040" cy="192240"/>
          </a:xfrm>
          <a:custGeom>
            <a:avLst/>
            <a:gdLst/>
            <a:ahLst/>
            <a:rect l="l" t="t" r="r" b="b"/>
            <a:pathLst>
              <a:path w="103" h="109">
                <a:moveTo>
                  <a:pt x="0" y="109"/>
                </a:moveTo>
                <a:cubicBezTo>
                  <a:pt x="2" y="98"/>
                  <a:pt x="19" y="61"/>
                  <a:pt x="25" y="43"/>
                </a:cubicBezTo>
                <a:cubicBezTo>
                  <a:pt x="32" y="25"/>
                  <a:pt x="51" y="1"/>
                  <a:pt x="51" y="1"/>
                </a:cubicBezTo>
                <a:cubicBezTo>
                  <a:pt x="59" y="0"/>
                  <a:pt x="77" y="7"/>
                  <a:pt x="88" y="24"/>
                </a:cubicBezTo>
                <a:cubicBezTo>
                  <a:pt x="97" y="42"/>
                  <a:pt x="100" y="91"/>
                  <a:pt x="103" y="109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4165560"/>
            <a:ext cx="2222640" cy="871560"/>
          </a:xfrm>
          <a:custGeom>
            <a:avLst/>
            <a:gdLst/>
            <a:ahLst/>
            <a:rect l="l" t="t" r="r" b="b"/>
            <a:pathLst>
              <a:path w="1400" h="549">
                <a:moveTo>
                  <a:pt x="0" y="549"/>
                </a:moveTo>
                <a:cubicBezTo>
                  <a:pt x="24" y="442"/>
                  <a:pt x="2" y="167"/>
                  <a:pt x="142" y="71"/>
                </a:cubicBezTo>
                <a:cubicBezTo>
                  <a:pt x="193" y="88"/>
                  <a:pt x="166" y="69"/>
                  <a:pt x="185" y="129"/>
                </a:cubicBezTo>
                <a:cubicBezTo>
                  <a:pt x="188" y="140"/>
                  <a:pt x="195" y="161"/>
                  <a:pt x="195" y="161"/>
                </a:cubicBezTo>
                <a:cubicBezTo>
                  <a:pt x="197" y="182"/>
                  <a:pt x="191" y="206"/>
                  <a:pt x="200" y="225"/>
                </a:cubicBezTo>
                <a:cubicBezTo>
                  <a:pt x="207" y="241"/>
                  <a:pt x="229" y="215"/>
                  <a:pt x="238" y="199"/>
                </a:cubicBezTo>
                <a:cubicBezTo>
                  <a:pt x="269" y="148"/>
                  <a:pt x="290" y="33"/>
                  <a:pt x="343" y="0"/>
                </a:cubicBezTo>
                <a:cubicBezTo>
                  <a:pt x="371" y="7"/>
                  <a:pt x="370" y="56"/>
                  <a:pt x="386" y="79"/>
                </a:cubicBezTo>
                <a:cubicBezTo>
                  <a:pt x="397" y="113"/>
                  <a:pt x="396" y="149"/>
                  <a:pt x="408" y="183"/>
                </a:cubicBezTo>
                <a:cubicBezTo>
                  <a:pt x="414" y="200"/>
                  <a:pt x="434" y="230"/>
                  <a:pt x="434" y="230"/>
                </a:cubicBezTo>
                <a:cubicBezTo>
                  <a:pt x="447" y="271"/>
                  <a:pt x="483" y="235"/>
                  <a:pt x="498" y="214"/>
                </a:cubicBezTo>
                <a:cubicBezTo>
                  <a:pt x="505" y="185"/>
                  <a:pt x="518" y="154"/>
                  <a:pt x="535" y="129"/>
                </a:cubicBezTo>
                <a:cubicBezTo>
                  <a:pt x="542" y="108"/>
                  <a:pt x="549" y="99"/>
                  <a:pt x="567" y="87"/>
                </a:cubicBezTo>
                <a:cubicBezTo>
                  <a:pt x="578" y="89"/>
                  <a:pt x="590" y="86"/>
                  <a:pt x="599" y="92"/>
                </a:cubicBezTo>
                <a:cubicBezTo>
                  <a:pt x="603" y="95"/>
                  <a:pt x="613" y="145"/>
                  <a:pt x="615" y="151"/>
                </a:cubicBezTo>
                <a:cubicBezTo>
                  <a:pt x="617" y="202"/>
                  <a:pt x="618" y="254"/>
                  <a:pt x="620" y="305"/>
                </a:cubicBezTo>
                <a:cubicBezTo>
                  <a:pt x="622" y="347"/>
                  <a:pt x="621" y="493"/>
                  <a:pt x="673" y="512"/>
                </a:cubicBezTo>
                <a:cubicBezTo>
                  <a:pt x="690" y="505"/>
                  <a:pt x="705" y="501"/>
                  <a:pt x="721" y="491"/>
                </a:cubicBezTo>
                <a:cubicBezTo>
                  <a:pt x="743" y="456"/>
                  <a:pt x="746" y="409"/>
                  <a:pt x="753" y="368"/>
                </a:cubicBezTo>
                <a:cubicBezTo>
                  <a:pt x="764" y="306"/>
                  <a:pt x="784" y="245"/>
                  <a:pt x="795" y="183"/>
                </a:cubicBezTo>
                <a:cubicBezTo>
                  <a:pt x="802" y="145"/>
                  <a:pt x="815" y="110"/>
                  <a:pt x="832" y="76"/>
                </a:cubicBezTo>
                <a:cubicBezTo>
                  <a:pt x="839" y="61"/>
                  <a:pt x="848" y="29"/>
                  <a:pt x="848" y="29"/>
                </a:cubicBezTo>
                <a:cubicBezTo>
                  <a:pt x="855" y="31"/>
                  <a:pt x="863" y="30"/>
                  <a:pt x="869" y="34"/>
                </a:cubicBezTo>
                <a:cubicBezTo>
                  <a:pt x="876" y="40"/>
                  <a:pt x="885" y="82"/>
                  <a:pt x="896" y="98"/>
                </a:cubicBezTo>
                <a:cubicBezTo>
                  <a:pt x="912" y="149"/>
                  <a:pt x="925" y="200"/>
                  <a:pt x="939" y="252"/>
                </a:cubicBezTo>
                <a:cubicBezTo>
                  <a:pt x="940" y="273"/>
                  <a:pt x="931" y="395"/>
                  <a:pt x="965" y="421"/>
                </a:cubicBezTo>
                <a:cubicBezTo>
                  <a:pt x="968" y="423"/>
                  <a:pt x="994" y="431"/>
                  <a:pt x="997" y="432"/>
                </a:cubicBezTo>
                <a:cubicBezTo>
                  <a:pt x="1034" y="422"/>
                  <a:pt x="1050" y="421"/>
                  <a:pt x="1071" y="390"/>
                </a:cubicBezTo>
                <a:cubicBezTo>
                  <a:pt x="1080" y="377"/>
                  <a:pt x="1098" y="352"/>
                  <a:pt x="1098" y="352"/>
                </a:cubicBezTo>
                <a:cubicBezTo>
                  <a:pt x="1115" y="301"/>
                  <a:pt x="1140" y="280"/>
                  <a:pt x="1188" y="262"/>
                </a:cubicBezTo>
                <a:cubicBezTo>
                  <a:pt x="1235" y="248"/>
                  <a:pt x="1312" y="219"/>
                  <a:pt x="1347" y="265"/>
                </a:cubicBezTo>
                <a:cubicBezTo>
                  <a:pt x="1382" y="311"/>
                  <a:pt x="1389" y="484"/>
                  <a:pt x="1400" y="541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3505320"/>
            <a:ext cx="2222280" cy="871560"/>
          </a:xfrm>
          <a:custGeom>
            <a:avLst/>
            <a:gdLst/>
            <a:ahLst/>
            <a:rect l="l" t="t" r="r" b="b"/>
            <a:pathLst>
              <a:path w="1400" h="549">
                <a:moveTo>
                  <a:pt x="0" y="549"/>
                </a:moveTo>
                <a:cubicBezTo>
                  <a:pt x="24" y="442"/>
                  <a:pt x="2" y="167"/>
                  <a:pt x="142" y="71"/>
                </a:cubicBezTo>
                <a:cubicBezTo>
                  <a:pt x="193" y="88"/>
                  <a:pt x="166" y="69"/>
                  <a:pt x="185" y="129"/>
                </a:cubicBezTo>
                <a:cubicBezTo>
                  <a:pt x="188" y="140"/>
                  <a:pt x="195" y="161"/>
                  <a:pt x="195" y="161"/>
                </a:cubicBezTo>
                <a:cubicBezTo>
                  <a:pt x="197" y="182"/>
                  <a:pt x="191" y="206"/>
                  <a:pt x="200" y="225"/>
                </a:cubicBezTo>
                <a:cubicBezTo>
                  <a:pt x="207" y="241"/>
                  <a:pt x="229" y="215"/>
                  <a:pt x="238" y="199"/>
                </a:cubicBezTo>
                <a:cubicBezTo>
                  <a:pt x="269" y="148"/>
                  <a:pt x="290" y="33"/>
                  <a:pt x="343" y="0"/>
                </a:cubicBezTo>
                <a:cubicBezTo>
                  <a:pt x="371" y="7"/>
                  <a:pt x="370" y="56"/>
                  <a:pt x="386" y="79"/>
                </a:cubicBezTo>
                <a:cubicBezTo>
                  <a:pt x="397" y="113"/>
                  <a:pt x="396" y="149"/>
                  <a:pt x="408" y="183"/>
                </a:cubicBezTo>
                <a:cubicBezTo>
                  <a:pt x="414" y="200"/>
                  <a:pt x="434" y="230"/>
                  <a:pt x="434" y="230"/>
                </a:cubicBezTo>
                <a:cubicBezTo>
                  <a:pt x="447" y="271"/>
                  <a:pt x="483" y="235"/>
                  <a:pt x="498" y="214"/>
                </a:cubicBezTo>
                <a:cubicBezTo>
                  <a:pt x="505" y="185"/>
                  <a:pt x="518" y="154"/>
                  <a:pt x="535" y="129"/>
                </a:cubicBezTo>
                <a:cubicBezTo>
                  <a:pt x="542" y="108"/>
                  <a:pt x="549" y="99"/>
                  <a:pt x="567" y="87"/>
                </a:cubicBezTo>
                <a:cubicBezTo>
                  <a:pt x="578" y="89"/>
                  <a:pt x="590" y="86"/>
                  <a:pt x="599" y="92"/>
                </a:cubicBezTo>
                <a:cubicBezTo>
                  <a:pt x="603" y="95"/>
                  <a:pt x="613" y="145"/>
                  <a:pt x="615" y="151"/>
                </a:cubicBezTo>
                <a:cubicBezTo>
                  <a:pt x="617" y="202"/>
                  <a:pt x="618" y="254"/>
                  <a:pt x="620" y="305"/>
                </a:cubicBezTo>
                <a:cubicBezTo>
                  <a:pt x="622" y="347"/>
                  <a:pt x="621" y="493"/>
                  <a:pt x="673" y="512"/>
                </a:cubicBezTo>
                <a:cubicBezTo>
                  <a:pt x="690" y="505"/>
                  <a:pt x="705" y="501"/>
                  <a:pt x="721" y="491"/>
                </a:cubicBezTo>
                <a:cubicBezTo>
                  <a:pt x="743" y="456"/>
                  <a:pt x="746" y="409"/>
                  <a:pt x="753" y="368"/>
                </a:cubicBezTo>
                <a:cubicBezTo>
                  <a:pt x="764" y="306"/>
                  <a:pt x="784" y="245"/>
                  <a:pt x="795" y="183"/>
                </a:cubicBezTo>
                <a:cubicBezTo>
                  <a:pt x="802" y="145"/>
                  <a:pt x="815" y="110"/>
                  <a:pt x="832" y="76"/>
                </a:cubicBezTo>
                <a:cubicBezTo>
                  <a:pt x="839" y="61"/>
                  <a:pt x="848" y="29"/>
                  <a:pt x="848" y="29"/>
                </a:cubicBezTo>
                <a:cubicBezTo>
                  <a:pt x="855" y="31"/>
                  <a:pt x="863" y="30"/>
                  <a:pt x="869" y="34"/>
                </a:cubicBezTo>
                <a:cubicBezTo>
                  <a:pt x="876" y="40"/>
                  <a:pt x="885" y="82"/>
                  <a:pt x="896" y="98"/>
                </a:cubicBezTo>
                <a:cubicBezTo>
                  <a:pt x="912" y="149"/>
                  <a:pt x="925" y="200"/>
                  <a:pt x="939" y="252"/>
                </a:cubicBezTo>
                <a:cubicBezTo>
                  <a:pt x="940" y="273"/>
                  <a:pt x="931" y="395"/>
                  <a:pt x="965" y="421"/>
                </a:cubicBezTo>
                <a:cubicBezTo>
                  <a:pt x="968" y="423"/>
                  <a:pt x="994" y="431"/>
                  <a:pt x="997" y="432"/>
                </a:cubicBezTo>
                <a:cubicBezTo>
                  <a:pt x="1034" y="422"/>
                  <a:pt x="1050" y="421"/>
                  <a:pt x="1071" y="390"/>
                </a:cubicBezTo>
                <a:cubicBezTo>
                  <a:pt x="1080" y="377"/>
                  <a:pt x="1098" y="352"/>
                  <a:pt x="1098" y="352"/>
                </a:cubicBezTo>
                <a:cubicBezTo>
                  <a:pt x="1115" y="301"/>
                  <a:pt x="1140" y="280"/>
                  <a:pt x="1188" y="262"/>
                </a:cubicBezTo>
                <a:cubicBezTo>
                  <a:pt x="1235" y="248"/>
                  <a:pt x="1312" y="219"/>
                  <a:pt x="1347" y="265"/>
                </a:cubicBezTo>
                <a:cubicBezTo>
                  <a:pt x="1382" y="311"/>
                  <a:pt x="1389" y="484"/>
                  <a:pt x="1400" y="541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67120" y="4295880"/>
            <a:ext cx="150840" cy="112680"/>
          </a:xfrm>
          <a:custGeom>
            <a:avLst/>
            <a:gdLst/>
            <a:ahLst/>
            <a:rect l="l" t="t" r="r" b="b"/>
            <a:pathLst>
              <a:path w="138" h="106">
                <a:moveTo>
                  <a:pt x="0" y="106"/>
                </a:moveTo>
                <a:cubicBezTo>
                  <a:pt x="3" y="95"/>
                  <a:pt x="23" y="59"/>
                  <a:pt x="31" y="42"/>
                </a:cubicBezTo>
                <a:cubicBezTo>
                  <a:pt x="39" y="24"/>
                  <a:pt x="63" y="1"/>
                  <a:pt x="63" y="1"/>
                </a:cubicBezTo>
                <a:cubicBezTo>
                  <a:pt x="73" y="0"/>
                  <a:pt x="104" y="15"/>
                  <a:pt x="116" y="32"/>
                </a:cubicBezTo>
                <a:cubicBezTo>
                  <a:pt x="128" y="49"/>
                  <a:pt x="133" y="91"/>
                  <a:pt x="138" y="106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86360" y="3511080"/>
            <a:ext cx="163620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Drop if cong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352320" y="3886200"/>
            <a:ext cx="228600" cy="3049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615840" y="3886200"/>
            <a:ext cx="117720" cy="2286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3886200"/>
            <a:ext cx="0" cy="3808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1120" y="3886200"/>
            <a:ext cx="152280" cy="3049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05720" y="5029200"/>
            <a:ext cx="2222280" cy="631800"/>
          </a:xfrm>
          <a:custGeom>
            <a:avLst/>
            <a:gdLst/>
            <a:ahLst/>
            <a:rect l="l" t="t" r="r" b="b"/>
            <a:pathLst>
              <a:path w="1400" h="398">
                <a:moveTo>
                  <a:pt x="0" y="398"/>
                </a:moveTo>
                <a:cubicBezTo>
                  <a:pt x="24" y="295"/>
                  <a:pt x="7" y="133"/>
                  <a:pt x="81" y="11"/>
                </a:cubicBezTo>
                <a:cubicBezTo>
                  <a:pt x="132" y="28"/>
                  <a:pt x="113" y="5"/>
                  <a:pt x="198" y="11"/>
                </a:cubicBezTo>
                <a:cubicBezTo>
                  <a:pt x="218" y="24"/>
                  <a:pt x="193" y="77"/>
                  <a:pt x="200" y="86"/>
                </a:cubicBezTo>
                <a:cubicBezTo>
                  <a:pt x="207" y="102"/>
                  <a:pt x="229" y="77"/>
                  <a:pt x="238" y="61"/>
                </a:cubicBezTo>
                <a:cubicBezTo>
                  <a:pt x="269" y="12"/>
                  <a:pt x="219" y="37"/>
                  <a:pt x="272" y="5"/>
                </a:cubicBezTo>
                <a:cubicBezTo>
                  <a:pt x="300" y="12"/>
                  <a:pt x="405" y="0"/>
                  <a:pt x="410" y="16"/>
                </a:cubicBezTo>
                <a:cubicBezTo>
                  <a:pt x="421" y="49"/>
                  <a:pt x="396" y="13"/>
                  <a:pt x="408" y="46"/>
                </a:cubicBezTo>
                <a:cubicBezTo>
                  <a:pt x="414" y="62"/>
                  <a:pt x="434" y="91"/>
                  <a:pt x="434" y="91"/>
                </a:cubicBezTo>
                <a:cubicBezTo>
                  <a:pt x="447" y="131"/>
                  <a:pt x="483" y="96"/>
                  <a:pt x="498" y="76"/>
                </a:cubicBezTo>
                <a:cubicBezTo>
                  <a:pt x="505" y="48"/>
                  <a:pt x="494" y="40"/>
                  <a:pt x="511" y="16"/>
                </a:cubicBezTo>
                <a:cubicBezTo>
                  <a:pt x="528" y="5"/>
                  <a:pt x="580" y="11"/>
                  <a:pt x="607" y="11"/>
                </a:cubicBezTo>
                <a:cubicBezTo>
                  <a:pt x="625" y="36"/>
                  <a:pt x="608" y="105"/>
                  <a:pt x="620" y="163"/>
                </a:cubicBezTo>
                <a:cubicBezTo>
                  <a:pt x="622" y="204"/>
                  <a:pt x="621" y="344"/>
                  <a:pt x="673" y="362"/>
                </a:cubicBezTo>
                <a:cubicBezTo>
                  <a:pt x="690" y="356"/>
                  <a:pt x="705" y="352"/>
                  <a:pt x="721" y="342"/>
                </a:cubicBezTo>
                <a:cubicBezTo>
                  <a:pt x="743" y="309"/>
                  <a:pt x="746" y="263"/>
                  <a:pt x="753" y="224"/>
                </a:cubicBezTo>
                <a:cubicBezTo>
                  <a:pt x="764" y="164"/>
                  <a:pt x="784" y="106"/>
                  <a:pt x="795" y="46"/>
                </a:cubicBezTo>
                <a:cubicBezTo>
                  <a:pt x="802" y="9"/>
                  <a:pt x="791" y="54"/>
                  <a:pt x="808" y="21"/>
                </a:cubicBezTo>
                <a:cubicBezTo>
                  <a:pt x="825" y="7"/>
                  <a:pt x="885" y="12"/>
                  <a:pt x="911" y="18"/>
                </a:cubicBezTo>
                <a:cubicBezTo>
                  <a:pt x="927" y="67"/>
                  <a:pt x="925" y="62"/>
                  <a:pt x="939" y="112"/>
                </a:cubicBezTo>
                <a:cubicBezTo>
                  <a:pt x="940" y="133"/>
                  <a:pt x="931" y="250"/>
                  <a:pt x="965" y="275"/>
                </a:cubicBezTo>
                <a:cubicBezTo>
                  <a:pt x="968" y="277"/>
                  <a:pt x="994" y="285"/>
                  <a:pt x="997" y="285"/>
                </a:cubicBezTo>
                <a:cubicBezTo>
                  <a:pt x="1034" y="276"/>
                  <a:pt x="1050" y="275"/>
                  <a:pt x="1071" y="245"/>
                </a:cubicBezTo>
                <a:cubicBezTo>
                  <a:pt x="1080" y="233"/>
                  <a:pt x="1098" y="209"/>
                  <a:pt x="1098" y="209"/>
                </a:cubicBezTo>
                <a:cubicBezTo>
                  <a:pt x="1115" y="159"/>
                  <a:pt x="1140" y="139"/>
                  <a:pt x="1188" y="122"/>
                </a:cubicBezTo>
                <a:cubicBezTo>
                  <a:pt x="1235" y="109"/>
                  <a:pt x="1312" y="81"/>
                  <a:pt x="1347" y="125"/>
                </a:cubicBezTo>
                <a:cubicBezTo>
                  <a:pt x="1382" y="169"/>
                  <a:pt x="1389" y="335"/>
                  <a:pt x="1400" y="390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248520" y="4038480"/>
            <a:ext cx="457200" cy="609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01880" y="47700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g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02240" y="434304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cong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1447920"/>
            <a:ext cx="3353040" cy="175248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19520" y="2133720"/>
            <a:ext cx="30456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2133720"/>
            <a:ext cx="304920" cy="3045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752480"/>
            <a:ext cx="1600200" cy="129060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1676520"/>
            <a:ext cx="1600200" cy="113796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2286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29200" y="2133720"/>
            <a:ext cx="304920" cy="3045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5880" y="2133720"/>
            <a:ext cx="30492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91120" y="22860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4120" y="2286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28800" y="2133720"/>
            <a:ext cx="30492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34320" y="2133720"/>
            <a:ext cx="30456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3720" y="2286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00800" y="2286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71800" y="4419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Premium Service</a:t>
            </a:r>
            <a:br>
              <a:rPr sz="4400"/>
            </a:b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Van Jacobson (LBL)</a:t>
            </a:r>
            <a:endParaRPr b="1" i="1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ve allocation of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sioned according to peak capacity prof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d at boundaries to remove bur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 of profile packets dro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fines a virtual leased line: fixed maximum bandwidth, but available when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252960" y="4545000"/>
            <a:ext cx="218880" cy="168120"/>
          </a:xfrm>
          <a:custGeom>
            <a:avLst/>
            <a:gdLst/>
            <a:ahLst/>
            <a:rect l="l" t="t" r="r" b="b"/>
            <a:pathLst>
              <a:path w="138" h="106">
                <a:moveTo>
                  <a:pt x="0" y="106"/>
                </a:moveTo>
                <a:cubicBezTo>
                  <a:pt x="3" y="95"/>
                  <a:pt x="23" y="59"/>
                  <a:pt x="31" y="42"/>
                </a:cubicBezTo>
                <a:cubicBezTo>
                  <a:pt x="39" y="24"/>
                  <a:pt x="63" y="1"/>
                  <a:pt x="63" y="1"/>
                </a:cubicBezTo>
                <a:cubicBezTo>
                  <a:pt x="73" y="0"/>
                  <a:pt x="104" y="15"/>
                  <a:pt x="116" y="32"/>
                </a:cubicBezTo>
                <a:cubicBezTo>
                  <a:pt x="128" y="49"/>
                  <a:pt x="133" y="91"/>
                  <a:pt x="138" y="106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37000" y="4464000"/>
            <a:ext cx="228600" cy="252360"/>
          </a:xfrm>
          <a:custGeom>
            <a:avLst/>
            <a:gdLst/>
            <a:ahLst/>
            <a:rect l="l" t="t" r="r" b="b"/>
            <a:pathLst>
              <a:path w="144" h="159">
                <a:moveTo>
                  <a:pt x="0" y="159"/>
                </a:moveTo>
                <a:cubicBezTo>
                  <a:pt x="3" y="144"/>
                  <a:pt x="23" y="93"/>
                  <a:pt x="31" y="69"/>
                </a:cubicBezTo>
                <a:cubicBezTo>
                  <a:pt x="39" y="44"/>
                  <a:pt x="63" y="11"/>
                  <a:pt x="63" y="11"/>
                </a:cubicBezTo>
                <a:cubicBezTo>
                  <a:pt x="73" y="10"/>
                  <a:pt x="111" y="0"/>
                  <a:pt x="123" y="25"/>
                </a:cubicBezTo>
                <a:cubicBezTo>
                  <a:pt x="136" y="49"/>
                  <a:pt x="140" y="126"/>
                  <a:pt x="144" y="153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02080" y="4548240"/>
            <a:ext cx="163440" cy="173160"/>
          </a:xfrm>
          <a:custGeom>
            <a:avLst/>
            <a:gdLst/>
            <a:ahLst/>
            <a:rect l="l" t="t" r="r" b="b"/>
            <a:pathLst>
              <a:path w="103" h="109">
                <a:moveTo>
                  <a:pt x="0" y="109"/>
                </a:moveTo>
                <a:cubicBezTo>
                  <a:pt x="2" y="98"/>
                  <a:pt x="19" y="61"/>
                  <a:pt x="25" y="43"/>
                </a:cubicBezTo>
                <a:cubicBezTo>
                  <a:pt x="32" y="25"/>
                  <a:pt x="51" y="1"/>
                  <a:pt x="51" y="1"/>
                </a:cubicBezTo>
                <a:cubicBezTo>
                  <a:pt x="59" y="0"/>
                  <a:pt x="77" y="7"/>
                  <a:pt x="88" y="24"/>
                </a:cubicBezTo>
                <a:cubicBezTo>
                  <a:pt x="97" y="42"/>
                  <a:pt x="100" y="91"/>
                  <a:pt x="103" y="109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33720" y="4600440"/>
            <a:ext cx="150840" cy="112680"/>
          </a:xfrm>
          <a:custGeom>
            <a:avLst/>
            <a:gdLst/>
            <a:ahLst/>
            <a:rect l="l" t="t" r="r" b="b"/>
            <a:pathLst>
              <a:path w="138" h="106">
                <a:moveTo>
                  <a:pt x="0" y="106"/>
                </a:moveTo>
                <a:cubicBezTo>
                  <a:pt x="3" y="95"/>
                  <a:pt x="23" y="59"/>
                  <a:pt x="31" y="42"/>
                </a:cubicBezTo>
                <a:cubicBezTo>
                  <a:pt x="39" y="24"/>
                  <a:pt x="63" y="1"/>
                  <a:pt x="63" y="1"/>
                </a:cubicBezTo>
                <a:cubicBezTo>
                  <a:pt x="73" y="0"/>
                  <a:pt x="104" y="15"/>
                  <a:pt x="116" y="32"/>
                </a:cubicBezTo>
                <a:cubicBezTo>
                  <a:pt x="128" y="49"/>
                  <a:pt x="133" y="91"/>
                  <a:pt x="138" y="106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48120" y="4724280"/>
            <a:ext cx="3200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Premium Service Exampl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1371600"/>
            <a:ext cx="3353040" cy="175248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8120" y="2057400"/>
            <a:ext cx="30456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2057400"/>
            <a:ext cx="304920" cy="3049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1676520"/>
            <a:ext cx="1600200" cy="129060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238880" y="1600200"/>
            <a:ext cx="1600200" cy="113832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4495680"/>
            <a:ext cx="2222640" cy="871560"/>
          </a:xfrm>
          <a:custGeom>
            <a:avLst/>
            <a:gdLst/>
            <a:ahLst/>
            <a:rect l="l" t="t" r="r" b="b"/>
            <a:pathLst>
              <a:path w="1400" h="549">
                <a:moveTo>
                  <a:pt x="0" y="549"/>
                </a:moveTo>
                <a:cubicBezTo>
                  <a:pt x="24" y="442"/>
                  <a:pt x="2" y="167"/>
                  <a:pt x="142" y="71"/>
                </a:cubicBezTo>
                <a:cubicBezTo>
                  <a:pt x="193" y="88"/>
                  <a:pt x="166" y="69"/>
                  <a:pt x="185" y="129"/>
                </a:cubicBezTo>
                <a:cubicBezTo>
                  <a:pt x="188" y="140"/>
                  <a:pt x="195" y="161"/>
                  <a:pt x="195" y="161"/>
                </a:cubicBezTo>
                <a:cubicBezTo>
                  <a:pt x="197" y="182"/>
                  <a:pt x="191" y="206"/>
                  <a:pt x="200" y="225"/>
                </a:cubicBezTo>
                <a:cubicBezTo>
                  <a:pt x="207" y="241"/>
                  <a:pt x="229" y="215"/>
                  <a:pt x="238" y="199"/>
                </a:cubicBezTo>
                <a:cubicBezTo>
                  <a:pt x="269" y="148"/>
                  <a:pt x="290" y="33"/>
                  <a:pt x="343" y="0"/>
                </a:cubicBezTo>
                <a:cubicBezTo>
                  <a:pt x="371" y="7"/>
                  <a:pt x="370" y="56"/>
                  <a:pt x="386" y="79"/>
                </a:cubicBezTo>
                <a:cubicBezTo>
                  <a:pt x="397" y="113"/>
                  <a:pt x="396" y="149"/>
                  <a:pt x="408" y="183"/>
                </a:cubicBezTo>
                <a:cubicBezTo>
                  <a:pt x="414" y="200"/>
                  <a:pt x="434" y="230"/>
                  <a:pt x="434" y="230"/>
                </a:cubicBezTo>
                <a:cubicBezTo>
                  <a:pt x="447" y="271"/>
                  <a:pt x="483" y="235"/>
                  <a:pt x="498" y="214"/>
                </a:cubicBezTo>
                <a:cubicBezTo>
                  <a:pt x="505" y="185"/>
                  <a:pt x="518" y="154"/>
                  <a:pt x="535" y="129"/>
                </a:cubicBezTo>
                <a:cubicBezTo>
                  <a:pt x="542" y="108"/>
                  <a:pt x="549" y="99"/>
                  <a:pt x="567" y="87"/>
                </a:cubicBezTo>
                <a:cubicBezTo>
                  <a:pt x="578" y="89"/>
                  <a:pt x="590" y="86"/>
                  <a:pt x="599" y="92"/>
                </a:cubicBezTo>
                <a:cubicBezTo>
                  <a:pt x="603" y="95"/>
                  <a:pt x="613" y="145"/>
                  <a:pt x="615" y="151"/>
                </a:cubicBezTo>
                <a:cubicBezTo>
                  <a:pt x="617" y="202"/>
                  <a:pt x="618" y="254"/>
                  <a:pt x="620" y="305"/>
                </a:cubicBezTo>
                <a:cubicBezTo>
                  <a:pt x="622" y="347"/>
                  <a:pt x="621" y="493"/>
                  <a:pt x="673" y="512"/>
                </a:cubicBezTo>
                <a:cubicBezTo>
                  <a:pt x="690" y="505"/>
                  <a:pt x="705" y="501"/>
                  <a:pt x="721" y="491"/>
                </a:cubicBezTo>
                <a:cubicBezTo>
                  <a:pt x="743" y="456"/>
                  <a:pt x="746" y="409"/>
                  <a:pt x="753" y="368"/>
                </a:cubicBezTo>
                <a:cubicBezTo>
                  <a:pt x="764" y="306"/>
                  <a:pt x="784" y="245"/>
                  <a:pt x="795" y="183"/>
                </a:cubicBezTo>
                <a:cubicBezTo>
                  <a:pt x="802" y="145"/>
                  <a:pt x="815" y="110"/>
                  <a:pt x="832" y="76"/>
                </a:cubicBezTo>
                <a:cubicBezTo>
                  <a:pt x="839" y="61"/>
                  <a:pt x="848" y="29"/>
                  <a:pt x="848" y="29"/>
                </a:cubicBezTo>
                <a:cubicBezTo>
                  <a:pt x="855" y="31"/>
                  <a:pt x="863" y="30"/>
                  <a:pt x="869" y="34"/>
                </a:cubicBezTo>
                <a:cubicBezTo>
                  <a:pt x="876" y="40"/>
                  <a:pt x="885" y="82"/>
                  <a:pt x="896" y="98"/>
                </a:cubicBezTo>
                <a:cubicBezTo>
                  <a:pt x="912" y="149"/>
                  <a:pt x="925" y="200"/>
                  <a:pt x="939" y="252"/>
                </a:cubicBezTo>
                <a:cubicBezTo>
                  <a:pt x="940" y="273"/>
                  <a:pt x="931" y="395"/>
                  <a:pt x="965" y="421"/>
                </a:cubicBezTo>
                <a:cubicBezTo>
                  <a:pt x="968" y="423"/>
                  <a:pt x="994" y="431"/>
                  <a:pt x="997" y="432"/>
                </a:cubicBezTo>
                <a:cubicBezTo>
                  <a:pt x="1034" y="422"/>
                  <a:pt x="1050" y="421"/>
                  <a:pt x="1071" y="390"/>
                </a:cubicBezTo>
                <a:cubicBezTo>
                  <a:pt x="1080" y="377"/>
                  <a:pt x="1098" y="352"/>
                  <a:pt x="1098" y="352"/>
                </a:cubicBezTo>
                <a:cubicBezTo>
                  <a:pt x="1115" y="301"/>
                  <a:pt x="1140" y="280"/>
                  <a:pt x="1188" y="262"/>
                </a:cubicBezTo>
                <a:cubicBezTo>
                  <a:pt x="1235" y="248"/>
                  <a:pt x="1312" y="219"/>
                  <a:pt x="1347" y="265"/>
                </a:cubicBezTo>
                <a:cubicBezTo>
                  <a:pt x="1382" y="311"/>
                  <a:pt x="1389" y="484"/>
                  <a:pt x="1400" y="541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4699080"/>
            <a:ext cx="2222640" cy="631800"/>
          </a:xfrm>
          <a:custGeom>
            <a:avLst/>
            <a:gdLst/>
            <a:ahLst/>
            <a:rect l="l" t="t" r="r" b="b"/>
            <a:pathLst>
              <a:path w="1400" h="398">
                <a:moveTo>
                  <a:pt x="0" y="398"/>
                </a:moveTo>
                <a:cubicBezTo>
                  <a:pt x="24" y="295"/>
                  <a:pt x="7" y="133"/>
                  <a:pt x="81" y="11"/>
                </a:cubicBezTo>
                <a:cubicBezTo>
                  <a:pt x="132" y="28"/>
                  <a:pt x="113" y="5"/>
                  <a:pt x="198" y="11"/>
                </a:cubicBezTo>
                <a:cubicBezTo>
                  <a:pt x="218" y="24"/>
                  <a:pt x="193" y="77"/>
                  <a:pt x="200" y="86"/>
                </a:cubicBezTo>
                <a:cubicBezTo>
                  <a:pt x="207" y="102"/>
                  <a:pt x="229" y="77"/>
                  <a:pt x="238" y="61"/>
                </a:cubicBezTo>
                <a:cubicBezTo>
                  <a:pt x="269" y="12"/>
                  <a:pt x="219" y="37"/>
                  <a:pt x="272" y="5"/>
                </a:cubicBezTo>
                <a:cubicBezTo>
                  <a:pt x="300" y="12"/>
                  <a:pt x="405" y="0"/>
                  <a:pt x="410" y="16"/>
                </a:cubicBezTo>
                <a:cubicBezTo>
                  <a:pt x="421" y="49"/>
                  <a:pt x="396" y="13"/>
                  <a:pt x="408" y="46"/>
                </a:cubicBezTo>
                <a:cubicBezTo>
                  <a:pt x="414" y="62"/>
                  <a:pt x="434" y="91"/>
                  <a:pt x="434" y="91"/>
                </a:cubicBezTo>
                <a:cubicBezTo>
                  <a:pt x="447" y="131"/>
                  <a:pt x="483" y="96"/>
                  <a:pt x="498" y="76"/>
                </a:cubicBezTo>
                <a:cubicBezTo>
                  <a:pt x="505" y="48"/>
                  <a:pt x="494" y="40"/>
                  <a:pt x="511" y="16"/>
                </a:cubicBezTo>
                <a:cubicBezTo>
                  <a:pt x="528" y="5"/>
                  <a:pt x="580" y="11"/>
                  <a:pt x="607" y="11"/>
                </a:cubicBezTo>
                <a:cubicBezTo>
                  <a:pt x="625" y="36"/>
                  <a:pt x="608" y="105"/>
                  <a:pt x="620" y="163"/>
                </a:cubicBezTo>
                <a:cubicBezTo>
                  <a:pt x="622" y="204"/>
                  <a:pt x="621" y="344"/>
                  <a:pt x="673" y="362"/>
                </a:cubicBezTo>
                <a:cubicBezTo>
                  <a:pt x="690" y="356"/>
                  <a:pt x="705" y="352"/>
                  <a:pt x="721" y="342"/>
                </a:cubicBezTo>
                <a:cubicBezTo>
                  <a:pt x="743" y="309"/>
                  <a:pt x="746" y="263"/>
                  <a:pt x="753" y="224"/>
                </a:cubicBezTo>
                <a:cubicBezTo>
                  <a:pt x="764" y="164"/>
                  <a:pt x="784" y="106"/>
                  <a:pt x="795" y="46"/>
                </a:cubicBezTo>
                <a:cubicBezTo>
                  <a:pt x="802" y="9"/>
                  <a:pt x="791" y="54"/>
                  <a:pt x="808" y="21"/>
                </a:cubicBezTo>
                <a:cubicBezTo>
                  <a:pt x="825" y="7"/>
                  <a:pt x="885" y="12"/>
                  <a:pt x="911" y="18"/>
                </a:cubicBezTo>
                <a:cubicBezTo>
                  <a:pt x="927" y="67"/>
                  <a:pt x="925" y="62"/>
                  <a:pt x="939" y="112"/>
                </a:cubicBezTo>
                <a:cubicBezTo>
                  <a:pt x="940" y="133"/>
                  <a:pt x="931" y="250"/>
                  <a:pt x="965" y="275"/>
                </a:cubicBezTo>
                <a:cubicBezTo>
                  <a:pt x="968" y="277"/>
                  <a:pt x="994" y="285"/>
                  <a:pt x="997" y="285"/>
                </a:cubicBezTo>
                <a:cubicBezTo>
                  <a:pt x="1034" y="276"/>
                  <a:pt x="1050" y="275"/>
                  <a:pt x="1071" y="245"/>
                </a:cubicBezTo>
                <a:cubicBezTo>
                  <a:pt x="1080" y="233"/>
                  <a:pt x="1098" y="209"/>
                  <a:pt x="1098" y="209"/>
                </a:cubicBezTo>
                <a:cubicBezTo>
                  <a:pt x="1115" y="159"/>
                  <a:pt x="1140" y="139"/>
                  <a:pt x="1188" y="122"/>
                </a:cubicBezTo>
                <a:cubicBezTo>
                  <a:pt x="1235" y="109"/>
                  <a:pt x="1312" y="81"/>
                  <a:pt x="1347" y="125"/>
                </a:cubicBezTo>
                <a:cubicBezTo>
                  <a:pt x="1382" y="169"/>
                  <a:pt x="1389" y="335"/>
                  <a:pt x="1400" y="390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2209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2057400"/>
            <a:ext cx="304920" cy="3049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24480" y="205740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1972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2209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8120" y="5334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47242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29160" y="539568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xed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05740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162920" y="2057400"/>
            <a:ext cx="30456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69080" y="4724280"/>
            <a:ext cx="2222640" cy="631800"/>
          </a:xfrm>
          <a:custGeom>
            <a:avLst/>
            <a:gdLst/>
            <a:ahLst/>
            <a:rect l="l" t="t" r="r" b="b"/>
            <a:pathLst>
              <a:path w="1400" h="398">
                <a:moveTo>
                  <a:pt x="0" y="398"/>
                </a:moveTo>
                <a:cubicBezTo>
                  <a:pt x="24" y="295"/>
                  <a:pt x="7" y="133"/>
                  <a:pt x="81" y="11"/>
                </a:cubicBezTo>
                <a:cubicBezTo>
                  <a:pt x="132" y="28"/>
                  <a:pt x="113" y="5"/>
                  <a:pt x="198" y="11"/>
                </a:cubicBezTo>
                <a:cubicBezTo>
                  <a:pt x="218" y="24"/>
                  <a:pt x="193" y="77"/>
                  <a:pt x="200" y="86"/>
                </a:cubicBezTo>
                <a:cubicBezTo>
                  <a:pt x="207" y="102"/>
                  <a:pt x="229" y="77"/>
                  <a:pt x="238" y="61"/>
                </a:cubicBezTo>
                <a:cubicBezTo>
                  <a:pt x="269" y="12"/>
                  <a:pt x="219" y="37"/>
                  <a:pt x="272" y="5"/>
                </a:cubicBezTo>
                <a:cubicBezTo>
                  <a:pt x="300" y="12"/>
                  <a:pt x="405" y="0"/>
                  <a:pt x="410" y="16"/>
                </a:cubicBezTo>
                <a:cubicBezTo>
                  <a:pt x="421" y="49"/>
                  <a:pt x="396" y="13"/>
                  <a:pt x="408" y="46"/>
                </a:cubicBezTo>
                <a:cubicBezTo>
                  <a:pt x="414" y="62"/>
                  <a:pt x="434" y="91"/>
                  <a:pt x="434" y="91"/>
                </a:cubicBezTo>
                <a:cubicBezTo>
                  <a:pt x="447" y="131"/>
                  <a:pt x="483" y="96"/>
                  <a:pt x="498" y="76"/>
                </a:cubicBezTo>
                <a:cubicBezTo>
                  <a:pt x="505" y="48"/>
                  <a:pt x="494" y="40"/>
                  <a:pt x="511" y="16"/>
                </a:cubicBezTo>
                <a:cubicBezTo>
                  <a:pt x="528" y="5"/>
                  <a:pt x="580" y="11"/>
                  <a:pt x="607" y="11"/>
                </a:cubicBezTo>
                <a:cubicBezTo>
                  <a:pt x="625" y="36"/>
                  <a:pt x="608" y="105"/>
                  <a:pt x="620" y="163"/>
                </a:cubicBezTo>
                <a:cubicBezTo>
                  <a:pt x="622" y="204"/>
                  <a:pt x="621" y="344"/>
                  <a:pt x="673" y="362"/>
                </a:cubicBezTo>
                <a:cubicBezTo>
                  <a:pt x="690" y="356"/>
                  <a:pt x="705" y="352"/>
                  <a:pt x="721" y="342"/>
                </a:cubicBezTo>
                <a:cubicBezTo>
                  <a:pt x="743" y="309"/>
                  <a:pt x="746" y="263"/>
                  <a:pt x="753" y="224"/>
                </a:cubicBezTo>
                <a:cubicBezTo>
                  <a:pt x="764" y="164"/>
                  <a:pt x="784" y="106"/>
                  <a:pt x="795" y="46"/>
                </a:cubicBezTo>
                <a:cubicBezTo>
                  <a:pt x="802" y="9"/>
                  <a:pt x="791" y="54"/>
                  <a:pt x="808" y="21"/>
                </a:cubicBezTo>
                <a:cubicBezTo>
                  <a:pt x="825" y="7"/>
                  <a:pt x="885" y="12"/>
                  <a:pt x="911" y="18"/>
                </a:cubicBezTo>
                <a:cubicBezTo>
                  <a:pt x="927" y="67"/>
                  <a:pt x="925" y="62"/>
                  <a:pt x="939" y="112"/>
                </a:cubicBezTo>
                <a:cubicBezTo>
                  <a:pt x="940" y="133"/>
                  <a:pt x="931" y="250"/>
                  <a:pt x="965" y="275"/>
                </a:cubicBezTo>
                <a:cubicBezTo>
                  <a:pt x="968" y="277"/>
                  <a:pt x="994" y="285"/>
                  <a:pt x="997" y="285"/>
                </a:cubicBezTo>
                <a:cubicBezTo>
                  <a:pt x="1034" y="276"/>
                  <a:pt x="1050" y="275"/>
                  <a:pt x="1071" y="245"/>
                </a:cubicBezTo>
                <a:cubicBezTo>
                  <a:pt x="1080" y="233"/>
                  <a:pt x="1098" y="209"/>
                  <a:pt x="1098" y="209"/>
                </a:cubicBezTo>
                <a:cubicBezTo>
                  <a:pt x="1115" y="159"/>
                  <a:pt x="1140" y="139"/>
                  <a:pt x="1188" y="122"/>
                </a:cubicBezTo>
                <a:cubicBezTo>
                  <a:pt x="1235" y="109"/>
                  <a:pt x="1312" y="81"/>
                  <a:pt x="1347" y="125"/>
                </a:cubicBezTo>
                <a:cubicBezTo>
                  <a:pt x="1382" y="169"/>
                  <a:pt x="1389" y="335"/>
                  <a:pt x="1400" y="390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502920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24480" y="5029200"/>
            <a:ext cx="3812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2209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29400" y="220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98120" y="3815640"/>
            <a:ext cx="121248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Drop al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452400" y="4191120"/>
            <a:ext cx="228600" cy="3045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716280" y="4191120"/>
            <a:ext cx="117360" cy="2286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62240" y="4191120"/>
            <a:ext cx="0" cy="3808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90840" y="4191120"/>
            <a:ext cx="152640" cy="3045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Outlin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tecture and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ing to an end-to-en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Two-bit Differentiated Service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s Assured and Premium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sured and Premium services use similar implementation mechanism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mium service sets P-bi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sured service sets A-bi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 defined building blocks to create a variety of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Two-Bit Border Router Functionality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05320" y="1523880"/>
            <a:ext cx="533160" cy="45720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lnTo>
                  <a:pt x="0" y="624"/>
                </a:lnTo>
                <a:lnTo>
                  <a:pt x="432" y="624"/>
                </a:lnTo>
                <a:lnTo>
                  <a:pt x="43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79680" y="2438280"/>
            <a:ext cx="15228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08280" y="2438280"/>
            <a:ext cx="15228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0240" y="2423160"/>
            <a:ext cx="11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2209680"/>
            <a:ext cx="762120" cy="762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it for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2590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65600" y="197316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38280" y="2362320"/>
            <a:ext cx="498600" cy="53316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718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70200" y="259092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81280" y="1752480"/>
            <a:ext cx="381240" cy="15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1280" y="1523880"/>
            <a:ext cx="381240" cy="15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70000" y="288036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37800" y="24372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24280" y="2286000"/>
            <a:ext cx="7621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-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86400" y="2590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4114800"/>
            <a:ext cx="533160" cy="45720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lnTo>
                  <a:pt x="0" y="624"/>
                </a:lnTo>
                <a:lnTo>
                  <a:pt x="432" y="624"/>
                </a:lnTo>
                <a:lnTo>
                  <a:pt x="43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0240" y="5013720"/>
            <a:ext cx="11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29000" y="4800600"/>
            <a:ext cx="762120" cy="762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st if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91120" y="5181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65600" y="456408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51814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4343400"/>
            <a:ext cx="381240" cy="1522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81280" y="4114800"/>
            <a:ext cx="381240" cy="1522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37800" y="502812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24280" y="4876920"/>
            <a:ext cx="7621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-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86400" y="5181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8480" y="4486320"/>
            <a:ext cx="1855800" cy="544320"/>
          </a:xfrm>
          <a:custGeom>
            <a:avLst/>
            <a:gdLst/>
            <a:ahLst/>
            <a:rect l="l" t="t" r="r" b="b"/>
            <a:pathLst>
              <a:path w="1169" h="343">
                <a:moveTo>
                  <a:pt x="0" y="246"/>
                </a:moveTo>
                <a:lnTo>
                  <a:pt x="420" y="0"/>
                </a:lnTo>
                <a:lnTo>
                  <a:pt x="713" y="0"/>
                </a:lnTo>
                <a:lnTo>
                  <a:pt x="1169" y="343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00640" y="4967280"/>
            <a:ext cx="15264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29240" y="4967280"/>
            <a:ext cx="15264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72200" y="4876920"/>
            <a:ext cx="498600" cy="53316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540900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61080" y="5160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49600" y="425196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22720" y="489312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4120" y="1452960"/>
            <a:ext cx="1942560" cy="3988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remium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4480" y="3891600"/>
            <a:ext cx="1845000" cy="3988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ssur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44648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19520" y="403740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Two-bit Internal Router Functionality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371600" y="2145960"/>
            <a:ext cx="1530360" cy="1040040"/>
          </a:xfrm>
          <a:prstGeom prst="flowChartDecision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-bit se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" y="2666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560" y="23612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ets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95480" y="26668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65680" y="2514600"/>
            <a:ext cx="15228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43400" y="2438280"/>
            <a:ext cx="650880" cy="53352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2514600"/>
            <a:ext cx="15264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0532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65680" y="3809880"/>
            <a:ext cx="15228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09880" y="3733920"/>
            <a:ext cx="1184400" cy="53316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95680" y="3809880"/>
            <a:ext cx="15264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267080" y="3809880"/>
            <a:ext cx="15264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426480" y="342792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w Priority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49080" y="213264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 Priority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99920" y="3739320"/>
            <a:ext cx="88632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-bit se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_cnt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133720" y="2930400"/>
            <a:ext cx="457200" cy="1032120"/>
          </a:xfrm>
          <a:custGeom>
            <a:avLst/>
            <a:gdLst/>
            <a:ahLst/>
            <a:rect l="l" t="t" r="r" b="b"/>
            <a:pathLst>
              <a:path w="192" h="624">
                <a:moveTo>
                  <a:pt x="0" y="0"/>
                </a:moveTo>
                <a:lnTo>
                  <a:pt x="0" y="624"/>
                </a:lnTo>
                <a:lnTo>
                  <a:pt x="192" y="6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058840" y="28944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21320" y="24372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973760" y="2666880"/>
            <a:ext cx="2112840" cy="685800"/>
          </a:xfrm>
          <a:custGeom>
            <a:avLst/>
            <a:gdLst/>
            <a:ahLst/>
            <a:rect l="l" t="t" r="r" b="b"/>
            <a:pathLst>
              <a:path w="1344" h="432">
                <a:moveTo>
                  <a:pt x="0" y="0"/>
                </a:moveTo>
                <a:lnTo>
                  <a:pt x="672" y="0"/>
                </a:lnTo>
                <a:lnTo>
                  <a:pt x="1344" y="4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73760" y="3429000"/>
            <a:ext cx="211284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336"/>
                </a:moveTo>
                <a:lnTo>
                  <a:pt x="672" y="336"/>
                </a:lnTo>
                <a:lnTo>
                  <a:pt x="134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7040" y="5034240"/>
            <a:ext cx="1625400" cy="520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D In/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u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4191120"/>
            <a:ext cx="533160" cy="106668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0"/>
                </a:moveTo>
                <a:lnTo>
                  <a:pt x="0" y="480"/>
                </a:lnTo>
                <a:lnTo>
                  <a:pt x="336" y="480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71720" y="4272480"/>
            <a:ext cx="88632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-bit se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_cnt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43600" y="3962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57800" y="4724280"/>
            <a:ext cx="762120" cy="53352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0"/>
                </a:moveTo>
                <a:lnTo>
                  <a:pt x="480" y="144"/>
                </a:lnTo>
                <a:lnTo>
                  <a:pt x="0" y="144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343400" y="42667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62560" y="319932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ets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Building Block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class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rst hop router, at edges of network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-pattern class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 s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que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ing token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ing token bu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End-to-End Resource Allocat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fferentiated services in backbon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SVP in smaller network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 bro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ntralized control of bandwidth allocation within a doma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gotiate with other neighboring bandwidth brok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allocations at first, but evolving toward dynamic allocations i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Basic Idea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ted services provide a way to specify the relative priority of pa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data is more important than oth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ho pay for better service get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5257800"/>
            <a:ext cx="1447920" cy="101772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5181480"/>
            <a:ext cx="1600200" cy="109404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5562720"/>
            <a:ext cx="221004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40680" y="50140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jitsu 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35240" y="4938120"/>
            <a:ext cx="19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jitsu of Ame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52480" y="5486400"/>
            <a:ext cx="533520" cy="419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48520" y="5334120"/>
            <a:ext cx="533160" cy="419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00640" y="5839560"/>
            <a:ext cx="137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and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209680" y="5638680"/>
            <a:ext cx="4191120" cy="487800"/>
            <a:chOff x="2209680" y="5638680"/>
            <a:chExt cx="4191120" cy="487800"/>
          </a:xfrm>
        </p:grpSpPr>
        <p:grpSp>
          <p:nvGrpSpPr>
            <p:cNvPr id="59" name=""/>
            <p:cNvGrpSpPr/>
            <p:nvPr/>
          </p:nvGrpSpPr>
          <p:grpSpPr>
            <a:xfrm>
              <a:off x="2478600" y="5712840"/>
              <a:ext cx="3355200" cy="413640"/>
              <a:chOff x="2478600" y="5712840"/>
              <a:chExt cx="3355200" cy="413640"/>
            </a:xfrm>
          </p:grpSpPr>
          <p:sp>
            <p:nvSpPr>
              <p:cNvPr id="60" name=""/>
              <p:cNvSpPr/>
              <p:nvPr/>
            </p:nvSpPr>
            <p:spPr>
              <a:xfrm>
                <a:off x="3124080" y="5714640"/>
                <a:ext cx="2210040" cy="7632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0597400">
                <a:off x="2475000" y="5809680"/>
                <a:ext cx="685800" cy="7632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995600">
                <a:off x="5243040" y="5887800"/>
                <a:ext cx="621000" cy="7452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2209680" y="5638680"/>
              <a:ext cx="4191120" cy="75960"/>
              <a:chOff x="2209680" y="5638680"/>
              <a:chExt cx="4191120" cy="75960"/>
            </a:xfrm>
          </p:grpSpPr>
          <p:sp>
            <p:nvSpPr>
              <p:cNvPr id="64" name=""/>
              <p:cNvSpPr/>
              <p:nvPr/>
            </p:nvSpPr>
            <p:spPr>
              <a:xfrm>
                <a:off x="3124080" y="5638680"/>
                <a:ext cx="2210040" cy="75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34120" y="5638680"/>
                <a:ext cx="1066680" cy="75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209680" y="5638680"/>
                <a:ext cx="1067040" cy="75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2430000" y="5589360"/>
            <a:ext cx="3447720" cy="518040"/>
            <a:chOff x="2430000" y="5589360"/>
            <a:chExt cx="3447720" cy="518040"/>
          </a:xfrm>
        </p:grpSpPr>
        <p:sp>
          <p:nvSpPr>
            <p:cNvPr id="68" name=""/>
            <p:cNvSpPr/>
            <p:nvPr/>
          </p:nvSpPr>
          <p:spPr>
            <a:xfrm rot="20597400">
              <a:off x="2447640" y="5685840"/>
              <a:ext cx="706680" cy="22824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82680" y="5600880"/>
              <a:ext cx="2278440" cy="23148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995600">
              <a:off x="5236920" y="5752800"/>
              <a:ext cx="639720" cy="19476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209680" y="5791320"/>
            <a:ext cx="381240" cy="380880"/>
            <a:chOff x="2209680" y="5791320"/>
            <a:chExt cx="381240" cy="380880"/>
          </a:xfrm>
        </p:grpSpPr>
        <p:sp>
          <p:nvSpPr>
            <p:cNvPr id="72" name=""/>
            <p:cNvSpPr/>
            <p:nvPr/>
          </p:nvSpPr>
          <p:spPr>
            <a:xfrm>
              <a:off x="2305080" y="5816160"/>
              <a:ext cx="190440" cy="2221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09680" y="6083280"/>
              <a:ext cx="381240" cy="88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304720" y="6083280"/>
              <a:ext cx="47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352600" y="608328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257200" y="608328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75720" y="60832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400120" y="608328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95520" y="608328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52160" y="6112800"/>
              <a:ext cx="28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42440" y="61462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78080" y="5791320"/>
              <a:ext cx="241920" cy="2649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715000" y="5943600"/>
            <a:ext cx="380880" cy="380880"/>
            <a:chOff x="5715000" y="5943600"/>
            <a:chExt cx="380880" cy="380880"/>
          </a:xfrm>
        </p:grpSpPr>
        <p:sp>
          <p:nvSpPr>
            <p:cNvPr id="84" name=""/>
            <p:cNvSpPr/>
            <p:nvPr/>
          </p:nvSpPr>
          <p:spPr>
            <a:xfrm>
              <a:off x="5810040" y="5968440"/>
              <a:ext cx="190080" cy="2221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15000" y="6235560"/>
              <a:ext cx="380880" cy="88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809680" y="6235560"/>
              <a:ext cx="47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857560" y="623556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762520" y="623556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80680" y="62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905440" y="623556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00480" y="623556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57480" y="6265080"/>
              <a:ext cx="28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7760" y="6298560"/>
              <a:ext cx="33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83400" y="5943600"/>
              <a:ext cx="241920" cy="2649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056600" y="1224360"/>
            <a:ext cx="7072200" cy="1008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al question is to choose which packets shall be dropped. 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definition of differential service is something like "not mine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 Christian Hui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Goal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lity to charge differently for differen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weight, scalable service discrimination suitable for network backb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per flow state or per flow signal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loy incrementally, then ev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ild simple system at first, expand if needed in futu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ervice separate from sign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79f"/>
                </a:solidFill>
                <a:latin typeface="Times New Roman"/>
              </a:rPr>
              <a:t>Comparison to Integrated Services</a:t>
            </a:r>
            <a:endParaRPr b="1" i="1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simpler than Integrate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er flow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ignaling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es traffic into priority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individual link resource allo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agreements are relatively st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Architectur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olicy decisions made at network bound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undary routers implement policy decisions by tagging packets with appropriate priority ta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affic policing at network boundari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olicy decisions within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uters within network forward packets according to their priority tag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Architecture Diagram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2819520"/>
            <a:ext cx="2459160" cy="228096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4952880"/>
            <a:ext cx="15228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4876920"/>
            <a:ext cx="15264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43434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426708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426708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36576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36576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43434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477120" y="4419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40080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63868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886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638680" y="3886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3733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4419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274320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638680" y="30477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819520"/>
            <a:ext cx="2458800" cy="228096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4952880"/>
            <a:ext cx="15228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48006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343400"/>
            <a:ext cx="15264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426708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426708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6576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36576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4343400"/>
            <a:ext cx="15264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200400" y="4419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124080" y="4495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36232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3886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362320" y="3886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4419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274320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362320" y="30477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4419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5562720"/>
            <a:ext cx="765360" cy="63648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5562720"/>
            <a:ext cx="765360" cy="63648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4267080"/>
            <a:ext cx="765000" cy="63684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5638680"/>
            <a:ext cx="765000" cy="63684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5562720"/>
            <a:ext cx="765360" cy="63648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3800" y="4191120"/>
            <a:ext cx="765000" cy="63648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85680" y="1238400"/>
            <a:ext cx="7612200" cy="1199880"/>
          </a:xfrm>
          <a:custGeom>
            <a:avLst/>
            <a:gdLst/>
            <a:ahLst/>
            <a:rect l="l" t="t" r="r" b="b"/>
            <a:pathLst>
              <a:path w="4795" h="659">
                <a:moveTo>
                  <a:pt x="0" y="15"/>
                </a:moveTo>
                <a:cubicBezTo>
                  <a:pt x="21" y="47"/>
                  <a:pt x="0" y="97"/>
                  <a:pt x="46" y="148"/>
                </a:cubicBezTo>
                <a:cubicBezTo>
                  <a:pt x="61" y="184"/>
                  <a:pt x="80" y="211"/>
                  <a:pt x="102" y="225"/>
                </a:cubicBezTo>
                <a:cubicBezTo>
                  <a:pt x="135" y="246"/>
                  <a:pt x="181" y="273"/>
                  <a:pt x="215" y="292"/>
                </a:cubicBezTo>
                <a:cubicBezTo>
                  <a:pt x="314" y="348"/>
                  <a:pt x="408" y="405"/>
                  <a:pt x="517" y="435"/>
                </a:cubicBezTo>
                <a:cubicBezTo>
                  <a:pt x="859" y="530"/>
                  <a:pt x="963" y="520"/>
                  <a:pt x="1318" y="533"/>
                </a:cubicBezTo>
                <a:cubicBezTo>
                  <a:pt x="1410" y="531"/>
                  <a:pt x="1718" y="502"/>
                  <a:pt x="1810" y="497"/>
                </a:cubicBezTo>
                <a:cubicBezTo>
                  <a:pt x="1816" y="497"/>
                  <a:pt x="1959" y="438"/>
                  <a:pt x="1964" y="435"/>
                </a:cubicBezTo>
                <a:cubicBezTo>
                  <a:pt x="2010" y="444"/>
                  <a:pt x="2043" y="535"/>
                  <a:pt x="2200" y="564"/>
                </a:cubicBezTo>
                <a:cubicBezTo>
                  <a:pt x="2432" y="605"/>
                  <a:pt x="2672" y="604"/>
                  <a:pt x="2907" y="610"/>
                </a:cubicBezTo>
                <a:cubicBezTo>
                  <a:pt x="3191" y="606"/>
                  <a:pt x="3484" y="659"/>
                  <a:pt x="3759" y="589"/>
                </a:cubicBezTo>
                <a:cubicBezTo>
                  <a:pt x="3827" y="572"/>
                  <a:pt x="3891" y="446"/>
                  <a:pt x="3938" y="430"/>
                </a:cubicBezTo>
                <a:cubicBezTo>
                  <a:pt x="3982" y="415"/>
                  <a:pt x="4031" y="423"/>
                  <a:pt x="4077" y="420"/>
                </a:cubicBezTo>
                <a:cubicBezTo>
                  <a:pt x="4176" y="413"/>
                  <a:pt x="4275" y="406"/>
                  <a:pt x="4374" y="400"/>
                </a:cubicBezTo>
                <a:cubicBezTo>
                  <a:pt x="4414" y="392"/>
                  <a:pt x="4449" y="381"/>
                  <a:pt x="4482" y="353"/>
                </a:cubicBezTo>
                <a:cubicBezTo>
                  <a:pt x="4502" y="336"/>
                  <a:pt x="4518" y="311"/>
                  <a:pt x="4543" y="302"/>
                </a:cubicBezTo>
                <a:cubicBezTo>
                  <a:pt x="4567" y="293"/>
                  <a:pt x="4591" y="285"/>
                  <a:pt x="4615" y="276"/>
                </a:cubicBezTo>
                <a:cubicBezTo>
                  <a:pt x="4661" y="239"/>
                  <a:pt x="4637" y="260"/>
                  <a:pt x="4687" y="210"/>
                </a:cubicBezTo>
                <a:cubicBezTo>
                  <a:pt x="4701" y="196"/>
                  <a:pt x="4728" y="169"/>
                  <a:pt x="4728" y="169"/>
                </a:cubicBezTo>
                <a:cubicBezTo>
                  <a:pt x="4750" y="124"/>
                  <a:pt x="4778" y="52"/>
                  <a:pt x="4795" y="5"/>
                </a:cubicBezTo>
                <a:cubicBezTo>
                  <a:pt x="4712" y="0"/>
                  <a:pt x="4713" y="5"/>
                  <a:pt x="4584" y="5"/>
                </a:cubicBezTo>
                <a:cubicBezTo>
                  <a:pt x="4364" y="5"/>
                  <a:pt x="4261" y="5"/>
                  <a:pt x="4056" y="5"/>
                </a:cubicBezTo>
                <a:cubicBezTo>
                  <a:pt x="3482" y="5"/>
                  <a:pt x="2964" y="5"/>
                  <a:pt x="2466" y="5"/>
                </a:cubicBezTo>
                <a:cubicBezTo>
                  <a:pt x="2194" y="5"/>
                  <a:pt x="2112" y="5"/>
                  <a:pt x="1902" y="5"/>
                </a:cubicBezTo>
                <a:cubicBezTo>
                  <a:pt x="1723" y="5"/>
                  <a:pt x="1758" y="0"/>
                  <a:pt x="1594" y="5"/>
                </a:cubicBezTo>
                <a:cubicBezTo>
                  <a:pt x="1102" y="10"/>
                  <a:pt x="1533" y="5"/>
                  <a:pt x="1071" y="5"/>
                </a:cubicBezTo>
                <a:cubicBezTo>
                  <a:pt x="895" y="3"/>
                  <a:pt x="796" y="13"/>
                  <a:pt x="620" y="10"/>
                </a:cubicBezTo>
                <a:cubicBezTo>
                  <a:pt x="559" y="9"/>
                  <a:pt x="426" y="10"/>
                  <a:pt x="328" y="10"/>
                </a:cubicBezTo>
                <a:cubicBezTo>
                  <a:pt x="236" y="15"/>
                  <a:pt x="179" y="0"/>
                  <a:pt x="128" y="10"/>
                </a:cubicBezTo>
                <a:cubicBezTo>
                  <a:pt x="84" y="16"/>
                  <a:pt x="24" y="15"/>
                  <a:pt x="0" y="15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198108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20968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3623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638680" y="25142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362320" y="1828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904760" y="1676520"/>
            <a:ext cx="5181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638680" y="1828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1447920"/>
            <a:ext cx="38088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1447920"/>
            <a:ext cx="38088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1447920"/>
            <a:ext cx="38124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447920"/>
            <a:ext cx="38088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1447920"/>
            <a:ext cx="38124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1447920"/>
            <a:ext cx="38088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5105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5029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4419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73080" y="30186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3640" y="29710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40680" y="12949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556272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556272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43434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5638680"/>
            <a:ext cx="15228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5562720"/>
            <a:ext cx="15264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43800" y="43434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3560" y="486144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19200" y="609480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33840" y="609480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67200" y="617112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38920" y="617112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160" y="479952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IP Priority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work with IPv4 and IPv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Pv4 has Type of Service (TOS) by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Pv6 has Class by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ine usage of the 8 bi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licit congestion notification (1 or 2 bit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ious priority encoding schemes (1 - 3 bit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ave some bits for future usag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Issue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ffic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e of servic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8T02:57:00Z</dcterms:created>
  <dc:creator>Gordon Chaffee</dc:creator>
  <dc:description/>
  <dc:language>en-US</dc:language>
  <cp:lastModifiedBy>Gordon Chaffee</cp:lastModifiedBy>
  <cp:lastPrinted>1997-03-11T10:59:34Z</cp:lastPrinted>
  <dcterms:modified xsi:type="dcterms:W3CDTF">1998-03-18T23:03:32Z</dcterms:modified>
  <cp:revision>75</cp:revision>
  <dc:subject/>
  <dc:title>End-to-End CM Delivery Research</dc:title>
</cp:coreProperties>
</file>